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0C60-05ED-4B26-A599-2FC413DDC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937-8FCA-49F5-AD8D-B4F00A83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0383-F0AF-4C64-A51D-FF11D1D3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840-67EC-4A0F-B1D3-E1C39E1B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710-A3B3-4C71-B060-22B073C3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0F2B-3337-4369-B1A6-40323874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EF3-DB43-4AF6-B17D-61F56F25D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7E3D-F378-4B4C-B48C-6580BA97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D39-ACFE-43D5-88BA-DD43814B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AEAF-909A-4D15-917F-5F29D435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805-E78C-4948-BC26-2A2EFACB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F2B-E18B-4258-839E-1C6D8CBA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8F3E-9E4A-456E-803E-C9EDB2039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Wikis%20in%20Plain%20English.avi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-Ridge New Teacher Mentoring Prog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ent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-in with Do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on to a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to wikispaces.com. Do not log-in wait for the presentation to beg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view the other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09680" y="838080"/>
          <a:ext cx="6934320" cy="601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838080"/>
                    <a:ext cx="693432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33720" y="3124080"/>
            <a:ext cx="1904760" cy="1447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5146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lassroom management to follow a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143000" y="1371600"/>
            <a:ext cx="182880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733920" y="5181480"/>
            <a:ext cx="35240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age   Title/Topic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893680" y="1902960"/>
            <a:ext cx="2136600" cy="3127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1600200"/>
            <a:ext cx="1447920" cy="380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eaching   Strategy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1979640" y="2131920"/>
            <a:ext cx="3279600" cy="2898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066680" y="3581280"/>
            <a:ext cx="762120" cy="38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05320" y="5181480"/>
            <a:ext cx="3752640" cy="99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rategy's   Procedure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1979280" y="3960720"/>
            <a:ext cx="3203640" cy="1069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981080" y="2514600"/>
            <a:ext cx="2743200" cy="1066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14800" y="5486400"/>
            <a:ext cx="3048120" cy="762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Uploaded   Documents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884400" y="4951080"/>
            <a:ext cx="1679400" cy="384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4648320"/>
            <a:ext cx="152424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3960720" y="3427560"/>
            <a:ext cx="1603440" cy="1908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iting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62320" y="1041480"/>
          <a:ext cx="6781680" cy="543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041480"/>
                    <a:ext cx="67816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228600" y="2133720"/>
            <a:ext cx="20574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“Edit This Page” button to  edit pages and add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205740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iting P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066680" y="685800"/>
            <a:ext cx="7240680" cy="6172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828800" y="1676520"/>
            <a:ext cx="5105520" cy="685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1828800"/>
            <a:ext cx="762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1828800"/>
            <a:ext cx="30492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105520" y="182880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838080"/>
            <a:ext cx="1600200" cy="58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Find the last letter or symbol ente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Click enter a few tim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Enter your text before entering any files or link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18148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ng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981080" y="990720"/>
          <a:ext cx="7162920" cy="58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0400" y="5334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2743200"/>
            <a:ext cx="16002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Click SAVE when you are finish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1828800"/>
            <a:ext cx="685800" cy="5335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209680" y="1066680"/>
          <a:ext cx="6934320" cy="575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066680"/>
                    <a:ext cx="693432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52280" y="1143000"/>
            <a:ext cx="182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 – Click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, the one that looks like a picture of a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33520" y="2438280"/>
          <a:ext cx="609480" cy="457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438280"/>
                    <a:ext cx="6094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1371600" y="22860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/Goals/Today’s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Intro –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 Function Expla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Adding files, Adding links, Discussions, Inviting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Going forw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 Play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Click browse and locate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lick upload and the file will appear in the queue ab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4  – Make sure the button “inserts the file” is cli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733920" y="762120"/>
          <a:ext cx="525780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33920" y="762120"/>
                    <a:ext cx="525780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172200" y="4648320"/>
            <a:ext cx="129528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4648320"/>
            <a:ext cx="1143000" cy="533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3733920"/>
            <a:ext cx="16002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31240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5 – Place the cursor next to the text where you want the file to be locat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581280" y="990720"/>
            <a:ext cx="5562720" cy="586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81480" y="4572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874880"/>
            <a:ext cx="2895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6 – Double click the icon of the file in the “Images &amp; Files” window to place the file on the p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00400" y="914400"/>
          <a:ext cx="5943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914400"/>
                    <a:ext cx="5943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7391520" y="3429000"/>
            <a:ext cx="533160" cy="6094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76520" y="4724280"/>
            <a:ext cx="3352680" cy="76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1066680"/>
          <a:ext cx="6477120" cy="5639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066680"/>
                    <a:ext cx="64771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990720" y="2819520"/>
          <a:ext cx="914400" cy="73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90720" y="2819520"/>
                    <a:ext cx="91440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457200" y="20574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 – Click the icon bel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2057400"/>
            <a:ext cx="2286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ng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666880" y="914400"/>
          <a:ext cx="647712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914400"/>
                    <a:ext cx="64771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228600" y="1143000"/>
            <a:ext cx="2286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 – Name the link.  This is what it will show up as on the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 – Check the button next to External Link.  Type or paste in the desired URL. (minus http://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2666880"/>
            <a:ext cx="17524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3886200" y="3276720"/>
            <a:ext cx="45720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62520" y="3276720"/>
            <a:ext cx="30456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19112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ng New P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28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new p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 the name of the new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 ok and it will be added to the list under navig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666880" y="1219320"/>
          <a:ext cx="6477120" cy="55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6477120" cy="55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2743200" y="2514600"/>
            <a:ext cx="6858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286000" y="4343040"/>
            <a:ext cx="685800" cy="1066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viting Other Peo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362320" y="1220760"/>
          <a:ext cx="6781680" cy="563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1220760"/>
                    <a:ext cx="678168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0" y="2057400"/>
            <a:ext cx="236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lick Manag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croll to the bottom and click invite peopl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38280" y="3124080"/>
            <a:ext cx="106704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ing forwar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ages will be created once a month.  Continue adding files and strategies to the new pag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ideas into your pract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e in discus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your mentor to use the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research articles and be prepared to discuss at future share sess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s for thi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-b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s based on current research from successful schoo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-embed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learn proven strategies from veteran teachers and try them in their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reflect on the tested practices.  They assess their effectiveness and make changes when necessary to develop their pract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ed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teachers are able to seek assistance on specific areas they wish to improve.  Development is practical and job-embed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day’s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reate a place for teachers to find resources that help them improve their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o possess a working knowledge of wik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ow to use wik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we can use wik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post bes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post research and articles to provide the basis for share session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have online 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to create new pages to assist with areas that require further assistance and when questions a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762120"/>
          <a:ext cx="7619760" cy="6095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1976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cyridgementoring to reach th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09480" y="914400"/>
          <a:ext cx="792504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14400"/>
                    <a:ext cx="79250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752480" y="3962520"/>
            <a:ext cx="9907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124080"/>
            <a:ext cx="83844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ki’s Home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981080" y="990720"/>
          <a:ext cx="7162920" cy="584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1080" y="990720"/>
                    <a:ext cx="716292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228600" y="914400"/>
            <a:ext cx="16002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power point document titled “wikis” to access this power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it to help you while I discuss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5105520"/>
            <a:ext cx="14479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21:13:49Z</dcterms:created>
  <dc:creator>CFISD</dc:creator>
  <dc:description/>
  <dc:language>en-US</dc:language>
  <cp:lastModifiedBy>CFISD</cp:lastModifiedBy>
  <dcterms:modified xsi:type="dcterms:W3CDTF">2008-08-28T16:22:42Z</dcterms:modified>
  <cp:revision>9</cp:revision>
  <dc:subject/>
  <dc:title>Cypress Ridge New Teacher Mentoring Program</dc:title>
</cp:coreProperties>
</file>