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D3B-E35E-4F7F-9AB3-8361F739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87B-ED77-40A0-98B4-96740163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19E-83A8-44CF-9678-A92844CC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8585-0993-41A4-90B0-51291130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419-B913-4C52-B38F-2DD87DF5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C37-8048-4E41-9EAB-25902C6A6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4C1-FC23-4EBA-905E-48878550F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05E-B5F5-4B45-A4E8-E5B5D666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D3A9-67F6-4AA3-8B5E-38BD2337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2DB-40A1-4BF9-9D3F-306E5A3D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9EE-C27E-4015-A76D-698D4801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953C-CF2B-4FF6-A5C0-9A097EFE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F2BB2-B6F4-4442-A886-DAAAB5A89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Wikis%20in%20Plain%20English.avi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-Ridge New Teacher Mentoring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en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-in with Do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on to a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wikispaces.com. Do not log-in wait for the presentation to beg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view the other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09680" y="838080"/>
          <a:ext cx="693432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838080"/>
                    <a:ext cx="69343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33720" y="3124080"/>
            <a:ext cx="190476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514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lassroom management to follow a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143000" y="1371600"/>
            <a:ext cx="1828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33920" y="5181480"/>
            <a:ext cx="35240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e   Title/Topi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893680" y="1902960"/>
            <a:ext cx="2136600" cy="3127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1600200"/>
            <a:ext cx="144792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aching   Strategy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79640" y="2131920"/>
            <a:ext cx="3279600" cy="289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066680" y="3581280"/>
            <a:ext cx="7621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y's   Procedur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1979280" y="3960720"/>
            <a:ext cx="3203640" cy="10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981080" y="2514600"/>
            <a:ext cx="27432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14800" y="54864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loaded   Documents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884400" y="4951080"/>
            <a:ext cx="1679400" cy="384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648320"/>
            <a:ext cx="152424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960720" y="3427560"/>
            <a:ext cx="1603440" cy="19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62320" y="1041480"/>
          <a:ext cx="678168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041480"/>
                    <a:ext cx="67816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8600" y="2133720"/>
            <a:ext cx="2057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Edit This Page” button to  edit pages and add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40680" cy="6172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1676520"/>
            <a:ext cx="51055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18288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828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105520" y="1828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838080"/>
            <a:ext cx="16002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Find the last letter or symbol ente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Click enter a few tim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nter your text before entering any files or li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8148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743200"/>
            <a:ext cx="1600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Click SAVE when you are finish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182880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209680" y="1066680"/>
          <a:ext cx="6934320" cy="57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693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52280" y="1143000"/>
            <a:ext cx="182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– Clic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, the one that looks like a picture of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438280"/>
          <a:ext cx="6094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3828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/Goals/Today’s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Intro –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unction Expla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dding files, Adding links, Discussions, Inviting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Going forw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 Play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Click browse and locate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lick upload and the file will appear in the queu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  – Make sure the button “inserts the file”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733920" y="762120"/>
          <a:ext cx="52578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762120"/>
                    <a:ext cx="525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172200" y="4648320"/>
            <a:ext cx="12952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4648320"/>
            <a:ext cx="11430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3733920"/>
            <a:ext cx="1600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 – Place the cursor next to the text where you want the file to be lo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81280" y="990720"/>
            <a:ext cx="5562720" cy="586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8148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874880"/>
            <a:ext cx="2895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 – Double click the icon of the file in the “Images &amp; Files” window to place the file on th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00400" y="914400"/>
          <a:ext cx="5943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5943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391520" y="34290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724280"/>
            <a:ext cx="33526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1066680"/>
          <a:ext cx="647712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066680"/>
                    <a:ext cx="6477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990720" y="2819520"/>
          <a:ext cx="9144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9520"/>
                    <a:ext cx="914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5720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lick the icon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666880" y="914400"/>
          <a:ext cx="647712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914400"/>
                    <a:ext cx="6477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28600" y="1143000"/>
            <a:ext cx="228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Name the link.  This is what it will show up as on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heck the button next to External Link.  Type or paste in the desired URL. (minus http:/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6668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886200" y="32767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32767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New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new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ok and it will be added to the list under navig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666880" y="1219320"/>
          <a:ext cx="6477120" cy="55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647712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743200" y="2514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286000" y="4343040"/>
            <a:ext cx="6858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ting Other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362320" y="1220760"/>
          <a:ext cx="6781680" cy="56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220760"/>
                    <a:ext cx="67816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20574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roll to the bottom and click invite peo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31240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orwar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ages will be created once a month.  Continue adding files and strategies to the new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ideas into your pract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discu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your mentor to use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earch articles and be prepared to discuss at future share sess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thi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-ba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based on current research from successful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-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learn proven strategies from veteran teachers and try them in their c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reflect on the tested practices.  They assess their effectiveness and make changes when necessary to develop their prac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ed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are able to seek assistance on specific areas they wish to improve.  Development is practical and job-embed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place for teachers to find resources that help them improve their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 possess a working knowledge of wik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w to use wik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can use wik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post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post research and articles to provide the basis for share session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have onlin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create new pages to assist with areas that require further assistance and when questions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762120"/>
          <a:ext cx="761976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761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cyridgementoring to reach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914400"/>
          <a:ext cx="792504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14400"/>
                    <a:ext cx="792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752480" y="396252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124080"/>
            <a:ext cx="8384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’s Home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981080" y="990720"/>
          <a:ext cx="7162920" cy="584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" y="914400"/>
            <a:ext cx="16002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ower point document titled “wikis” to access this power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t to help you while I discuss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5105520"/>
            <a:ext cx="14479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13:49Z</dcterms:created>
  <dc:creator>CFISD</dc:creator>
  <dc:description/>
  <dc:language>en-US</dc:language>
  <cp:lastModifiedBy>CFISD</cp:lastModifiedBy>
  <dcterms:modified xsi:type="dcterms:W3CDTF">2008-08-28T16:22:42Z</dcterms:modified>
  <cp:revision>9</cp:revision>
  <dc:subject/>
  <dc:title>Cypress Ridge New Teacher Mentoring Program</dc:title>
</cp:coreProperties>
</file>