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E3F-7848-4353-92B8-85F0626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3FA-4008-4F1E-9D3D-E29FB3E8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5AE-FE1B-4151-A03C-3981202E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40D-A39A-4FD8-A17A-5E7EC9DE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DA2-9322-43AA-9A53-4D68D7C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251-3DCB-443E-A9CD-429B362F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1B4-FF8E-434F-B0BC-AC4014B4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79A-F75E-4041-8C68-38DD84E1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823-7CE0-4114-B0D5-0FEA73C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E68-EA8C-4F57-93ED-F49450F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520-F320-4D5F-8E5F-C1860587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B89-591B-46D8-B9AB-875F6E4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CEB-D394-4437-8565-29582B1A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Wikis%20in%20Plain%20English.avi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-Ridge New Teacher Mentor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en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-in with Do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on to a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wikispaces.com. Do not log-in wait for the presentation to beg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view the other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09680" y="838080"/>
          <a:ext cx="693432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838080"/>
                    <a:ext cx="69343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33720" y="3124080"/>
            <a:ext cx="190476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14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lassroom management to follow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1600200"/>
            <a:ext cx="14479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aching   Strateg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79640" y="2131920"/>
            <a:ext cx="3279600" cy="28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981080" y="2514600"/>
            <a:ext cx="27432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14800" y="54864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loaded   Document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84400" y="4951080"/>
            <a:ext cx="1679400" cy="38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648320"/>
            <a:ext cx="152424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60720" y="3427560"/>
            <a:ext cx="1603440" cy="19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/Goals/Today’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ntro –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unction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dding files, Adding links, Discussions, Inviting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Going forw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Pla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ges will be created once a month.  Continue adding files and strategies to the new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ideas into your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discu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mentor to use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earch articles and be prepared to discuss at future share ses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-b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based on current research from successful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learn proven strategies from veteran teachers and try them in their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reflect on the tested practices.  They assess their effectiveness and make changes when necessary to develop their prac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are able to seek assistance on specific areas they wish to improve.  Development is practical and job-embed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place for teachers to find resources that help them improve their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 possess a working knowledge of wik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w to use wik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can use wik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research and articles to provide the basis for share session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have onlin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create new pages to assist with areas that require further assistance and when questions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cyridgementoring to reach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914400"/>
          <a:ext cx="792504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14400"/>
                    <a:ext cx="792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52480" y="39625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838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’s Home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81080" y="990720"/>
          <a:ext cx="7162920" cy="58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" y="914400"/>
            <a:ext cx="16002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ower point document titled “wikis” to access this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to help you while I discuss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10552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CFISD</cp:lastModifiedBy>
  <dcterms:modified xsi:type="dcterms:W3CDTF">2008-08-28T16:22:42Z</dcterms:modified>
  <cp:revision>9</cp:revision>
  <dc:subject/>
  <dc:title>Cypress Ridge New Teacher Mentoring Program</dc:title>
</cp:coreProperties>
</file>