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C1C9-6A43-49EB-BCCA-7C9B398F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794-2AF6-45A9-A648-0D571CC6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58F-3B91-4864-BF2C-E4925746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0F3-F38F-4DF9-9D3E-837A9FE28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D3A0-566A-42C4-8DCF-D9EDDF32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B6A-726D-423C-BC2C-C5C1A7E0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4BF-5023-4AFC-A55B-EC321284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9F6-F210-49DC-ABF2-E87948AA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53A3-6FCB-45D1-BAC0-52CDF723E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883A-29CA-4B6C-8A5F-507D0487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08E-9BD1-42B9-A1F5-91535782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962-C425-4810-ACFB-90A5CD88A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360C-C53F-4865-B985-DA2274D14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762120"/>
          <a:ext cx="761976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761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 – Place the cursor next to the text where you want the file to be lo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81280" y="990720"/>
            <a:ext cx="5562720" cy="5867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18148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240" y="1874880"/>
            <a:ext cx="2895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 – Double click the icon of the file in the “Images &amp; Files” window to place the file on th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00400" y="914400"/>
          <a:ext cx="5943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5943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391520" y="34290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4724280"/>
            <a:ext cx="33526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666880" y="1066680"/>
          <a:ext cx="647712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066680"/>
                    <a:ext cx="6477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90720" y="2819520"/>
          <a:ext cx="9144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9520"/>
                    <a:ext cx="914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45720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lick the icon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66880" y="914400"/>
          <a:ext cx="647712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914400"/>
                    <a:ext cx="6477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28600" y="1143000"/>
            <a:ext cx="228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Name the link.  This is what it will show up as on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heck the button next to External Link.  Type or paste in the desired URL. (minus http:/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26668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86200" y="32767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62520" y="32767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New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new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ok and it will be added to the list under navig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666880" y="1219320"/>
          <a:ext cx="6477120" cy="55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647712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743200" y="2514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2286000" y="4343040"/>
            <a:ext cx="6858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ting Other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362320" y="1220760"/>
          <a:ext cx="6781680" cy="56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220760"/>
                    <a:ext cx="67816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0" y="20574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roll to the bottom and click invite peo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31240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143000" y="1371600"/>
            <a:ext cx="1828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733920" y="5181480"/>
            <a:ext cx="35240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e   Title/Topi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2893680" y="1902960"/>
            <a:ext cx="2136600" cy="3127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066680" y="3581280"/>
            <a:ext cx="7621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y's   Procedur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1979280" y="3960720"/>
            <a:ext cx="3203640" cy="10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362320" y="1041480"/>
          <a:ext cx="678168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041480"/>
                    <a:ext cx="67816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28600" y="2133720"/>
            <a:ext cx="2057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Edit This Page” button to  edit pages and add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2057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40680" cy="617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28800" y="1676520"/>
            <a:ext cx="51055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943600" y="18288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81480" y="1828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105520" y="1828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838080"/>
            <a:ext cx="16002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Find the last letter or symbol ente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Click enter a few tim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nter your text before entering any files or li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518148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2743200"/>
            <a:ext cx="1600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Click SAVE when you are finish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077320" y="182880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209680" y="1066680"/>
          <a:ext cx="6934320" cy="57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693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52280" y="1143000"/>
            <a:ext cx="182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– Clic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, the one that looks like a picture of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2438280"/>
          <a:ext cx="6094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3828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Click browse and locate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lick upload and the file will appear in the queu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  – Make sure the button “inserts the file”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733920" y="762120"/>
          <a:ext cx="52578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762120"/>
                    <a:ext cx="525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172200" y="4648320"/>
            <a:ext cx="12952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4648320"/>
            <a:ext cx="11430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3733920"/>
            <a:ext cx="1600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13:49Z</dcterms:created>
  <dc:creator>CFISD</dc:creator>
  <dc:description/>
  <dc:language>en-US</dc:language>
  <cp:lastModifiedBy>Braden Orso</cp:lastModifiedBy>
  <dcterms:modified xsi:type="dcterms:W3CDTF">2009-02-16T03:54:36Z</dcterms:modified>
  <cp:revision>10</cp:revision>
  <dc:subject/>
  <dc:title>Cypress Ridge New Teacher Mentoring Program</dc:title>
</cp:coreProperties>
</file>