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78D-0945-414C-8951-2FF2B7C8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7F1-D1AE-4FAE-ADEF-0BD05A8D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7DD-59FA-40D3-832C-86E77587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166-A68F-4E6E-B52D-CBC70C3A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839-A831-49CA-BB7F-8F7C6670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678-5975-42A6-B7A0-A52BD358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65F-00AE-4843-987B-2F13EB10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540-AC64-4C7F-9151-972FD7F4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D33-2F13-434F-BE91-3F9DFDB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C2E-0C0A-4955-95AA-52CD5B30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B5E-61E7-4942-A1C0-D5406D5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D1C-8E6A-4123-8658-94D6D66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28A-F983-4A4E-A1E5-E00524AD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Braden Orso</cp:lastModifiedBy>
  <dcterms:modified xsi:type="dcterms:W3CDTF">2009-02-16T03:54:36Z</dcterms:modified>
  <cp:revision>10</cp:revision>
  <dc:subject/>
  <dc:title>Cypress Ridge New Teacher Mentoring Program</dc:title>
</cp:coreProperties>
</file>