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16C-E3E7-49D7-83BC-240800DC3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23DC-7410-49CE-A96A-FADCABEE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3AC-2EE1-40FE-BBBC-D48A69D7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A65-B622-4180-A920-7325C0BD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E769-FF2F-420F-BE69-AE40ABCF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50A7-EF8A-4763-B068-673008283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3DB-2FE3-4AFC-98B8-1AA83C7C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F54-EED7-49FD-A0CD-1B1295E6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F04-7557-4FB8-A345-F5DAB0FA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7AD-9325-47A9-83BA-C8E5901B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CEF-D5EC-49BB-8DFB-96F667B4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CBA-3FAE-4F36-9557-3B4B7C4A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6BA3-3AF3-4EB5-A7E8-5479FF3BF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Braden Orso</cp:lastModifiedBy>
  <dcterms:modified xsi:type="dcterms:W3CDTF">2009-02-16T03:54:36Z</dcterms:modified>
  <cp:revision>10</cp:revision>
  <dc:subject/>
  <dc:title>Cypress Ridge New Teacher Mentoring Program</dc:title>
</cp:coreProperties>
</file>