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1DF-2F61-418A-AFF1-E84FEDBC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01A-DC5F-45D3-80B6-745AE3B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496-CC7F-47AF-B49E-049C0DFE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B03-C77C-48AC-B78E-9D0778768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7BCD-0BFD-49CA-BE83-6FF17D9E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56A2-7578-4EBB-8B11-BD7D8BA8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4917-8AAB-4FCF-8C6B-11616117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F2AE-92EA-4A00-931C-EB41444B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3F59-B2F3-4B4A-A2C0-F483B30D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128-1C0E-4CA6-B1F3-C7B7ECB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2AE9-52F3-48F2-A449-9D72F3B9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27BB-67EB-4AEE-9836-F0DE3A0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9151-D908-4AF6-A2A6-119EDA58A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r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urn in your essay, directions, and pre-write on the table in front of my desk.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ain silent until all students are finis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I will let you know when that i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ean up your wiki. You need to have a page for all of the units in the second semest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th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/SE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ach page needs a picture representative of the unit and all of the files uploaded that are associated with each u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If you wiki still has ads get rid of th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Upgrade in the About se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o to the bottom and request permission for a complimentary K-12 upgrad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Get a partner and join his/her wiki.  Have him/her invite you in the invite section under Manage Wik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2:54:49Z</dcterms:created>
  <dc:creator>CFISD</dc:creator>
  <dc:description/>
  <dc:language>en-US</dc:language>
  <cp:lastModifiedBy>CFISD</cp:lastModifiedBy>
  <dcterms:modified xsi:type="dcterms:W3CDTF">2009-05-26T12:54:57Z</dcterms:modified>
  <cp:revision>1</cp:revision>
  <dc:subject/>
  <dc:title>Directions</dc:title>
</cp:coreProperties>
</file>