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204-32B6-4E6E-8AE4-499EA6B2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35A-F268-4646-9EA3-F9E38E68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856-21A1-4CD0-B41F-1AAC4C57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EF0-1992-4F7B-A654-E6489233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F25-0C96-4628-BCD0-6C3FB9ED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F9C-282D-4335-B4E1-1363FB02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628-505C-4551-88C9-716F791C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9A1-96EC-41CD-B416-70F1E15A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839-9442-4CAD-9102-464ECD49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E35-C907-4CDB-9AE2-4A4FBA06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EFA3-AF88-465D-88FF-ADA8A843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DEF-B2FA-4588-B8CC-F1DADD78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8CF7-464F-496E-B6D5-F49D98E98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urn in your essay, directions, and pre-write on the table in front of my desk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 silent until all students are finis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I will let you know when that 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ean up your wiki. You need to have a page for all of the units in the second semes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/SE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ach page needs a picture representative of the unit and all of the files uploaded that are associated with each un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If you wiki still has ads get rid of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Manage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Upgrade in the About s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o to the bottom and request permission for a complimentary K-12 upgr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Get a partner and join his/her wiki.  Have him/her invite you in the invite section under Manage Wik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2:54:49Z</dcterms:created>
  <dc:creator>CFISD</dc:creator>
  <dc:description/>
  <dc:language>en-US</dc:language>
  <cp:lastModifiedBy>CFISD</cp:lastModifiedBy>
  <dcterms:modified xsi:type="dcterms:W3CDTF">2009-05-26T12:54:57Z</dcterms:modified>
  <cp:revision>1</cp:revision>
  <dc:subject/>
  <dc:title>Directions</dc:title>
</cp:coreProperties>
</file>