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D17-F271-4DF0-9B25-31A001C6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3812-7143-4846-A6DD-5E35F33C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1AA7-E72B-4F0E-A02C-B820CE89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D53-0998-47A9-87B3-D9F3BDD3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CCC4-FCA7-4714-87CB-9F6B38F4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48D9-E493-48EC-B838-08018F22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80075-1504-4E04-8FEA-86A16D13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B784-21D9-4553-BA55-042793510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81C-909F-459B-B29C-C9E7655DA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61C5-09CD-4BA7-83CA-73F4D514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000-C3BD-44FB-8204-9F30BD50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81F9-5237-4C39-B01F-DA92F7E1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F7D7-539B-4DF8-A456-6B83E2B8E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Turn in your essay, directions, and pre-write on the table in front of my desk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in silent until all students are finish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I will let you know when that 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lean up your wiki. You need to have a page for all of the units in the second semes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th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/SE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Each page needs a picture representative of the unit and all of the files uploaded that are associated with each un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If you wiki still has ads get rid of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Manage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Upgrade in the About s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o to the bottom and request permission for a complimentary K-12 upgra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Get a partner and join his/her wiki.  Have him/her invite you in the invite section under Manage Wik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2:54:49Z</dcterms:created>
  <dc:creator>CFISD</dc:creator>
  <dc:description/>
  <dc:language>en-US</dc:language>
  <cp:lastModifiedBy>CFISD</cp:lastModifiedBy>
  <dcterms:modified xsi:type="dcterms:W3CDTF">2009-05-26T12:54:57Z</dcterms:modified>
  <cp:revision>1</cp:revision>
  <dc:subject/>
  <dc:title>Directions</dc:title>
</cp:coreProperties>
</file>