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60F1-8C8F-47C3-A85F-46722288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4F2D-614B-4F09-9E50-68D1A46C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DFED-18FB-4E5D-A628-00607325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0B35-B8AB-4F72-8C81-D1903228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B06-103C-4CA3-B0A1-26710CA9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353-0DD8-4232-9D00-B1E7F1FB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9308-7E65-417C-88CD-15BD2A55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1F6-AE7D-4EB3-AE22-E28C2A0F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336-47CF-48DB-81B9-0C998F23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F42-4EE9-411D-AB1B-598471AD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1F8-FF4A-4262-B5AF-4C501832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288-7E13-477F-A595-781888BE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CFC2-A7E6-4084-88BD-C392ED935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kispace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62120" y="762120"/>
          <a:ext cx="761976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762120"/>
                    <a:ext cx="761976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5 – Place the cursor next to the text where you want the file to be lo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81280" y="990720"/>
            <a:ext cx="5562720" cy="5867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181480" y="457200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874880"/>
            <a:ext cx="2895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6 – Double click the icon of the file in the “Images &amp; Files” window to place the file on the p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00400" y="914400"/>
          <a:ext cx="594360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914400"/>
                    <a:ext cx="5943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7391520" y="3429000"/>
            <a:ext cx="53316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4724280"/>
            <a:ext cx="335268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666880" y="1066680"/>
          <a:ext cx="6477120" cy="563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066680"/>
                    <a:ext cx="64771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90720" y="2819520"/>
          <a:ext cx="914400" cy="73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2819520"/>
                    <a:ext cx="9144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57200" y="20574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Click the icon bel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66880" y="914400"/>
          <a:ext cx="647712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914400"/>
                    <a:ext cx="64771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228600" y="1143000"/>
            <a:ext cx="2286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 – Name the link.  This is what it will show up as on the p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 – Check the button next to External Link.  Type or paste in the desired URL. (minus http://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26668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886200" y="3276720"/>
            <a:ext cx="45720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3276720"/>
            <a:ext cx="30456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419112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New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new p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name of the new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 ok and it will be added to the list under navig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666880" y="1219320"/>
          <a:ext cx="6477120" cy="55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19320"/>
                    <a:ext cx="6477120" cy="55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743200" y="25146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286000" y="4343040"/>
            <a:ext cx="68580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iting Other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362320" y="1220760"/>
          <a:ext cx="6781680" cy="56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220760"/>
                    <a:ext cx="678168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205740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Manag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croll to the bottom and click invite peop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3124080"/>
            <a:ext cx="10670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143000" y="1371600"/>
            <a:ext cx="182880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733920" y="5181480"/>
            <a:ext cx="352404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ge   Title/Topic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2893680" y="1902960"/>
            <a:ext cx="2136600" cy="3127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3581280"/>
            <a:ext cx="7621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05320" y="5181480"/>
            <a:ext cx="375264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rategy's   Procedure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979280" y="3960720"/>
            <a:ext cx="3203640" cy="1069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ing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362320" y="1041480"/>
          <a:ext cx="6781680" cy="543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041480"/>
                    <a:ext cx="6781680" cy="54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2133720"/>
            <a:ext cx="2057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“Edit This Page” button to  edit pages and add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205740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iting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240680" cy="6172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8800" y="1676520"/>
            <a:ext cx="510552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18288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18288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105520" y="18288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ng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981080" y="990720"/>
          <a:ext cx="71629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71629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20040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838080"/>
            <a:ext cx="1600200" cy="58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Find the last letter or symbol ente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Click enter a few tim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Enter your text before entering any files or lin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5181480"/>
            <a:ext cx="6858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ng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81080" y="990720"/>
          <a:ext cx="71629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71629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20040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2743200"/>
            <a:ext cx="1600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Click SAVE when you are finish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1828800"/>
            <a:ext cx="6858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209680" y="1066680"/>
          <a:ext cx="6934320" cy="575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066680"/>
                    <a:ext cx="69343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52280" y="1143000"/>
            <a:ext cx="182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 – Click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on, the one that looks like a picture of a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2438280"/>
          <a:ext cx="60948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2438280"/>
                    <a:ext cx="609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37160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0574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 – Click browse and locate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 – Click upload and the file will appear in the queu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4  – Make sure the button “inserts the file” is cl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733920" y="762120"/>
          <a:ext cx="525780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762120"/>
                    <a:ext cx="52578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172200" y="4648320"/>
            <a:ext cx="129528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4648320"/>
            <a:ext cx="114300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3733920"/>
            <a:ext cx="16002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21:13:49Z</dcterms:created>
  <dc:creator>CFISD</dc:creator>
  <dc:description/>
  <dc:language>en-US</dc:language>
  <cp:lastModifiedBy>Braden Orso</cp:lastModifiedBy>
  <dcterms:modified xsi:type="dcterms:W3CDTF">2009-02-16T03:54:36Z</dcterms:modified>
  <cp:revision>10</cp:revision>
  <dc:subject/>
  <dc:title>Cypress Ridge New Teacher Mentoring Program</dc:title>
</cp:coreProperties>
</file>