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AC6-9884-47A2-BC38-3516E228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8DE-192D-4F29-A9C4-FDC44F93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F1C-182C-4B5B-9781-2D18EF80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96C-1A11-4B97-95A9-A115F3834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791-0E74-425E-8DDE-02D4C817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32E7-9F5B-4023-B03A-55D0004D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F26-FA32-40A9-A278-56A7A99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696-72B5-4545-88FA-DEB5DBB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E10-470C-474B-9846-FBF69E55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DCED-3F24-40D8-9E67-9C9AE90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E23-1A71-4CB3-BB30-2CDF3C9D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CBC-2DE2-4620-8272-829F6058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2809-CD55-43AD-B3C4-DC7FA4D21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Braden Orso</cp:lastModifiedBy>
  <dcterms:modified xsi:type="dcterms:W3CDTF">2009-02-16T03:54:36Z</dcterms:modified>
  <cp:revision>10</cp:revision>
  <dc:subject/>
  <dc:title>Cypress Ridge New Teacher Mentoring Program</dc:title>
</cp:coreProperties>
</file>