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271B-6647-4DF0-A8BF-04B0FDB07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6A92-40EF-4849-9E1D-D86088436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DEE4-256B-4BBD-B78E-3153D2F20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3DE9-ECCA-4907-87E8-C55D86E14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7FFE-39B9-4C3D-AF2C-12AA24937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E486-C23E-475F-BE2D-2D14950B5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B96D-9091-4D3F-AE51-DB1E6941A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5507-45BE-401D-B252-C5E33407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9545-7CD8-401B-B1D4-A89981EEE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5A79-03B6-4E89-AA64-D3BB1342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9139-DBFB-4F1B-9375-4985D1D4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7EC7-0240-4A1A-AC6A-3F9E7659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12DD9-B97D-4FB5-9D4D-21E9D4BA7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Turn in your essay, directions, and pre-write on the table in front of my desk.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ain silent until all students are finish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I will let you know when that i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Clean up your wiki. You need to have a page for all of the units in the second semest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tin Amer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W As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th As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/SE As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Each page needs a picture representative of the unit and all of the files uploaded that are associated with each un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If you wiki still has ads get rid of th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lick Manage Wi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lick Upgrade in the About sec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Go to the bottom and request permission for a complimentary K-12 upgrad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Get a partner and join his/her wiki.  Have him/her invite you in the invite section under Manage Wik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6T12:54:49Z</dcterms:created>
  <dc:creator>CFISD</dc:creator>
  <dc:description/>
  <dc:language>en-US</dc:language>
  <cp:lastModifiedBy>CFISD</cp:lastModifiedBy>
  <dcterms:modified xsi:type="dcterms:W3CDTF">2009-05-26T12:54:57Z</dcterms:modified>
  <cp:revision>1</cp:revision>
  <dc:subject/>
  <dc:title>Directions</dc:title>
</cp:coreProperties>
</file>