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A89-7262-4A3E-8397-A6BB7A2A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B4A-A124-4A3B-9BE0-1F75C858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C511-F6A2-40EA-88B9-9F9EABEE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28CD-45CB-409B-A444-B08EC412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369B-8704-46E3-858A-65970F8D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5A56-8F37-4A27-97E0-D113751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01C-00A4-4A06-BDFA-560F3361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5A8E-66EC-4512-AEC5-CCED6186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C528-4BB2-4897-95D3-42E868CE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6FC5-0294-43BC-B70E-C6790350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7B3-7C0B-4ECE-8094-23FE0DF0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BE6A-2B36-4442-8BA7-E3A503B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D314-95C1-4D57-9A79-7AC38855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 of D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hat is Spatial 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– the area around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– to check out and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es this happe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ting in a basketball h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space around the driveway, windows? the street? gra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228600" y="43430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udy of the earth’s surface through the variations and connections between physical features and hum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k ourselves the question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e see a patter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it like …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what w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oordinator for Counterterrorism Cofer Black briefed the press on the release of the 2002 Patterns of Global Terrorism report on April 30, 2003. Photo by Michael Gross. US State Department."/>
          <p:cNvPicPr/>
          <p:nvPr/>
        </p:nvPicPr>
        <p:blipFill>
          <a:blip r:embed="rId2"/>
          <a:stretch/>
        </p:blipFill>
        <p:spPr>
          <a:xfrm>
            <a:off x="304920" y="228600"/>
            <a:ext cx="83818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838080" y="2286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at is Spatial Analy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ittsburgh Steelers' quarterback Tommy Maddox (8) is sacked by Baltimore Ravens' linebacker Terrel Suggs (55) during the first quarter of their game in Baltimore, September 19, 2004.     REUTERS/Joe Giza"/>
          <p:cNvPicPr/>
          <p:nvPr/>
        </p:nvPicPr>
        <p:blipFill>
          <a:blip r:embed="rId2"/>
          <a:stretch/>
        </p:blipFill>
        <p:spPr>
          <a:xfrm>
            <a:off x="3616200" y="0"/>
            <a:ext cx="56088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80880" y="990720"/>
            <a:ext cx="281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04920" y="0"/>
            <a:ext cx="3200400" cy="546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quarterback has spatial ability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allas_Cowboys_game_024"/>
          <p:cNvPicPr/>
          <p:nvPr/>
        </p:nvPicPr>
        <p:blipFill>
          <a:blip r:embed="rId2"/>
          <a:stretch/>
        </p:blipFill>
        <p:spPr>
          <a:xfrm>
            <a:off x="-380880" y="-533520"/>
            <a:ext cx="9524880" cy="7399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0" y="655308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pheelux.com/texas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0"/>
            <a:ext cx="8915400" cy="3506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quarterback in the middle of a play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team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c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f his op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lationsh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etween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e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pp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s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tter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me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ves the ball based on this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atial Analysis (write tit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26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udent created defini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Text message using the term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Examples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Picture of spatial analys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22:29:32Z</dcterms:created>
  <dc:creator>Admin</dc:creator>
  <dc:description/>
  <dc:language>en-US</dc:language>
  <cp:lastModifiedBy>cfisd</cp:lastModifiedBy>
  <dcterms:modified xsi:type="dcterms:W3CDTF">2008-08-27T15:26:08Z</dcterms:modified>
  <cp:revision>6</cp:revision>
  <dc:subject/>
  <dc:title>Slide 1</dc:title>
</cp:coreProperties>
</file>