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82C-C588-422D-B541-22AA4208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401-5B3A-4188-A68C-0F480BD2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72F-63E8-48D8-9072-B68B2F19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2EF-AD44-4787-9DDA-D8C5D207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547-E605-4D77-BCA3-CE31EBF3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552-408C-4B8F-9788-29527DAF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464-4159-4CB7-945D-8A4FCD0A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9552-A347-46EA-BA58-1975C8C2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5C2-06A5-47A4-A397-EA60D304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F84B-4051-4BCC-941E-8D94A62F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CFC-DCDD-45CF-8CA2-31020901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CE61-9642-424F-B0B4-C8811477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CDB1-5522-4321-8FB1-CD9A06F35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 of D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hat is Spatial Analy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– the area around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– to check out and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es this happ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ing in a basketball ho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space around the driveway, windows? the street?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43430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udy of the earth’s surface through the variations and connections between physical features and hu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k ourselves the question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see a patter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it like 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what 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oordinator for Counterterrorism Cofer Black briefed the press on the release of the 2002 Patterns of Global Terrorism report on April 30, 2003. Photo by Michael Gross. US State Department."/>
          <p:cNvPicPr/>
          <p:nvPr/>
        </p:nvPicPr>
        <p:blipFill>
          <a:blip r:embed="rId2"/>
          <a:stretch/>
        </p:blipFill>
        <p:spPr>
          <a:xfrm>
            <a:off x="304920" y="228600"/>
            <a:ext cx="838188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838080" y="2286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is Spatial Analy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ttsburgh Steelers' quarterback Tommy Maddox (8) is sacked by Baltimore Ravens' linebacker Terrel Suggs (55) during the first quarter of their game in Baltimore, September 19, 2004.     REUTERS/Joe Giza"/>
          <p:cNvPicPr/>
          <p:nvPr/>
        </p:nvPicPr>
        <p:blipFill>
          <a:blip r:embed="rId2"/>
          <a:stretch/>
        </p:blipFill>
        <p:spPr>
          <a:xfrm>
            <a:off x="3616200" y="0"/>
            <a:ext cx="56088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80880" y="990720"/>
            <a:ext cx="281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04920" y="0"/>
            <a:ext cx="3200400" cy="54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quarterback has spatial ability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allas_Cowboys_game_024"/>
          <p:cNvPicPr/>
          <p:nvPr/>
        </p:nvPicPr>
        <p:blipFill>
          <a:blip r:embed="rId2"/>
          <a:stretch/>
        </p:blipFill>
        <p:spPr>
          <a:xfrm>
            <a:off x="-380880" y="-533520"/>
            <a:ext cx="9524880" cy="7399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0" y="65530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heelux.com/texa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0" y="0"/>
            <a:ext cx="8915400" cy="350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quarterback in the middle of a play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his team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his op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lationsh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etween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e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pp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me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es the ball based on this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Analysis (write tit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tudent created 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ext message using the term 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Examples of 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Picture of 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22:29:32Z</dcterms:created>
  <dc:creator>Admin</dc:creator>
  <dc:description/>
  <dc:language>en-US</dc:language>
  <cp:lastModifiedBy>cfisd</cp:lastModifiedBy>
  <dcterms:modified xsi:type="dcterms:W3CDTF">2008-08-27T15:26:08Z</dcterms:modified>
  <cp:revision>6</cp:revision>
  <dc:subject/>
  <dc:title>Slide 1</dc:title>
</cp:coreProperties>
</file>