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525A-85C2-4FD2-A12B-A178654E2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297A-0746-4034-80F4-3BD702C44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DCCC-43B5-4D93-9EA2-2D85B000E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9DB4-D8F7-47B7-B3B7-56F2850C2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DC93-118B-48D1-BDF6-58067A752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28AB-5E89-4A89-B3B0-FC3A69916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B425-24F2-4816-B085-0F6075701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BB1C-CC86-4145-99A5-066DA4EE6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C3F0-2E98-4957-AFCD-7F24E1211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CAF9-C015-45A9-BB6E-21EC02AB5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F8DE-B9E8-4BBB-968D-366B78CE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FA25-0A3C-432F-BB6C-BAC773919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F882F-670B-4D5F-9DFF-B831BEA4A7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 of D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What is Spatial Analys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 – the area around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ze – to check out and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does this happe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ting in a basketball hoo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space around the driveway, windows? the street? gra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28600" y="4343040"/>
            <a:ext cx="8686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ition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udy of the earth’s surface through the variations and connections between physical features and hum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sk ourselves the questions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we see a patter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is it like …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is what whe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Coordinator for Counterterrorism Cofer Black briefed the press on the release of the 2002 Patterns of Global Terrorism report on April 30, 2003. Photo by Michael Gross. US State Department."/>
          <p:cNvPicPr/>
          <p:nvPr/>
        </p:nvPicPr>
        <p:blipFill>
          <a:blip r:embed="rId2"/>
          <a:stretch/>
        </p:blipFill>
        <p:spPr>
          <a:xfrm>
            <a:off x="304920" y="228600"/>
            <a:ext cx="8381880" cy="41148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4"/>
          <p:cNvSpPr/>
          <p:nvPr/>
        </p:nvSpPr>
        <p:spPr>
          <a:xfrm>
            <a:off x="838080" y="228600"/>
            <a:ext cx="7620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hat is Spatial Analys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Pittsburgh Steelers' quarterback Tommy Maddox (8) is sacked by Baltimore Ravens' linebacker Terrel Suggs (55) during the first quarter of their game in Baltimore, September 19, 2004.     REUTERS/Joe Giza"/>
          <p:cNvPicPr/>
          <p:nvPr/>
        </p:nvPicPr>
        <p:blipFill>
          <a:blip r:embed="rId2"/>
          <a:stretch/>
        </p:blipFill>
        <p:spPr>
          <a:xfrm>
            <a:off x="3616200" y="0"/>
            <a:ext cx="56088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380880" y="990720"/>
            <a:ext cx="2819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04920" y="0"/>
            <a:ext cx="3200400" cy="546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ample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quarterback has spatial ability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s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Dallas_Cowboys_game_024"/>
          <p:cNvPicPr/>
          <p:nvPr/>
        </p:nvPicPr>
        <p:blipFill>
          <a:blip r:embed="rId2"/>
          <a:stretch/>
        </p:blipFill>
        <p:spPr>
          <a:xfrm>
            <a:off x="-380880" y="-533520"/>
            <a:ext cx="9524880" cy="73994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0" y="6553080"/>
            <a:ext cx="510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pheelux.com/texas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0" y="0"/>
            <a:ext cx="8915400" cy="3506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quarterback in the middle of a play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serves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oca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f his teamm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serves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oca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f his op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es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lationsh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between bo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es 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en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happ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es 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atter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eme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ves the ball based on this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atial Analysis (write tit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4114440"/>
                <a:gridCol w="4114800"/>
              </a:tblGrid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Student created defini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Text message using the term spatial analys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Examples of spatial analys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Picture of spatial analys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22:29:32Z</dcterms:created>
  <dc:creator>Admin</dc:creator>
  <dc:description/>
  <dc:language>en-US</dc:language>
  <cp:lastModifiedBy>cfisd</cp:lastModifiedBy>
  <dcterms:modified xsi:type="dcterms:W3CDTF">2008-08-27T15:26:08Z</dcterms:modified>
  <cp:revision>6</cp:revision>
  <dc:subject/>
  <dc:title>Slide 1</dc:title>
</cp:coreProperties>
</file>