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EE7B-641A-47AB-99DC-F9527F4F5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D59B-DC85-4D5B-9A9A-4624959C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9CA6-95CF-4203-9E38-B45831E53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CA23-A262-4599-AEF4-6999C234C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EF91-E5E3-4EF8-A5B2-35E47D2A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24EB-579D-4653-9D5B-924E39FF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6409-ED2C-4F2C-A7FB-0D7DCE84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8FEC-BFEA-4FA4-98FF-96A39058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E5A3-5DE7-4C6E-9248-4DD1E5E0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205C-7BC6-4053-8037-9A644EE3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17E0-7FAC-409C-BECC-01245E4F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F08D-2C47-4A0D-BBAB-E8A289E48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076A-FEC3-46B2-98C5-7394137C3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 of D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What is Spatial Analys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 – the area around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 – to check out and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oes this happe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ting in a basketball hoo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space around the driveway, windows? the street? gra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600" y="434304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udy of the earth’s surface through the variations and connections between physical features and hum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sk ourselves the questions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we see a patter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is it like 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what w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Coordinator for Counterterrorism Cofer Black briefed the press on the release of the 2002 Patterns of Global Terrorism report on April 30, 2003. Photo by Michael Gross. US State Department."/>
          <p:cNvPicPr/>
          <p:nvPr/>
        </p:nvPicPr>
        <p:blipFill>
          <a:blip r:embed="rId2"/>
          <a:stretch/>
        </p:blipFill>
        <p:spPr>
          <a:xfrm>
            <a:off x="304920" y="228600"/>
            <a:ext cx="8381880" cy="41148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4"/>
          <p:cNvSpPr/>
          <p:nvPr/>
        </p:nvSpPr>
        <p:spPr>
          <a:xfrm>
            <a:off x="838080" y="22860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at is Spatial Analys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ittsburgh Steelers' quarterback Tommy Maddox (8) is sacked by Baltimore Ravens' linebacker Terrel Suggs (55) during the first quarter of their game in Baltimore, September 19, 2004.     REUTERS/Joe Giza"/>
          <p:cNvPicPr/>
          <p:nvPr/>
        </p:nvPicPr>
        <p:blipFill>
          <a:blip r:embed="rId2"/>
          <a:stretch/>
        </p:blipFill>
        <p:spPr>
          <a:xfrm>
            <a:off x="3616200" y="0"/>
            <a:ext cx="56088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80880" y="990720"/>
            <a:ext cx="2819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04920" y="0"/>
            <a:ext cx="3200400" cy="54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quarterback has spatial ability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s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allas_Cowboys_game_024"/>
          <p:cNvPicPr/>
          <p:nvPr/>
        </p:nvPicPr>
        <p:blipFill>
          <a:blip r:embed="rId2"/>
          <a:stretch/>
        </p:blipFill>
        <p:spPr>
          <a:xfrm>
            <a:off x="-380880" y="-533520"/>
            <a:ext cx="9524880" cy="73994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0" y="655308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pheelux.com/texas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0" y="0"/>
            <a:ext cx="8915400" cy="3506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quarterback in the middle of a play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serves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c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his teamm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serves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c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his op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es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lationsh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etween b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es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e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app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es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tter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me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ves the ball based on this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tial Analysis (write tit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Student created defin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Text message using the term spatial analy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Examples of spatial analy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Picture of spatial analy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22:29:32Z</dcterms:created>
  <dc:creator>Admin</dc:creator>
  <dc:description/>
  <dc:language>en-US</dc:language>
  <cp:lastModifiedBy>cfisd</cp:lastModifiedBy>
  <dcterms:modified xsi:type="dcterms:W3CDTF">2008-08-27T15:26:08Z</dcterms:modified>
  <cp:revision>6</cp:revision>
  <dc:subject/>
  <dc:title>Slide 1</dc:title>
</cp:coreProperties>
</file>