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930-7BDA-479B-A5FD-E97F71B7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95D-4BB5-4953-94B1-E5A4D4BE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B58-2C37-42CE-987E-DF2FF027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AE9-B6F4-4B1A-8999-92BA3C61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8D8-9A20-401C-BB0D-73FB1E4E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CAA-73E2-40CB-92B0-5B2C4659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09A-9297-4579-B419-6DCF4C96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FAA-2103-4C79-A8CD-7B8DF3C3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F9F-5492-4C2A-8388-D3C9ABC0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75C-3DEC-4D68-866A-8F3DD02A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6A8-A334-4389-8DF1-76869DA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80A-EC1F-4612-92FD-D6E2AAEE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DD6D-0ED7-419E-B115-DCE94E471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 of 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at is Spatial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– the area aroun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to check out and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this happ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n a basketball h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space around the driveway, windows? the street?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y of the earth’s surface through the variations and connections between physical features and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k ourselves the question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see a patter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like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what 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Spatial Analy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04920" y="0"/>
            <a:ext cx="320040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quarterback has spatial ability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allas_Cowboys_game_024"/>
          <p:cNvPicPr/>
          <p:nvPr/>
        </p:nvPicPr>
        <p:blipFill>
          <a:blip r:embed="rId2"/>
          <a:stretch/>
        </p:blipFill>
        <p:spPr>
          <a:xfrm>
            <a:off x="-380880" y="-533520"/>
            <a:ext cx="9524880" cy="7399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65530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heelux.com/tex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0"/>
            <a:ext cx="8915400" cy="350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in the middle of a play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team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op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e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s the ball based on this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Analysis (write tit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udent created 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ext message using the term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xamples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icture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22:29:32Z</dcterms:created>
  <dc:creator>Admin</dc:creator>
  <dc:description/>
  <dc:language>en-US</dc:language>
  <cp:lastModifiedBy>cfisd</cp:lastModifiedBy>
  <dcterms:modified xsi:type="dcterms:W3CDTF">2008-08-27T15:26:08Z</dcterms:modified>
  <cp:revision>6</cp:revision>
  <dc:subject/>
  <dc:title>Slide 1</dc:title>
</cp:coreProperties>
</file>