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5E9-7BFE-4477-BCFC-A9EDAE5A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DA66-761E-40EF-9B63-497F86E9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3287-288C-4D49-8D73-C4DC069A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6CB-AC7C-4460-8305-CFA0FFBB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3814-6658-40AB-92D6-5439CFF4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ECEB-DECD-4AE5-AA81-0F0AC0D5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AF7-E9D2-4829-AFB4-1F4BD1E1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F39B-3575-49A8-87F0-4C32AB3F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5F3-D527-4FCD-8677-D321841C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195E-36CB-4C1E-9A2F-1163651D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08D-B2CE-4BD6-B963-ABF6938E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16A-0B88-4D16-8876-0195D10E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5558-98C4-4414-9F1D-AC4CFAB53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 of D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hat is Spatial Analy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– the area around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– to check out and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es this happ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ing in a basketball ho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space around the driveway, windows? the street?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43430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udy of the earth’s surface through the variations and connections between physical features and hu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k ourselves the question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see a patter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it like 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what 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oordinator for Counterterrorism Cofer Black briefed the press on the release of the 2002 Patterns of Global Terrorism report on April 30, 2003. Photo by Michael Gross. US State Department."/>
          <p:cNvPicPr/>
          <p:nvPr/>
        </p:nvPicPr>
        <p:blipFill>
          <a:blip r:embed="rId2"/>
          <a:stretch/>
        </p:blipFill>
        <p:spPr>
          <a:xfrm>
            <a:off x="304920" y="228600"/>
            <a:ext cx="838188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83808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is Spatial Analy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ttsburgh Steelers' quarterback Tommy Maddox (8) is sacked by Baltimore Ravens' linebacker Terrel Suggs (55) during the first quarter of their game in Baltimore, September 19, 2004.     REUTERS/Joe Giza"/>
          <p:cNvPicPr/>
          <p:nvPr/>
        </p:nvPicPr>
        <p:blipFill>
          <a:blip r:embed="rId2"/>
          <a:stretch/>
        </p:blipFill>
        <p:spPr>
          <a:xfrm>
            <a:off x="3616200" y="0"/>
            <a:ext cx="56088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80880" y="990720"/>
            <a:ext cx="281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04920" y="0"/>
            <a:ext cx="3200400" cy="54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quarterback has spatial ability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allas_Cowboys_game_024"/>
          <p:cNvPicPr/>
          <p:nvPr/>
        </p:nvPicPr>
        <p:blipFill>
          <a:blip r:embed="rId2"/>
          <a:stretch/>
        </p:blipFill>
        <p:spPr>
          <a:xfrm>
            <a:off x="-380880" y="-533520"/>
            <a:ext cx="9524880" cy="7399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0" y="65530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heelux.com/texa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0" y="0"/>
            <a:ext cx="8915400" cy="350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quarterback in the middle of a play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his team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his op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tween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e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pp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me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es the ball based on this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Analysis (write tit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tudent created 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ext message using the term 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Examples of 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Picture of 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22:29:32Z</dcterms:created>
  <dc:creator>Admin</dc:creator>
  <dc:description/>
  <dc:language>en-US</dc:language>
  <cp:lastModifiedBy>cfisd</cp:lastModifiedBy>
  <dcterms:modified xsi:type="dcterms:W3CDTF">2008-08-27T15:26:08Z</dcterms:modified>
  <cp:revision>6</cp:revision>
  <dc:subject/>
  <dc:title>Slide 1</dc:title>
</cp:coreProperties>
</file>