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6A7-D81F-4AA4-9399-B37D948B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69C-FEED-4EC9-9F3D-01CDF03C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299-2A67-4406-9614-8826DAAD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573-B889-4B32-8B91-F7D89885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D80-C387-4A54-B3D0-B721DB72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E59B-6B84-4DFA-A873-BADEDA22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F6C-262A-440B-B924-A905B9A5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08F-DDBA-493D-8A07-37FD00E5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22C-89AE-4C9F-B609-A2CD693B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397-DAAB-4558-BFA1-6E72B6D3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153-7834-40EB-A8AF-61C2B1C9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D22C-0430-4CA8-B8B2-D6162728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AB22-6914-4C41-8B84-24182F5D5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CFCLUSTER_TAVOL5_P_SERVER/TAVOL5/TCHADMS/B/BFO10921/eurasia/hei%20in%20russia/collective%20farming.doc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763120" cy="550080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28600" y="36576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china pic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#2 – Flows through major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5942160"/>
            <a:ext cx="84582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factory that is presently in the Russian city Kazan.  The river flows right through this area of high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505320"/>
            <a:ext cx="7467480" cy="457200"/>
          </a:xfrm>
          <a:prstGeom prst="line">
            <a:avLst/>
          </a:prstGeom>
          <a:ln w="57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5800" y="1219320"/>
            <a:ext cx="2514600" cy="703800"/>
            <a:chOff x="685800" y="1219320"/>
            <a:chExt cx="2514600" cy="703800"/>
          </a:xfrm>
        </p:grpSpPr>
        <p:sp>
          <p:nvSpPr>
            <p:cNvPr id="72" name=""/>
            <p:cNvSpPr/>
            <p:nvPr/>
          </p:nvSpPr>
          <p:spPr>
            <a:xfrm>
              <a:off x="685800" y="1371600"/>
              <a:ext cx="609480" cy="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71600" y="121932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location of the r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20880" y="304920"/>
            <a:ext cx="7607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3. Modern Pollution – Predict the sourc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ollution example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8899" t="24489" r="17578" b="5249"/>
          <a:stretch/>
        </p:blipFill>
        <p:spPr>
          <a:xfrm>
            <a:off x="1676520" y="1676520"/>
            <a:ext cx="2590560" cy="1992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6976" r="0" b="25582"/>
          <a:stretch/>
        </p:blipFill>
        <p:spPr>
          <a:xfrm>
            <a:off x="304920" y="3962520"/>
            <a:ext cx="2617560" cy="2666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0" t="20917" r="0" b="16817"/>
          <a:stretch/>
        </p:blipFill>
        <p:spPr>
          <a:xfrm>
            <a:off x="6553080" y="1143000"/>
            <a:ext cx="2097360" cy="2590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191120" y="3886200"/>
            <a:ext cx="44956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4 – Collective Fa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Farming made farming an industr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ad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om a British University to answer the questions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Big P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Identify the four goals of farming in a developing n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re the collective farms cr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average collective fa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collectivization successful? Explain why or why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600200"/>
          <a:ext cx="8001000" cy="4724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VE FARMIN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e p. 364 to define it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y did Stalin create collective farm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4614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5501880"/>
            <a:ext cx="8229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zerzhinsk, Russia, waste from 190 chemicals has turned the groundwater into a dangerous toxic sludge. Life expectancy there is 42 for men and 47 for wome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914400"/>
            <a:ext cx="2438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xplain this eff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 rot="21595800">
            <a:off x="228240" y="228240"/>
            <a:ext cx="8532720" cy="6419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903720" y="2666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olga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8229600" y="1143000"/>
            <a:ext cx="7632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7696080" y="1828440"/>
            <a:ext cx="5335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5029200"/>
            <a:ext cx="28958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Delta of the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Volga 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Looking from space, sometimes the delta will look like a large fan, or maybe the root system of a pl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248520" y="3809520"/>
            <a:ext cx="12189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476760" y="2971440"/>
            <a:ext cx="106668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562720"/>
            <a:ext cx="541008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Sediment and Pollution into the Caspian 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Caspian Sea is filling up with </a:t>
            </a: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sediment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and industrial waste!  This image lets us see how the pollution is flowing into the sea from the ri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523880" y="3352320"/>
            <a:ext cx="15264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905120" y="3809520"/>
            <a:ext cx="160020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590920" y="4419720"/>
            <a:ext cx="259056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380880"/>
            <a:ext cx="4419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his is the 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mouth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of the Volga River (in Russia) as it empties into the Caspian Sea.  The Volga is the largest river system in Europ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990720"/>
            <a:ext cx="762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mage Courtesy of NASA Earth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572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is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china pic 1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791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n the Caspian Sea – Fish 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914400"/>
            <a:ext cx="190512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ish kills occur when the temperature increases causing plant growth to increase which sucks the oxygen out of the wa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43000"/>
          <a:ext cx="8229600" cy="502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 has hired you as the head of the Environmental Protection Agency (EP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ght global warming and save the planet he wants you to determine how badly Russia messed up their environm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he next three days you analyze three case studies and ultimately create your plan outlining their contributions and how we should fix the problem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se the slides below and the available resources to gather research in your noteboo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lides that say read only in the bottom left, just rea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l other slides, record the notes and complete all tas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nswer all questions in complete sentences so that you do not have to write the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9436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Policies of the Soviet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ow they affected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59436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fore you begin your research answer the questions below use p. 36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conomic system did the Soviet Union cre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government take control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major goal of the Soviet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#1 - Volga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WWWWW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out the color of the Volga river here in the countryside. Anyone want a s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1368" t="999" r="2056" b="3487"/>
          <a:stretch/>
        </p:blipFill>
        <p:spPr>
          <a:xfrm>
            <a:off x="533520" y="1523880"/>
            <a:ext cx="8229600" cy="5118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59436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6251" t="8489" r="16252" b="287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1433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-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0"/>
            <a:ext cx="1828800" cy="448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North of Mos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ies into the Caspian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200400"/>
            <a:ext cx="30481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big cities are on the Volg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you think the Volga is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216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PI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1 – Rapid Industrializ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095880"/>
            <a:ext cx="7772400" cy="520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n factory on the Volga River, 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6:38:07Z</dcterms:created>
  <dc:creator>CFISD</dc:creator>
  <dc:description/>
  <dc:language>en-US</dc:language>
  <cp:lastModifiedBy>CFISD</cp:lastModifiedBy>
  <dcterms:modified xsi:type="dcterms:W3CDTF">2008-12-10T13:57:42Z</dcterms:modified>
  <cp:revision>8</cp:revision>
  <dc:subject/>
  <dc:title>Volga River</dc:title>
</cp:coreProperties>
</file>