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F24-0FD2-46F1-9730-A81F3E00A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5976-556C-42EF-8FF7-B08FDAFB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B61-F5CE-4CF1-B758-C4E1BEBA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6AF4-5833-4373-BF2E-70A57F7D3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1A4-EABF-4B63-98EA-3A08DA9F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168C-43D9-4F08-AD85-3980D7BB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C6E-8005-441C-898A-377B7C5D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EC47-4FA4-4382-A4CC-74EC698D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5F49-048B-41DD-800E-A8D9A519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A102-DC5B-43A5-A3FA-78011AF3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6CFE-3A4E-49FA-99AD-CD4032AD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4054-3C18-4908-B175-D3AF712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F3AB-3D07-45CE-8694-242B6B539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CFCLUSTER_TAVOL5_P_SERVER/TAVOL5/TCHADMS/B/BFO10921/eurasia/hei%20in%20russia/collective%20farming.doc" TargetMode="Externa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ble of Contents – Rus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763120" cy="5500800"/>
        </p:xfrm>
        <a:graphic>
          <a:graphicData uri="http://schemas.openxmlformats.org/drawingml/2006/table">
            <a:tbl>
              <a:tblPr/>
              <a:tblGrid>
                <a:gridCol w="1219320"/>
                <a:gridCol w="5715000"/>
                <a:gridCol w="182880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on #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li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Un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 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*RUSSIA (EURASIA) UNIT*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ver Page and M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-Away Box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-Environment Inter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28600" y="3657600"/>
            <a:ext cx="8763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china pic 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use #2 – Flows through major c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5942160"/>
            <a:ext cx="84582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factory that is presently in the Russian city Kazan.  The river flows right through this area of high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505320"/>
            <a:ext cx="7467480" cy="457200"/>
          </a:xfrm>
          <a:prstGeom prst="line">
            <a:avLst/>
          </a:prstGeom>
          <a:ln w="572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85800" y="1219320"/>
            <a:ext cx="2514600" cy="703800"/>
            <a:chOff x="685800" y="1219320"/>
            <a:chExt cx="2514600" cy="703800"/>
          </a:xfrm>
        </p:grpSpPr>
        <p:sp>
          <p:nvSpPr>
            <p:cNvPr id="72" name=""/>
            <p:cNvSpPr/>
            <p:nvPr/>
          </p:nvSpPr>
          <p:spPr>
            <a:xfrm>
              <a:off x="685800" y="1371600"/>
              <a:ext cx="609480" cy="0"/>
            </a:xfrm>
            <a:prstGeom prst="line">
              <a:avLst/>
            </a:prstGeom>
            <a:ln w="572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71600" y="1219320"/>
              <a:ext cx="182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location of the ri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20880" y="304920"/>
            <a:ext cx="7607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3. Modern Pollution – Predict the sourc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ollution example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8899" t="24489" r="17578" b="5249"/>
          <a:stretch/>
        </p:blipFill>
        <p:spPr>
          <a:xfrm>
            <a:off x="1676520" y="1676520"/>
            <a:ext cx="2590560" cy="1992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rcRect l="0" t="6976" r="0" b="25582"/>
          <a:stretch/>
        </p:blipFill>
        <p:spPr>
          <a:xfrm>
            <a:off x="304920" y="3962520"/>
            <a:ext cx="2617560" cy="2666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rcRect l="0" t="20917" r="0" b="16817"/>
          <a:stretch/>
        </p:blipFill>
        <p:spPr>
          <a:xfrm>
            <a:off x="6553080" y="1143000"/>
            <a:ext cx="209736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4191120" y="3886200"/>
            <a:ext cx="449568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4 – Collective Far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ve Farming made farming an industry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eading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om a British University to answer the questions be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the Big P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 Identify the four goals of farming in a developing n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re the collective farms cr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 the average collective far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collectivization successful? Explain why or why no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rections: In your notebook, complete the Frayer Model below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85800" y="1600200"/>
          <a:ext cx="8001000" cy="4724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188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CTIVE FARMING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Definition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use p. 364 to define i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Why did Stalin create collective farms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ket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4614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5501880"/>
            <a:ext cx="82296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zerzhinsk, Russia, waste from 190 chemicals has turned the groundwater into a dangerous toxic sludge. Life expectancy there is 42 for men and 47 for wome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91440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plain this effec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21595800">
            <a:off x="228240" y="228240"/>
            <a:ext cx="8532720" cy="6419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903720" y="2666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olg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229600" y="1143000"/>
            <a:ext cx="7632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7696080" y="1828440"/>
            <a:ext cx="5335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5029200"/>
            <a:ext cx="28958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The Delta of the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Volga 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Looking from space, sometimes the delta will look like a large fan, or maybe the root system of a pl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6248520" y="3809520"/>
            <a:ext cx="12189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476760" y="2971440"/>
            <a:ext cx="1066680" cy="205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562720"/>
            <a:ext cx="541008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Sediment and Pollution into the Caspian S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The Caspian Sea is filling up with </a:t>
            </a: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sediment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and industrial waste!  This image lets us see how the pollution is flowing into the sea from the riv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523880" y="3352320"/>
            <a:ext cx="152640" cy="2133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905120" y="3809520"/>
            <a:ext cx="160020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590920" y="4419720"/>
            <a:ext cx="259056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380880"/>
            <a:ext cx="4419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This is the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mouth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ＭＳ Ｐゴシック"/>
              </a:rPr>
              <a:t> of the Volga River (in Russia) as it empties into the Caspian Sea.  The Volga is the largest river system in Europ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990720"/>
            <a:ext cx="762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Image Courtesy of NASA Earth Observa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1981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is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china pic 1"/>
          <p:cNvPicPr/>
          <p:nvPr/>
        </p:nvPicPr>
        <p:blipFill>
          <a:blip r:embed="rId1"/>
          <a:stretch/>
        </p:blipFill>
        <p:spPr>
          <a:xfrm>
            <a:off x="304920" y="838080"/>
            <a:ext cx="8534160" cy="5791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n the Caspian Sea – Fish 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914400"/>
            <a:ext cx="1905120" cy="283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ish kills occur when the temperature increases causing plant growth to increase which sucks the oxygen out of the wa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43000"/>
          <a:ext cx="8229600" cy="5028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s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ects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raw 3 picture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8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 has hired you as the head of the Environmental Protection Agency (EP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ght global warming and save the planet he wants you to determine how badly Russia messed up their environme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he next three days you analyze three case studies and ultimately create your plan outlining their contributions and how we should fix the problem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Use the slides below and the available resources to gather research in your noteboo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Slides that say read only in the bottom left, just rea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 other slides, record the notes and complete all tas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Answer all questions in complete sentences so that you do not have to write the qu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 Policies of the Soviet U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How they affected the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fore you begin your research answer the questions below use p. 36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economic system did the Soviet Union cre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id the government take control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major goal of the Soviet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e Study #1 - Volga R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WWWWW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out the color of the Volga river here in the countryside. Anyone want a s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1368" t="999" r="2056" b="3487"/>
          <a:stretch/>
        </p:blipFill>
        <p:spPr>
          <a:xfrm>
            <a:off x="533520" y="1523880"/>
            <a:ext cx="8229600" cy="5118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5943600"/>
            <a:ext cx="9144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6251" t="8489" r="16252" b="2872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1143360" y="-3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-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0"/>
            <a:ext cx="1828800" cy="44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North of 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ies into the Caspian S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200400"/>
            <a:ext cx="30481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big cities are on the Volg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 you think the Volga is u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6216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PIAN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 #1 – Rapid Industrializ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6095880"/>
            <a:ext cx="7772400" cy="5205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ssian factory on the Volga River, 19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6:38:07Z</dcterms:created>
  <dc:creator>CFISD</dc:creator>
  <dc:description/>
  <dc:language>en-US</dc:language>
  <cp:lastModifiedBy>CFISD</cp:lastModifiedBy>
  <dcterms:modified xsi:type="dcterms:W3CDTF">2008-12-10T13:57:42Z</dcterms:modified>
  <cp:revision>8</cp:revision>
  <dc:subject/>
  <dc:title>Volga River</dc:title>
</cp:coreProperties>
</file>