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452-02C2-4C6C-A1AA-FBBB2043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A9E-D664-48C3-8B0B-F782B942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03F-D100-498E-B0D6-E181B4C6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78F-32E5-4F17-BB2D-8F9E97A9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ADD-45B0-49C2-859F-79E0ECAC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DCC-6CBF-4561-9D78-D3BA6607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6E2-14AA-4313-9126-5242CD3F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734-9217-4416-9566-DCE890CA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13F-7AFF-4538-8141-E651C226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643-8499-4606-86BE-B3E90DB3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78B-4FF1-49C5-81D9-F02FF9E3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B58-655B-4D8D-B794-6C95D87B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C815-5A27-4972-80C1-C5DD55D0D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CFCLUSTER_TAVOL5_P_SERVER/TAVOL5/TCHADMS/B/BFO10921/eurasia/hei%20in%20russia/collective%20farming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36576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china pic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2 – Flows through major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942160"/>
            <a:ext cx="8458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factory that is presently in the Russian city Kazan.  The river flows right through this area of high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505320"/>
            <a:ext cx="7467480" cy="457200"/>
          </a:xfrm>
          <a:prstGeom prst="line">
            <a:avLst/>
          </a:prstGeom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219320"/>
            <a:ext cx="2514600" cy="703800"/>
            <a:chOff x="685800" y="1219320"/>
            <a:chExt cx="2514600" cy="703800"/>
          </a:xfrm>
        </p:grpSpPr>
        <p:sp>
          <p:nvSpPr>
            <p:cNvPr id="72" name=""/>
            <p:cNvSpPr/>
            <p:nvPr/>
          </p:nvSpPr>
          <p:spPr>
            <a:xfrm>
              <a:off x="685800" y="1371600"/>
              <a:ext cx="609480" cy="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1600" y="121932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location of the 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20880" y="304920"/>
            <a:ext cx="7607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3. Modern Pollution – Predict the sourc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ollution example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8899" t="24489" r="17578" b="5249"/>
          <a:stretch/>
        </p:blipFill>
        <p:spPr>
          <a:xfrm>
            <a:off x="1676520" y="1676520"/>
            <a:ext cx="2590560" cy="1992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6976" r="0" b="25582"/>
          <a:stretch/>
        </p:blipFill>
        <p:spPr>
          <a:xfrm>
            <a:off x="304920" y="3962520"/>
            <a:ext cx="2617560" cy="2666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20917" r="0" b="16817"/>
          <a:stretch/>
        </p:blipFill>
        <p:spPr>
          <a:xfrm>
            <a:off x="6553080" y="1143000"/>
            <a:ext cx="209736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191120" y="3886200"/>
            <a:ext cx="44956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4 – Collective Fa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Farming made farming an industr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a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m a British University to answer the questions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Big P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Identify the four goals of farming in a developing n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the collective farms cr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average collective fa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collectivization successful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600200"/>
          <a:ext cx="8001000" cy="4724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VE FARM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e p. 364 to define i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y did Stalin create collective farm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461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5501880"/>
            <a:ext cx="8229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zerzhinsk, Russia, waste from 190 chemicals has turned the groundwater into a dangerous toxic sludge. Life expectancy there is 42 for men and 47 for wome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914400"/>
            <a:ext cx="243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xplain this eff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21595800">
            <a:off x="228240" y="228240"/>
            <a:ext cx="8532720" cy="641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903720" y="2666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olg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8229600" y="1143000"/>
            <a:ext cx="7632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7696080" y="1828440"/>
            <a:ext cx="5335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5029200"/>
            <a:ext cx="28958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Delta of the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Volga 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Looking from space, sometimes the delta will look like a large fan, or maybe the root system of a pl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248520" y="3809520"/>
            <a:ext cx="12189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476760" y="2971440"/>
            <a:ext cx="10666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562720"/>
            <a:ext cx="541008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Sediment and Pollution into the Caspi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Caspian Sea is filling up with </a:t>
            </a: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sediment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industrial waste!  This image lets us see how the pollution is flowing into the sea from the ri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23880" y="3352320"/>
            <a:ext cx="15264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05120" y="3809520"/>
            <a:ext cx="16002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90920" y="4419720"/>
            <a:ext cx="259056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380880"/>
            <a:ext cx="4419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is is the 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outh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of the Volga River (in Russia) as it empties into the Caspian Sea.  The Volga is the largest river system in Europ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990720"/>
            <a:ext cx="762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mage Courtesy of NASA Earth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i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china pic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791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n the Caspian Sea – Fish 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914400"/>
            <a:ext cx="19051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ish kills occur when the temperature increases causing plant growth to increase which sucks the oxygen out of the 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43000"/>
          <a:ext cx="8229600" cy="502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has hired you as the head of the Environmental Protection Agency (E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global warming and save the planet he wants you to determine how badly Russia messed up their environ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next three days you analyze three case studies and ultimately create your plan outlining their contributions and how we should fix the probl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se the slides below and the available resources to gather research in your noteboo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lides that say read only in the bottom left, just rea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 other slides, record the notes and complete all tas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nswer all questions in complete sentences so that you do not have to write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Policies of the 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they affected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fore you begin your research answer the questions below use p. 36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conomic system did the Soviet Union cre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government take control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major goal of the Soviet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#1 - Volga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WWWW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out the color of the Volga river here in the countryside. Anyone want a s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368" t="999" r="2056" b="3487"/>
          <a:stretch/>
        </p:blipFill>
        <p:spPr>
          <a:xfrm>
            <a:off x="533520" y="1523880"/>
            <a:ext cx="8229600" cy="5118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6251" t="8489" r="16252" b="287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1433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-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0"/>
            <a:ext cx="1828800" cy="448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North of 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ies into the Caspian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200400"/>
            <a:ext cx="30481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big cities are on the Volg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think the Volga is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216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1 – Rapid Industrializ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095880"/>
            <a:ext cx="7772400" cy="520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 factory on the Volga River, 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0T13:57:42Z</dcterms:modified>
  <cp:revision>8</cp:revision>
  <dc:subject/>
  <dc:title>Volga River</dc:title>
</cp:coreProperties>
</file>