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D63-DCF6-474D-A6FD-9E740F5E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A1A-61B2-4B47-8357-CC646F0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69A-B98E-438F-ACAA-4FFDF234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BB9-F1E5-4956-8BE0-7A6409BE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DE2-4400-4060-B583-26D62678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496-2589-4CF7-98FF-05DE1557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375-263A-4F2F-995D-536B5CEB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535-A584-47F7-8723-037E02A5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649-57E4-442E-AAAC-CEA7BC0F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527-7B40-416A-9126-744A2369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354-5B49-4411-860A-280B02E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43C-AD41-46B7-9947-ED81F9B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94A-F5FD-47CD-91CB-4B8B41ED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CFCLUSTER_TAVOL5_P_SERVER/TAVOL5/TCHADMS/B/BFO10921/eurasia/hei%20in%20russia/collective%20farming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china p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2 – Flows through major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942160"/>
            <a:ext cx="8458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actory that is presently in the Russian city Kazan.  The river flows right through this area of high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7467480" cy="45720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219320"/>
            <a:ext cx="2514600" cy="703800"/>
            <a:chOff x="685800" y="1219320"/>
            <a:chExt cx="2514600" cy="703800"/>
          </a:xfrm>
        </p:grpSpPr>
        <p:sp>
          <p:nvSpPr>
            <p:cNvPr id="72" name=""/>
            <p:cNvSpPr/>
            <p:nvPr/>
          </p:nvSpPr>
          <p:spPr>
            <a:xfrm>
              <a:off x="685800" y="1371600"/>
              <a:ext cx="6094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1219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location of the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20880" y="304920"/>
            <a:ext cx="760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. Modern Pollution – Predict the sour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ollution example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899" t="24489" r="17578" b="5249"/>
          <a:stretch/>
        </p:blipFill>
        <p:spPr>
          <a:xfrm>
            <a:off x="1676520" y="167652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976" r="0" b="25582"/>
          <a:stretch/>
        </p:blipFill>
        <p:spPr>
          <a:xfrm>
            <a:off x="304920" y="3962520"/>
            <a:ext cx="261756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20917" r="0" b="16817"/>
          <a:stretch/>
        </p:blipFill>
        <p:spPr>
          <a:xfrm>
            <a:off x="6553080" y="1143000"/>
            <a:ext cx="20973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495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4 – Collective F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made farming an indus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a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a British University to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Big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Identify the four goals of farming in a developing 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the collective farms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verage collective fa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ollectivization successful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600200"/>
          <a:ext cx="8001000" cy="4724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ARM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p. 364 to define i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did Stalin create collective farm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501880"/>
            <a:ext cx="822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zerzhinsk, Russia, waste from 190 chemicals has turned the groundwater into a dangerous toxic sludge. Life expectancy there is 42 for men and 47 for wom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lain this 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1595800">
            <a:off x="228240" y="228240"/>
            <a:ext cx="8532720" cy="64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03720" y="2666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olg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29600" y="1143000"/>
            <a:ext cx="763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696080" y="182844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029200"/>
            <a:ext cx="2895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elta of th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olga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Looking from space, sometimes the delta will look like a large fan, or maybe the root system of a pl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248520" y="38095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476760" y="297144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62720"/>
            <a:ext cx="54100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diment and Pollution into the Caspi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Caspian Sea is filling up with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ediment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industrial waste!  This image lets us see how the pollution is flowing into the sea from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35232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5120" y="3809520"/>
            <a:ext cx="1600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4419720"/>
            <a:ext cx="259056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80880"/>
            <a:ext cx="441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s is the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uth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of the Volga River (in Russia) as it empties into the Caspian Sea.  The Volga is the largest river system in Europ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99072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Courtesy of NASA Earth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china pic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the Caspian Sea – Fish 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19051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sh kills occur when the temperature increases causing plant growth to increase which sucks the oxygen out of the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analyze three case studies and ultimately create your plan outlining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 the slides below and the available resources to gather research in your noteboo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lides that say read only in the bottom left, just r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 other slides, record the notes and complete all ta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swer all questions in complete sentences so that you do not have to write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Policies of 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they affected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you begin your research answer the questions below use p. 36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conomic system did the Soviet Union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government take control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major goal of the Soviet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1 - Volga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WWWW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the color of the Volga river here in the countryside. Anyone want a s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368" t="999" r="2056" b="3487"/>
          <a:stretch/>
        </p:blipFill>
        <p:spPr>
          <a:xfrm>
            <a:off x="533520" y="152388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6251" t="8489" r="16252" b="287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433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0"/>
            <a:ext cx="1828800" cy="44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North of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ies into the Caspian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200400"/>
            <a:ext cx="3048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big cities are on the Vol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e Volga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216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– Rapid Industri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5880"/>
            <a:ext cx="777240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factory on the Volga River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0T13:57:42Z</dcterms:modified>
  <cp:revision>8</cp:revision>
  <dc:subject/>
  <dc:title>Volga River</dc:title>
</cp:coreProperties>
</file>