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829A-CF65-4275-BD23-523D77966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459B-074B-48EF-A19E-2814AB25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E3BC-AF4A-4E86-80FD-890261B61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6595-0D7F-4A56-AC36-7894190D5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0349-B4E6-4625-9D8D-31CFAC8E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E4EB-28B7-4088-A32D-92EB1256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03AB-F2F6-483A-8609-AEF63D99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9DA1-160C-4D38-9BCF-E90C4E27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E746-F037-42D4-A852-5BFC933E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580D-E1F5-41EC-893A-60A29DF5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8A76-F3EB-419E-8729-4AB84522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99B2-26C3-4C4E-89EE-BEFB3990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BD3B-28BD-4C0E-BDC5-0674AE43E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ews.bbc.co.uk/2/hi/in_depth/world/2004/asia_quake_disaster/default.stm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t.cdc.gov/disasters/tsunamis/healtheff.asp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usatoday.com/news/graphics/tsnumai/flash.htm" TargetMode="External"/><Relationship Id="rId2" Type="http://schemas.openxmlformats.org/officeDocument/2006/relationships/hyperlink" Target="http://www.tsunami2004.net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unami Recovery Plan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unami Recovery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: Create a recovery plan that describes your response to a tsunami in South Asia similar to the 2004 Tsunam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: You work for the International Red Cross.  You must develop a comprehensive plan for a tsunami relief pro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ssignment is divided into 3 s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ction needs the follow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to the analysis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s/strategies as required on the analysis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2 pi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1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aste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2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aster Rel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quirements -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Disaste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plain what caused the tsuna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na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plain the devastation created by the tsun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t least 3 bullets or sentences describing the deva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t least 2 pictures to support your Disaster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Disaster Rel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w do tsunamis affect peop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w would you address their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t least 4 strategies or solutions to address the problems created by the tsuna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t least 2 pictures to support your Disaster Relief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unami Recovery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1 - Use the following sources to analyze the disas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news.bbc.co.uk/2/hi/in_depth/world/2004/asia_quake_disaster/default.s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unami Recovery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2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 the following sources to analyze the aftermath of the disa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t.cdc.gov/disasters/tsunamis/healtheff.a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usatoday.com/news/graphics/tsnumai/flash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tsunami2004.net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hot spot there are a million links on this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2:55:32Z</dcterms:created>
  <dc:creator>CFISD</dc:creator>
  <dc:description/>
  <dc:language>en-US</dc:language>
  <cp:lastModifiedBy>CFISD</cp:lastModifiedBy>
  <dcterms:modified xsi:type="dcterms:W3CDTF">2009-03-11T12:29:34Z</dcterms:modified>
  <cp:revision>6</cp:revision>
  <dc:subject/>
  <dc:title>Slide 1</dc:title>
</cp:coreProperties>
</file>