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993-3836-402E-A306-CE1C5325D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9B22-04BA-43A0-83BF-88B9047C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5F3-4A52-4777-9C9C-DE2AD1BF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2BDE-E6B0-4989-9EF6-8ED10BD3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50FF-E694-49D0-B2DC-5CCFD1EF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B784-AC09-4B22-8D99-B4A42FAF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2BFC-A506-48A7-A5EC-38F7F3CC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4488-3D85-4FE8-86BE-C46C0B73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80C-A19D-4DDD-8605-C17EFADD3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51AD-8459-47D2-B2AE-AA2A0B86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E8AD-2159-426B-84E6-2C785884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9D57-EBB1-4542-8BA1-19FFD00E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CC07A-8AA9-45FA-8918-EFA6E46BF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ws.bbc.co.uk/2/hi/in_depth/world/2004/asia_quake_disaster/default.s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t.cdc.gov/disasters/tsunamis/healtheff.asp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usatoday.com/news/graphics/tsnumai/flash.htm" TargetMode="External"/><Relationship Id="rId2" Type="http://schemas.openxmlformats.org/officeDocument/2006/relationships/hyperlink" Target="http://www.tsunami2004.net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: Create a recovery plan that describes your response to a tsunami in South Asia similar to the 2004 Tsunam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: You work for the International Red Cross.  You must develop a comprehensive plan for a tsunami relief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is divided into 3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ction needs the follow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wer to the analysis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/strategies as required on the analysi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2 pi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aster 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rements -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Disast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what caused the tsun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lain the devastation created by the tsuna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3 bullets or sentences describing the devas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Disaster R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do tsunamis affect peop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w would you address their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4 strategies or solutions to address the problems created by the tsuna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at least 2 pictures to support your Disaster Relief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1 - Use the following sources to analyze the disas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news.bbc.co.uk/2/hi/in_depth/world/2004/asia_quake_disaster/default.s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sunami Recovery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 2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 the following sources to analyze the aftermath of the disa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t.cdc.gov/disasters/tsunamis/healtheff.a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satoday.com/news/graphics/tsnumai/flash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sunami2004.net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hot spot there are a million links on this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2:55:32Z</dcterms:created>
  <dc:creator>CFISD</dc:creator>
  <dc:description/>
  <dc:language>en-US</dc:language>
  <cp:lastModifiedBy>CFISD</cp:lastModifiedBy>
  <dcterms:modified xsi:type="dcterms:W3CDTF">2009-03-11T12:29:34Z</dcterms:modified>
  <cp:revision>6</cp:revision>
  <dc:subject/>
  <dc:title>Slide 1</dc:title>
</cp:coreProperties>
</file>