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EE3-C5FC-472D-9573-A9E57418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7D0-D647-4691-9859-BB717358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0DC2-2870-437E-AD80-0A08EAD1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992A-FC03-46F7-BB13-5B4D19D14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BA98-FD71-4980-A33E-F9DBEFA9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611-5F3B-49E8-A7B9-57D22580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1BF2-5968-4946-99F5-959CC28FA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75B6-5FE3-4EA4-B6B4-AA698A79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50BE-8BB0-44D7-96A5-05A4AB26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5AAC-12B8-49E3-B6A5-5E7FB9B9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3F6A-3881-4E6A-9255-FB288032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2AB-185A-49D2-B3D8-BB617C08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AEB6-051B-47D1-884C-E69C71EE8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s.bbc.co.uk/2/hi/in_depth/world/2004/asia_quake_disaster/default.s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t.cdc.gov/disasters/tsunamis/healtheff.asp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atoday.com/news/graphics/tsnumai/flash.htm" TargetMode="External"/><Relationship Id="rId2" Type="http://schemas.openxmlformats.org/officeDocument/2006/relationships/hyperlink" Target="http://www.tsunami2004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reate a recovery plan that describes your response to a tsunami in South Asia similar to the 2004 Tsunam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You work for the International Red Cross.  You must develop a comprehensive plan for a tsunami relief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is divided into 3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tion needs the follow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o the analysi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/strategies as required on the analys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-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isa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what caused the tsu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the devastation created by the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3 bullets or sentences describing the deva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tsunamis affect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ould you address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Relie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- Use the following sources to analyze the disas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in_depth/world/2004/asia_quake_disaster/default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the following sources to analyze the aftermath of the dis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t.cdc.gov/disasters/tsunamis/healtheff.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today.com/news/graphics/tsnumai/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sunami2004.net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t spot there are a million links on this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55:32Z</dcterms:created>
  <dc:creator>CFISD</dc:creator>
  <dc:description/>
  <dc:language>en-US</dc:language>
  <cp:lastModifiedBy>CFISD</cp:lastModifiedBy>
  <dcterms:modified xsi:type="dcterms:W3CDTF">2009-03-11T12:29:34Z</dcterms:modified>
  <cp:revision>6</cp:revision>
  <dc:subject/>
  <dc:title>Slide 1</dc:title>
</cp:coreProperties>
</file>