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4DB-2FA2-4D89-8B61-3C6AFEB5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F5E-633E-48B4-BE0D-B937F769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EC1-8BFB-4AB2-BF27-1B8BCF0D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257-832D-4139-A640-8632DC9B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243-A072-44B6-9E1B-FDB18D68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F31-5978-426E-989D-E86E5476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84B-4581-43B4-BC71-48030BAE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76E-B56E-4619-854A-C72EE60C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709-334B-480D-9E7B-01A6B14F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97B-A314-4623-AE9C-AFB69C8D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16D-4BFB-4B55-B0CE-7B6DD028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62E-5E15-46F4-BDD1-A56EDD0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6FB1-DF92-4866-8619-CC12C561C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2/hi/in_depth/world/2004/asia_quake_disaster/default.s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.cdc.gov/disasters/tsunamis/healtheff.as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hyperlink" Target="http://www.tsunami2004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South Asia similar to the 2004 Tsun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must develop a comprehensive plan for a tsunami relief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Use the following sources to analyze the disa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in_depth/world/2004/asia_quake_disaster/default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following sources to analyze the aftermath of the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t.cdc.gov/disasters/tsunamis/healtheff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sunami2004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t spot there are a million links on thi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5:32Z</dcterms:created>
  <dc:creator>CFISD</dc:creator>
  <dc:description/>
  <dc:language>en-US</dc:language>
  <cp:lastModifiedBy>CFISD</cp:lastModifiedBy>
  <dcterms:modified xsi:type="dcterms:W3CDTF">2009-03-11T12:29:34Z</dcterms:modified>
  <cp:revision>6</cp:revision>
  <dc:subject/>
  <dc:title>Slide 1</dc:title>
</cp:coreProperties>
</file>