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8F8B-6473-499B-A7CC-C71FDF0E5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6AF8-7CC8-4509-8980-146FA7956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DB8D-4821-4D06-99C5-EE104EFC3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AC54-DCDE-4026-A963-9794EDCC0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F0BC-AD87-4A7B-8293-07CED1E3A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3F1C-647D-465E-9D8D-6B38287CE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FE42-CB7E-4A80-9015-3B43901CD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DB20-289C-4099-A21C-A0B3AC886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AC8D-A0BF-47BC-A12F-CC75F2ED1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7322-C9A2-420E-99F0-6323A06F0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17CF-C903-498E-928C-AABD36A44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CB01-25BB-453C-855A-37F0C14AB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A4D80-8F8A-4868-962B-41D97A34FA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news.bbc.co.uk/2/hi/in_depth/world/2004/asia_quake_disaster/default.stm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bt.cdc.gov/disasters/tsunamis/healtheff.asp" TargetMode="Externa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usatoday.com/news/graphics/tsnumai/flash.htm" TargetMode="External"/><Relationship Id="rId2" Type="http://schemas.openxmlformats.org/officeDocument/2006/relationships/hyperlink" Target="http://www.tsunami2004.net/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sunami Recovery Plan Dir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sunami Recovery 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ions: Create a recovery plan that describes your response to a tsunami in South Asia similar to the 2004 Tsunam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: You work for the International Red Cross.  You must develop a comprehensive plan for a tsunami relief progra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re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ssignment is divided into 3 se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section needs the following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swer to the analysis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s/strategies as required on the analysis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least 2 pic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 1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aster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 2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aster Relie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quirements - Analy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Disaster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xplain what caused the tsunam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nation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xplain the devastation created by the tsuna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 at least 3 bullets or sentences describing the devas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 at least 2 pictures to support your Disaster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Disaster Reli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ow do tsunamis affect peop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ow would you address their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 at least 4 strategies or solutions to address the problems created by the tsunam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 at least 2 pictures to support your Disaster Relief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sunami Recovery 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 1 - Use the following sources to analyze the disas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news.bbc.co.uk/2/hi/in_depth/world/2004/asia_quake_disaster/default.s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sunami Recovery 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 2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Use the following sources to analyze the aftermath of the disas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bt.cdc.gov/disasters/tsunamis/healtheff.a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usatoday.com/news/graphics/tsnumai/flash.h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tsunami2004.net/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hot spot there are a million links on this s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0T12:55:32Z</dcterms:created>
  <dc:creator>CFISD</dc:creator>
  <dc:description/>
  <dc:language>en-US</dc:language>
  <cp:lastModifiedBy>CFISD</cp:lastModifiedBy>
  <dcterms:modified xsi:type="dcterms:W3CDTF">2009-03-11T12:29:34Z</dcterms:modified>
  <cp:revision>6</cp:revision>
  <dc:subject/>
  <dc:title>Slide 1</dc:title>
</cp:coreProperties>
</file>