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CEFE-1C69-4DBB-BFF4-E8C46928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787-32F4-42A6-967F-11F189A9D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15F7-9E84-4904-B75C-7D5C3FC2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67A-6E76-469D-9E32-8E693568E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6073-ABCF-41B8-A7AE-5C3F3BF5C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EE9-83A1-4DB7-A8A8-2D296467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40FE-DD48-443D-A028-3E382D8E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C3BE-10F4-4DB0-910A-4F53CB92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C8A-45CA-47D2-8DC8-634440C1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419F-65DC-44E7-94E2-C5E31B6A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0E70-2800-4C4F-B4FA-01329EFF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6EE-9C38-4646-A3EA-83CDA9F3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ADAD-7856-4541-B15F-F303E39C9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cracy and Immig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152280"/>
            <a:ext cx="81532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type of government (political system) does the United States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ted States is a Democra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j0219098"/>
          <p:cNvPicPr/>
          <p:nvPr/>
        </p:nvPicPr>
        <p:blipFill>
          <a:blip r:embed="rId1"/>
          <a:stretch/>
        </p:blipFill>
        <p:spPr>
          <a:xfrm>
            <a:off x="838080" y="3581280"/>
            <a:ext cx="2041560" cy="2360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j0216548"/>
          <p:cNvPicPr/>
          <p:nvPr/>
        </p:nvPicPr>
        <p:blipFill>
          <a:blip r:embed="rId2"/>
          <a:stretch/>
        </p:blipFill>
        <p:spPr>
          <a:xfrm>
            <a:off x="3733920" y="1066680"/>
            <a:ext cx="2830320" cy="3349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j0282562"/>
          <p:cNvPicPr/>
          <p:nvPr/>
        </p:nvPicPr>
        <p:blipFill>
          <a:blip r:embed="rId3"/>
          <a:stretch/>
        </p:blipFill>
        <p:spPr>
          <a:xfrm>
            <a:off x="6400800" y="2362320"/>
            <a:ext cx="2533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152280" y="228600"/>
            <a:ext cx="8382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ould the government of the United States be a pull factor for people living in a dictatorship or communist countr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ople have freedoms, usually a market economy, and more jo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j0195346"/>
          <p:cNvPicPr/>
          <p:nvPr/>
        </p:nvPicPr>
        <p:blipFill>
          <a:blip r:embed="rId1"/>
          <a:stretch/>
        </p:blipFill>
        <p:spPr>
          <a:xfrm>
            <a:off x="5181480" y="2438280"/>
            <a:ext cx="3500640" cy="2889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38080" y="1981080"/>
            <a:ext cx="3754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 three amendments that draw peopl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1: Freedom of religion, speech, assembly, and pet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4: Freedom from unreasonable searches and seiz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endment 8: Freedom from excessive bail, cruel and unusual punish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3:10:04Z</dcterms:created>
  <dc:creator>cfisd</dc:creator>
  <dc:description/>
  <dc:language>en-US</dc:language>
  <cp:lastModifiedBy>cfisd</cp:lastModifiedBy>
  <dcterms:modified xsi:type="dcterms:W3CDTF">2008-10-23T12:48:17Z</dcterms:modified>
  <cp:revision>3</cp:revision>
  <dc:subject/>
  <dc:title>Democracy and Immigration</dc:title>
</cp:coreProperties>
</file>