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8984-3871-46D8-85EA-376431409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CD5F-0FCA-4D19-9231-391C751A9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8F4A-EFE5-488B-98E7-E0ACC6A64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39AC-EBD2-44FD-B376-8604C9BA5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BA90-EE4D-49CF-91F1-B92A541F5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1626-351C-4460-956C-EDE4EC8BE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F31A-5736-4487-8A03-A2BC28D95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071A-89AE-494A-BA7D-34483683F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30AC-6C5E-4206-BE73-7E62B0E69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C07E-248F-495C-A4FC-72D52F0D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DAD9-58E0-44D8-B5F1-9FB1F38A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9D70-7D75-4367-8C19-0ABBC5485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40F8C-721F-4750-B201-5CE90C11C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cracy and Immi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0" y="152280"/>
            <a:ext cx="8153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type of government (political system) does the United States ha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nited States is a Democra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j0219098"/>
          <p:cNvPicPr/>
          <p:nvPr/>
        </p:nvPicPr>
        <p:blipFill>
          <a:blip r:embed="rId1"/>
          <a:stretch/>
        </p:blipFill>
        <p:spPr>
          <a:xfrm>
            <a:off x="838080" y="3581280"/>
            <a:ext cx="2041560" cy="2360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j0216548"/>
          <p:cNvPicPr/>
          <p:nvPr/>
        </p:nvPicPr>
        <p:blipFill>
          <a:blip r:embed="rId2"/>
          <a:stretch/>
        </p:blipFill>
        <p:spPr>
          <a:xfrm>
            <a:off x="3733920" y="1066680"/>
            <a:ext cx="2830320" cy="3349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j0282562"/>
          <p:cNvPicPr/>
          <p:nvPr/>
        </p:nvPicPr>
        <p:blipFill>
          <a:blip r:embed="rId3"/>
          <a:stretch/>
        </p:blipFill>
        <p:spPr>
          <a:xfrm>
            <a:off x="6400800" y="2362320"/>
            <a:ext cx="25336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152280" y="228600"/>
            <a:ext cx="83822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would the government of the United States be a pull factor for people living in a dictatorship or communist countr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ople have freedoms, usually a market economy, and more job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j0195346"/>
          <p:cNvPicPr/>
          <p:nvPr/>
        </p:nvPicPr>
        <p:blipFill>
          <a:blip r:embed="rId1"/>
          <a:stretch/>
        </p:blipFill>
        <p:spPr>
          <a:xfrm>
            <a:off x="5181480" y="2438280"/>
            <a:ext cx="3500640" cy="2889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38080" y="1981080"/>
            <a:ext cx="37544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 three amendments that draw peopl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ndment 1: Freedom of religion, speech, assembly, and pet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ndment 4: Freedom from unreasonable searches and seiz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ndment 8: Freedom from excessive bail, cruel and unusual punish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3:10:04Z</dcterms:created>
  <dc:creator>cfisd</dc:creator>
  <dc:description/>
  <dc:language>en-US</dc:language>
  <cp:lastModifiedBy>cfisd</cp:lastModifiedBy>
  <dcterms:modified xsi:type="dcterms:W3CDTF">2008-10-23T12:48:17Z</dcterms:modified>
  <cp:revision>3</cp:revision>
  <dc:subject/>
  <dc:title>Democracy and Immigration</dc:title>
</cp:coreProperties>
</file>