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29E7-FAB4-4316-B742-55A16B9EF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3A2-3FD8-4EF2-98F3-ECBF8303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83E-96C8-46A8-85C6-98362D4D4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7B3F-B947-4E59-A86D-6008D2D1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BCB-E3AD-4B86-B90A-BC1CCCC7C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524B-8398-4AB9-A274-5B5239A6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80C-BCE7-4876-B288-46CDDD87D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292-28D5-4430-91DF-92A8DF30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6082-D7CD-4C5D-B869-D7FC34DF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9164-873E-439D-AEB2-CC385065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A66E-88DB-4DFF-B0CB-1F6413F2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776-F79D-43C2-AF14-930EAF07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CDA6-793A-4458-9F7B-0397BFD1A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cy and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15228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ype of government (political system) does the United States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ted States is a Democ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j0219098"/>
          <p:cNvPicPr/>
          <p:nvPr/>
        </p:nvPicPr>
        <p:blipFill>
          <a:blip r:embed="rId1"/>
          <a:stretch/>
        </p:blipFill>
        <p:spPr>
          <a:xfrm>
            <a:off x="838080" y="3581280"/>
            <a:ext cx="2041560" cy="236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j0216548"/>
          <p:cNvPicPr/>
          <p:nvPr/>
        </p:nvPicPr>
        <p:blipFill>
          <a:blip r:embed="rId2"/>
          <a:stretch/>
        </p:blipFill>
        <p:spPr>
          <a:xfrm>
            <a:off x="3733920" y="1066680"/>
            <a:ext cx="2830320" cy="3349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j0282562"/>
          <p:cNvPicPr/>
          <p:nvPr/>
        </p:nvPicPr>
        <p:blipFill>
          <a:blip r:embed="rId3"/>
          <a:stretch/>
        </p:blipFill>
        <p:spPr>
          <a:xfrm>
            <a:off x="6400800" y="2362320"/>
            <a:ext cx="2533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52280" y="228600"/>
            <a:ext cx="8382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the government of the United States be a pull factor for people living in a dictatorship or communist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have freedoms, usually a market economy, and more jo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j0195346"/>
          <p:cNvPicPr/>
          <p:nvPr/>
        </p:nvPicPr>
        <p:blipFill>
          <a:blip r:embed="rId1"/>
          <a:stretch/>
        </p:blipFill>
        <p:spPr>
          <a:xfrm>
            <a:off x="5181480" y="2438280"/>
            <a:ext cx="3500640" cy="288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3754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three amendments that draw peopl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ment 1: Freedom of religion, speech, assembly, and pet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ment 4: Freedom from unreasonable searches and seiz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ment 8: Freedom from excessive bail, cruel and unusual punish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3:10:04Z</dcterms:created>
  <dc:creator>cfisd</dc:creator>
  <dc:description/>
  <dc:language>en-US</dc:language>
  <cp:lastModifiedBy>cfisd</cp:lastModifiedBy>
  <dcterms:modified xsi:type="dcterms:W3CDTF">2008-10-23T12:48:17Z</dcterms:modified>
  <cp:revision>3</cp:revision>
  <dc:subject/>
  <dc:title>Democracy and Immigration</dc:title>
</cp:coreProperties>
</file>