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086-BD52-4824-9256-FF9CD7EA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3CE-E0E1-49CB-A959-812B0EB4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159-A514-42D7-81DC-FD1FB192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375-4A3F-450A-99F2-ED6E0AD3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C08E-0905-44FB-9D49-0576E841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E8A7-AA3C-4A02-9722-6FB4181F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422E-B003-46B2-A86F-69F61D01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D6E8-6BFF-483E-9871-4BCD37F3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7541-55DA-482A-B883-2B361462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849-FA8A-4F2E-A0B9-2D32A017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1A2-EC0E-41C2-A303-3B16D88D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5059-8EF0-4E25-9D70-FAE1B9D4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2FDB-DBEF-4DB8-96FC-0CDAC5E26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cracy and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0" y="152280"/>
            <a:ext cx="815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ype of government (political system) does the United States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ted States is a Democ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j0219098"/>
          <p:cNvPicPr/>
          <p:nvPr/>
        </p:nvPicPr>
        <p:blipFill>
          <a:blip r:embed="rId1"/>
          <a:stretch/>
        </p:blipFill>
        <p:spPr>
          <a:xfrm>
            <a:off x="838080" y="3581280"/>
            <a:ext cx="2041560" cy="2360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j0216548"/>
          <p:cNvPicPr/>
          <p:nvPr/>
        </p:nvPicPr>
        <p:blipFill>
          <a:blip r:embed="rId2"/>
          <a:stretch/>
        </p:blipFill>
        <p:spPr>
          <a:xfrm>
            <a:off x="3733920" y="1066680"/>
            <a:ext cx="2830320" cy="3349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j0282562"/>
          <p:cNvPicPr/>
          <p:nvPr/>
        </p:nvPicPr>
        <p:blipFill>
          <a:blip r:embed="rId3"/>
          <a:stretch/>
        </p:blipFill>
        <p:spPr>
          <a:xfrm>
            <a:off x="6400800" y="2362320"/>
            <a:ext cx="2533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52280" y="228600"/>
            <a:ext cx="8382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ould the government of the United States be a pull factor for people living in a dictatorship or communist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have freedoms, usually a market economy, and more jo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j0195346"/>
          <p:cNvPicPr/>
          <p:nvPr/>
        </p:nvPicPr>
        <p:blipFill>
          <a:blip r:embed="rId1"/>
          <a:stretch/>
        </p:blipFill>
        <p:spPr>
          <a:xfrm>
            <a:off x="5181480" y="2438280"/>
            <a:ext cx="3500640" cy="2889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3754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three amendments that draw peopl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ment 1: Freedom of religion, speech, assembly, and pet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ment 4: Freedom from unreasonable searches and seiz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ment 8: Freedom from excessive bail, cruel and unusual punish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3:10:04Z</dcterms:created>
  <dc:creator>cfisd</dc:creator>
  <dc:description/>
  <dc:language>en-US</dc:language>
  <cp:lastModifiedBy>cfisd</cp:lastModifiedBy>
  <dcterms:modified xsi:type="dcterms:W3CDTF">2008-10-23T12:48:17Z</dcterms:modified>
  <cp:revision>3</cp:revision>
  <dc:subject/>
  <dc:title>Democracy and Immigration</dc:title>
</cp:coreProperties>
</file>