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3C13-465D-438C-A203-98FDB7B87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DFF9-2C76-404B-B9D1-EF914242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DD35-EC89-4FDD-B68E-776CACC31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593B-72DC-4ED8-8DEC-C4C39D87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A1F4-53A1-4564-984B-7DF8F096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52D9-3475-40E5-95A6-9B786993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B79A-268C-43E8-B5D8-FCA50787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F452-BFEC-44C3-AE51-4AEF342C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24B2-62D8-4863-A1D0-51E56651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CA1D-C660-477F-A37D-5E96622E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1E3D-4F63-4489-8DD4-73D0E84A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23CD-3A67-4DF0-9376-6C1FC0C0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5A54-69B9-4955-8DDB-91B77516C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ers use the 5 A’s to study patterns and processe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ati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p. 8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B 5 Themes of Ge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p. 39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B Physical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p. 64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B Climo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990720"/>
            <a:ext cx="9191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ww.orso2ndperiod.wikispaces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p. 83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B Political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p. 91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B Economic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NB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view 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-11. p. 92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B Levels of Economic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 p. 92, very last sent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 p. 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990720"/>
            <a:ext cx="9191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ww.orso2ndperiod.wikispaces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20:16:36Z</dcterms:created>
  <dc:creator>CFISD</dc:creator>
  <dc:description/>
  <dc:language>en-US</dc:language>
  <cp:lastModifiedBy>CFISD</cp:lastModifiedBy>
  <dcterms:modified xsi:type="dcterms:W3CDTF">2008-10-08T22:02:14Z</dcterms:modified>
  <cp:revision>2</cp:revision>
  <dc:subject/>
  <dc:title>Slide 1</dc:title>
</cp:coreProperties>
</file>