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FAF-798C-4181-A6CF-B30DEE98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4E4-36C4-4B85-B5B0-7BC549EE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770-594A-49AF-BD3D-525EB6A1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B455-766A-4145-A5FB-062128BE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B66-A380-4512-9F17-A17E92D94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E0AE-26EB-4EE4-9731-F7D35395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945-C14A-40AE-A604-40E869B3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DFF1-354C-49D7-8D46-22A08FC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CD6-41DB-4036-ADDA-8974846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6931-6095-4919-87AC-EB808D39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B13-7E29-4A9F-9CA1-C311C8AF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9A51-143B-41DB-9F08-D5757CA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3127-E975-4626-A636-60EAD1D40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study patterns and process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ati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. 8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5 Themes of Ge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. 39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hys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. 64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Climo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p. 8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Politica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p. 9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Economic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NB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view Cl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-11. p. 9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B Levels of Econom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. p. 92, very last sent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 p.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90720"/>
            <a:ext cx="9191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ww.orso2ndperiod.wikispaces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20:16:36Z</dcterms:created>
  <dc:creator>CFISD</dc:creator>
  <dc:description/>
  <dc:language>en-US</dc:language>
  <cp:lastModifiedBy>CFISD</cp:lastModifiedBy>
  <dcterms:modified xsi:type="dcterms:W3CDTF">2008-10-08T22:02:14Z</dcterms:modified>
  <cp:revision>2</cp:revision>
  <dc:subject/>
  <dc:title>Slide 1</dc:title>
</cp:coreProperties>
</file>