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13FC-DC58-4175-90C8-622A98D29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021A-D93E-4C6E-9DFE-D4EF74931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41EB-5612-4B9B-8C9C-EEC7D9C9D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36D2-5B5A-4446-9863-ECF84ADED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24DB-1ED3-4A03-BFD3-E8B1EA60B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0C6E-8F22-4775-A77B-027207079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541D-D9E1-45DC-BDFC-04D6D630A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8C46-9073-41EE-AE8D-59AA2A0BD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9A3F-09A2-44BC-A2E1-13FC3EC0C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E7B6-82DB-4D2A-A800-65FA1F020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1223-0087-4893-9E52-732384CBC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BD7E-0BFF-4CC8-B3A4-E852F56B9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FB42B-BB42-452A-A15B-28A8CDE607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Hel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ographers use the 5 A’s to study patterns and processe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patial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p. 8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B 5 Themes of Geogra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p. 39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B Physical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p. 64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B Climograp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0" y="990720"/>
            <a:ext cx="9191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www.orso2ndperiod.wikispaces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p. 83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B Political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 p. 91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B Economic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 NB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view Clo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-11. p. 92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B Levels of Economic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2. p. 92, very last senten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3. p. 9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0" y="990720"/>
            <a:ext cx="9191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www.orso2ndperiod.wikispaces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8T20:16:36Z</dcterms:created>
  <dc:creator>CFISD</dc:creator>
  <dc:description/>
  <dc:language>en-US</dc:language>
  <cp:lastModifiedBy>CFISD</cp:lastModifiedBy>
  <dcterms:modified xsi:type="dcterms:W3CDTF">2008-10-08T22:02:14Z</dcterms:modified>
  <cp:revision>2</cp:revision>
  <dc:subject/>
  <dc:title>Slide 1</dc:title>
</cp:coreProperties>
</file>