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2D55-9A7C-4942-A2BA-2920C8E18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BB05-0DD3-4CEE-AAA1-B621CC19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7941-0B83-4D48-B224-8B0E7D952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CA50-994E-438D-9365-6417F42F1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C114-9B17-475F-A530-F17DBF86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1F3D-2C5A-45BC-BA22-EFA8FE1A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4742-CADB-4822-B041-677834F5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78FC-9682-4D83-A451-0E53F371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DBD7-9CB9-40E6-9E1C-2F54DE3A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CF8A-A132-4D02-8AAF-52A125CE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AACF-08BB-42BB-8609-E8042384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3C71-F367-4E1D-AE20-731486DC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2D4B-C787-47BA-9490-7AF1EBE8C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Hel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ers use the 5 A’s to study patterns and processe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pati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p. 8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B 5 Themes of Ge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p. 39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B Physical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p. 64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B Climo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990720"/>
            <a:ext cx="9191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ww.orso2ndperiod.wikispaces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p. 83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B Political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p. 91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B Economic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NB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view Cl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-11. p. 92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B Levels of Economic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 p. 92, very last sent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 p. 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990720"/>
            <a:ext cx="9191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ww.orso2ndperiod.wikispaces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20:16:36Z</dcterms:created>
  <dc:creator>CFISD</dc:creator>
  <dc:description/>
  <dc:language>en-US</dc:language>
  <cp:lastModifiedBy>CFISD</cp:lastModifiedBy>
  <dcterms:modified xsi:type="dcterms:W3CDTF">2008-10-08T22:02:14Z</dcterms:modified>
  <cp:revision>2</cp:revision>
  <dc:subject/>
  <dc:title>Slide 1</dc:title>
</cp:coreProperties>
</file>