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E4C62-49A9-49FC-9A4A-BB1888FF3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7D039-9B7D-40BA-9067-6C469FAA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2E157-46C0-436D-AFBF-E4E6A9FB0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76FEE-D2E3-4AF0-9939-EDCD9EBE4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7B2F-1F45-4248-AB56-EB87544A3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5533-03A6-4021-BD18-F9DCEAFA3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47B8-69BE-4B78-82DF-F3E70D407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83A1-348B-4EB0-B7CA-AF034BF44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A081A-FCD5-4B54-AA32-EBEC6B9B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6A85-B3CF-4BB9-90F8-F3FC60D4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BE8B-7D34-4291-9583-4B83ACA2B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E5BC-8595-4AF2-8A44-04BEC2910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3252-606A-459C-8670-128B06277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13:16:59Z</dcterms:modified>
  <cp:revision>7</cp:revision>
  <dc:subject/>
  <dc:title>title</dc:title>
</cp:coreProperties>
</file>