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DFB8-673D-4AEF-BFDD-2C6695B4D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C316-7285-4604-BE74-66D4D814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C424-2CAD-4641-9CFF-EF5623EBD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6125-B677-48FB-BA26-04181254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73FD-A945-44D1-8635-5F362A1F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45D7-1DFD-47B1-A7D0-23A32DBE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D076-33E4-4403-9D54-43C8486E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7150-8B7E-49B0-8638-426A2AB5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4293-EFD4-4620-970B-24330ABA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9455-9289-43E4-ACEA-09240EF0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3369-0C56-4B34-B28A-0AC8BCA5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EC63-A456-4EF1-8A72-CE0F68E9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9378-AAEE-46F4-AB0A-34CC6CC45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so Un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ive areas is most likely to flo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 five areas have the least cr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roads and traffic like in the five are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area will be the safest during a hurrica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area has the cheapest l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re any fault lines near the five loc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quire-Floodpl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057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2590920" y="838080"/>
          <a:ext cx="6172200" cy="5359680"/>
        </p:xfrm>
        <a:graphic>
          <a:graphicData uri="http://schemas.openxmlformats.org/drawingml/2006/table">
            <a:tbl>
              <a:tblPr/>
              <a:tblGrid>
                <a:gridCol w="1371600"/>
                <a:gridCol w="1714320"/>
                <a:gridCol w="1542960"/>
                <a:gridCol w="154332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floodpl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-created explanation of floodpl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s of floodplain in Harris Coun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 of potential floo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ley Floodpl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floodplain has creak valleys and the ground is often more sloped then fla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se floodplains are mostly in the Northwestern part of Harris County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looding can last up to a couple days and can also be very dee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River Floodpl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loodplain occurs along a river, and can be very fast and deep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ong the San Jacinto Ri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looding in this area can last for week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llow Floodpl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floodplain occurs when channels reach their limit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se floodplains are present in many areas of Harris County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oding usually lasts for a couple hours, but thousands of business's and homes can be affecte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astal Floodpl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ring a hurricane or an unusually high tide, buildings close to the ground can floo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outheastern part of Harris County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-lying structures near the coast can be affected. Ground subsidence can result in the coastal areas flooding more severely and frequently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en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rainfall exceeds the capacity of ditches and sewers, the water overflows into the streets and can flood homes and building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 kind of flooding is not restricted to any part of Harris County. It can happen anywher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ences not near a bayou or creak can be affected if there is too much rainfal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 Box 50"/>
          <p:cNvSpPr/>
          <p:nvPr/>
        </p:nvSpPr>
        <p:spPr>
          <a:xfrm>
            <a:off x="152280" y="1600200"/>
            <a:ext cx="205740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. What are the three different categories of floods.  Rank them in order from strongest to weak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00 Year Flo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100 Year F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10 Year Fl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quire-Flooding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00200"/>
          <a:ext cx="8229600" cy="45291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floodpl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oding Threat  Lev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yside (La Porte, TX)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328 Bay Area Blvd., Houston, T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Year Floodpl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 Houston (Huffman, TX)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688 FM 1960, Huffman, T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Year Floodpl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. Tomball (Tomball, TX)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9608 Liberty Ln., Tomball, T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of Lowest Ri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wntown East (Houston, TX)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50 Oats Rd., Houston, T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Year Floodpl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wntown Central (Houston, TX)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400 Travis St., Houston, T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of Lowest Ri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quire- Hurricane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276720" y="1600200"/>
          <a:ext cx="5486400" cy="51055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</a:tblGrid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 of hurricane that would require an evac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m surge height that would flood the camp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rricane Threat Le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yside (La Porte, TX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328 Bay Area Blvd., Houston, T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 3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8- 2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 Houston (Huffman, TX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688 FM 1960, Huffman, T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ffec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. Tomball (Tomball, TX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9608 Liberty Ln., Tomball, T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ffec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wntown East (Houston, TX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50 Oats Rd., Houston, T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 4-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wntown Central (Houston, TX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400 Travis St., Houston, T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 Box 96"/>
          <p:cNvSpPr/>
          <p:nvPr/>
        </p:nvSpPr>
        <p:spPr>
          <a:xfrm>
            <a:off x="0" y="1600200"/>
            <a:ext cx="2895480" cy="52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s a storm sur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arge amount of water that hits the coastline where a hurricane is coming throug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y is storm surge such a huge problem in the Gulf of Mexico instead of places like the Atlantic Ocea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lower pressure in the Gulf of Mex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lain the three causes of storm su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low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, water from the ocean is sucked to the middle of the st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rric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and tid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makes storm surge so devastating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surge reaches the coast, it destroys everything in its path, and buildings that aren’t specifically designed to handle a storm surge will get crush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quire- Fault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495680" y="1143000"/>
          <a:ext cx="4267440" cy="5500800"/>
        </p:xfrm>
        <a:graphic>
          <a:graphicData uri="http://schemas.openxmlformats.org/drawingml/2006/table">
            <a:tbl>
              <a:tblPr/>
              <a:tblGrid>
                <a:gridCol w="1752840"/>
                <a:gridCol w="1168200"/>
                <a:gridCol w="134640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ults Nearby (High, Medium, Low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ed Repair Cos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yside (La Porte, TX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328 Bay Area Blvd., Houston, T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p Chann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tlegrou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ll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noli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 Houston (Huffman, TX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688 FM 1960, Huffman, T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. Tomball (Tomball, TX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9608 Liberty Ln., Tomball, T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wntown East (Houston, TX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650 Oats Rd., Houston, T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eka Heights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ial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core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ton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nolia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ttleground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p Channe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wntown Central (Houston, TX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400 Travis St., Houston, TX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eka Heights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ial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core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ton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noli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62"/>
          <p:cNvSpPr/>
          <p:nvPr/>
        </p:nvSpPr>
        <p:spPr>
          <a:xfrm>
            <a:off x="304920" y="1219320"/>
            <a:ext cx="3429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. The images included on the map are examples of which kind of weathering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. How far are Harris County’s faults moving per yea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. How would faults and weathering impact your Universit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1009440"/>
                <a:gridCol w="1009800"/>
                <a:gridCol w="1009440"/>
                <a:gridCol w="10098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# of Rap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# of Murd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me Le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8880" cy="4525920"/>
        </p:xfrm>
        <a:graphic>
          <a:graphicData uri="http://schemas.openxmlformats.org/drawingml/2006/table">
            <a:tbl>
              <a:tblPr/>
              <a:tblGrid>
                <a:gridCol w="4114080"/>
                <a:gridCol w="411480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d Price (per acr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1: Bay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2: NE Hous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3: W Tomb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4: Downtown E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on 5: Downtown Cent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,85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3:08:26Z</dcterms:created>
  <dc:creator>cfisd</dc:creator>
  <dc:description/>
  <dc:language>en-US</dc:language>
  <cp:lastModifiedBy>cfisd</cp:lastModifiedBy>
  <dcterms:modified xsi:type="dcterms:W3CDTF">2008-09-11T13:10:34Z</dcterms:modified>
  <cp:revision>6</cp:revision>
  <dc:subject/>
  <dc:title>title</dc:title>
</cp:coreProperties>
</file>