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CA9-E679-477C-8834-664A981E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03E-9ECB-4776-B0E1-174DBEF9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305-F5EC-4652-B43C-43AD549A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6D0-838F-4542-AF3A-DFCA2761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5C7-6D0D-4F2A-A17A-DB4E315C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4AC-47A8-4555-8CB7-14E5C733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D46-A76F-4394-B4C3-47AC2520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E78-D217-4529-9673-E740D39F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8BB-0A68-4B63-B45E-F258F57F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2A9-9A6B-4C11-B971-95A24E26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5A6-C04F-4607-96A7-7C9699CF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7D1-1DE1-474D-B25C-6E30CDF9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A7A8-C069-4293-B64F-CBF1332EA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so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ive areas is most likely to fl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ive areas have the least cr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roads and traffic like in the five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rea will be the safest during a hurrica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rea has the cheapest l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any fault lines near the five lo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Flood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0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90920" y="838080"/>
          <a:ext cx="6172200" cy="5359680"/>
        </p:xfrm>
        <a:graphic>
          <a:graphicData uri="http://schemas.openxmlformats.org/drawingml/2006/table">
            <a:tbl>
              <a:tblPr/>
              <a:tblGrid>
                <a:gridCol w="1371600"/>
                <a:gridCol w="1714320"/>
                <a:gridCol w="1542960"/>
                <a:gridCol w="15433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-created explanation of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s of floodplain in Harris Coun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potential floo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floodplain has creak valleys and the ground is often more sloped then fl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e floodplains are mostly in the Northwestern part of Harris Count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ing can last up to a couple days and can also be very dee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Rive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plain occurs along a river, and can be very fast and dee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ng the San Jacinto Ri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ing in this area can last for week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ow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floodplain occurs when channels reach their limit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e floodplains are present in many areas of Harris Count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usually lasts for a couple hours, but thousands of business's and homes can be affec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ing a hurricane or an unusually high tide, buildings close to the ground can floo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outheastern part of Harris Count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lying structures near the coast can be affected. Ground subsidence can result in the coastal areas flooding more severely and frequentl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rainfall exceeds the capacity of ditches and sewers, the water overflows into the streets and can flood homes and building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kind of flooding is not restricted to any part of Harris County. It can happen anywher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ces not near a bayou or creak can be affected if there is too much rainfal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50"/>
          <p:cNvSpPr/>
          <p:nvPr/>
        </p:nvSpPr>
        <p:spPr>
          <a:xfrm>
            <a:off x="152280" y="1600200"/>
            <a:ext cx="20574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. What are the three different categories of floods.  Rank them in order from strongest to weak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00 Year Fl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00 Year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10 Year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Flood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Threat 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side (La Porte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328 Bay Area Blvd., Housto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Yea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Houston (Huffman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688 FM 1960, Huffma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Tomball (Tomball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9608 Liberty Ln., Tomball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Lowest 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East (Houston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50 Oats Rd., Housto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Central (Houston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400 Travis St., Housto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Lowest 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 Hurrican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76720" y="1600200"/>
          <a:ext cx="5486400" cy="51055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of hurricane that would require an evac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m surge height that would flood the camp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 Threat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side (La Porte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328 Bay Area Blv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3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8- 2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Houston (Huffma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688 FM 1960, Huffma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ff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Tomball (Tomball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9608 Liberty Ln., Tomball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ff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East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50 Oats R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4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Central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400 Travis St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96"/>
          <p:cNvSpPr/>
          <p:nvPr/>
        </p:nvSpPr>
        <p:spPr>
          <a:xfrm>
            <a:off x="0" y="1600200"/>
            <a:ext cx="289548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 storm su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amount of water that hits the coastline where a hurricane is coming thr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is storm surge such a huge problem in the Gulf of Mexico instead of places like the Atlantic Oc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lower pressure in the Gulf of Mex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ain the three causes of storm su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, water from the ocean is sucked to the middle of the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and tid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makes storm surge so devastating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urge reaches the coast, it destroys everything in its path, and buildings that aren’t specifically designed to handle a storm surge will get crush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 Faul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95680" y="1143000"/>
          <a:ext cx="4267440" cy="5500800"/>
        </p:xfrm>
        <a:graphic>
          <a:graphicData uri="http://schemas.openxmlformats.org/drawingml/2006/table">
            <a:tbl>
              <a:tblPr/>
              <a:tblGrid>
                <a:gridCol w="1752840"/>
                <a:gridCol w="1168200"/>
                <a:gridCol w="13464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ults Nearby (High, Medium, Lo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ed Repair Co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side (La Porte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328 Bay Area Blv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 Chann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grou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l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oli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Houston (Huffma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688 FM 1960, Huffma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Tomball (Tomball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9608 Liberty Ln., Tomball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East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50 Oats R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eka Heights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l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core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to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olia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ground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 Chann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Central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400 Travis St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eka Heights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l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core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to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o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62"/>
          <p:cNvSpPr/>
          <p:nvPr/>
        </p:nvSpPr>
        <p:spPr>
          <a:xfrm>
            <a:off x="304920" y="1219320"/>
            <a:ext cx="3429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. The images included on the map are examples of which kind of weathering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How far are Harris County’s faults moving per ye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 How would faults and weathering impact your Univers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# of Ra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# of Mur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me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080"/>
                <a:gridCol w="4114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Price (per ac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1: Bay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: NE Hous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3: W Tomb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4: Downtown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5: Downtown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8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08:26Z</dcterms:created>
  <dc:creator>cfisd</dc:creator>
  <dc:description/>
  <dc:language>en-US</dc:language>
  <cp:lastModifiedBy>cfisd</cp:lastModifiedBy>
  <dcterms:modified xsi:type="dcterms:W3CDTF">2008-09-11T13:10:34Z</dcterms:modified>
  <cp:revision>6</cp:revision>
  <dc:subject/>
  <dc:title>title</dc:title>
</cp:coreProperties>
</file>