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94E1-6850-4BC6-A539-0FF73C7AE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EF4-84EA-4CDF-9091-CB838FDEE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16D-3109-4713-B1A9-58F10DC1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286-F582-414E-A2C0-441B45E3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C303-87EE-45F2-8450-41863798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CB6F-3FA8-4C57-866F-FCDE0B7AC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B574-4159-4132-8B3D-1783BC23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F87-F845-41B5-86B5-172B7C0E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5FC-9588-4357-8B28-CE8AEB3F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443-360D-43C1-B04E-6302507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A55C-747C-43A9-B532-C75F342E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4C1-7721-4E75-B0DB-E3501C16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2710-170D-421F-8281-0F1DBEE84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so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is most likely to f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have the least cr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oads and traffic like in the five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will be the safest during a hurrica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has the cheapes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fault lines near the five lo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90920" y="838080"/>
          <a:ext cx="6172200" cy="5359680"/>
        </p:xfrm>
        <a:graphic>
          <a:graphicData uri="http://schemas.openxmlformats.org/drawingml/2006/table">
            <a:tbl>
              <a:tblPr/>
              <a:tblGrid>
                <a:gridCol w="1371600"/>
                <a:gridCol w="1714320"/>
                <a:gridCol w="1542960"/>
                <a:gridCol w="1543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has creak valleys and the ground is often more sloped then fl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mostly in the Northwe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can last up to a couple days and can also be very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occurs along a river, and can be very fast and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ng the San Jacinto R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in this area can last for week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occurs when channels reach their limi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present in many areas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usually lasts for a couple hours, but thousands of business's and homes can be 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a hurricane or an unusually high tide, buildings close to the ground can floo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uthea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lying structures near the coast can be affected. Ground subsidence can result in the coastal areas flooding more severely and frequentl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rainfall exceeds the capacity of ditches and sewers, the water overflows into the streets and can flood homes and building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kind of flooding is not restricted to any part of Harris County. It can happen anywhe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ces not near a bayou or creak can be affected if there is too much rainfal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50"/>
          <p:cNvSpPr/>
          <p:nvPr/>
        </p:nvSpPr>
        <p:spPr>
          <a:xfrm>
            <a:off x="152280" y="160020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 What are the three different categories of floods.  Rank them in order from strongest to weak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00 Year F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0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Hurrican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6720" y="1600200"/>
          <a:ext cx="5486400" cy="5105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3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- 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4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96"/>
          <p:cNvSpPr/>
          <p:nvPr/>
        </p:nvSpPr>
        <p:spPr>
          <a:xfrm>
            <a:off x="0" y="1600200"/>
            <a:ext cx="28954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 storm su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amount of water that hits the coastline where a hurricane is coming thr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is storm surge such a huge problem in the Gulf of Mexico instead of places like the Atlantic Oc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lower pressure in the Gulf of Mex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ain the three causes of storm su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, water from the ocean is sucked to the middle of the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and tid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makes storm surge so devastating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urge reaches the coast, it destroys everything in its path, and buildings that aren’t specifically designed to handle a storm surge will get crush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Faul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95680" y="1143000"/>
          <a:ext cx="4267440" cy="5500800"/>
        </p:xfrm>
        <a:graphic>
          <a:graphicData uri="http://schemas.openxmlformats.org/drawingml/2006/table">
            <a:tbl>
              <a:tblPr/>
              <a:tblGrid>
                <a:gridCol w="1752840"/>
                <a:gridCol w="1168200"/>
                <a:gridCol w="1346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s Nearby (High, Medium, Lo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Repair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62"/>
          <p:cNvSpPr/>
          <p:nvPr/>
        </p:nvSpPr>
        <p:spPr>
          <a:xfrm>
            <a:off x="304920" y="1219320"/>
            <a:ext cx="3429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 The images included on the map are examples of which kind of weathering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How far are Harris County’s faults moving per ye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 How would faults and weathering impact your Univers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Ra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Mur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me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08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Price (per ac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1: Bay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: NE 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3: W Tomb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4: Downtown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5: Downtown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8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08:26Z</dcterms:created>
  <dc:creator>cfisd</dc:creator>
  <dc:description/>
  <dc:language>en-US</dc:language>
  <cp:lastModifiedBy>cfisd</cp:lastModifiedBy>
  <dcterms:modified xsi:type="dcterms:W3CDTF">2008-09-11T13:10:34Z</dcterms:modified>
  <cp:revision>6</cp:revision>
  <dc:subject/>
  <dc:title>title</dc:title>
</cp:coreProperties>
</file>