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F7A7D-D7F1-4AB6-AC00-B9ECCCFED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590E-BCB8-4308-9DD6-4A5CD6BD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444B7-76FA-40F2-9A57-DA9F64BF5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9DEF5-9851-46FE-BA2E-B3EF3AD8A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62249-CE03-497E-961B-15324206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5DF41-B783-415A-9E7A-EAAB24D63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FB07-0897-4767-B219-A65AEA2F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31DFF-9607-4F43-BDC9-A2695A0AB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C165-AB8E-48F1-9A9F-BAF82B82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3B2D7-982A-42B9-AF97-8524D7934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F118-FBC9-438E-ABCF-6B449E071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0719-FC52-49BB-B840-637FACF74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8E97-5F07-4DB2-857D-B2BC0BFED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75240"/>
        </p:xfrm>
        <a:graphic>
          <a:graphicData uri="http://schemas.openxmlformats.org/drawingml/2006/table">
            <a:tbl>
              <a:tblPr/>
              <a:tblGrid>
                <a:gridCol w="2095560"/>
                <a:gridCol w="2095560"/>
                <a:gridCol w="2095560"/>
                <a:gridCol w="2095560"/>
              </a:tblGrid>
              <a:tr h="48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8160" cy="4525920"/>
        </p:xfrm>
        <a:graphic>
          <a:graphicData uri="http://schemas.openxmlformats.org/drawingml/2006/table">
            <a:tbl>
              <a:tblPr/>
              <a:tblGrid>
                <a:gridCol w="411336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457200" y="1523880"/>
          <a:ext cx="8229600" cy="4638960"/>
        </p:xfrm>
        <a:graphic>
          <a:graphicData uri="http://schemas.openxmlformats.org/drawingml/2006/table">
            <a:tbl>
              <a:tblPr/>
              <a:tblGrid>
                <a:gridCol w="2057400"/>
                <a:gridCol w="2057400"/>
                <a:gridCol w="2057400"/>
                <a:gridCol w="2057400"/>
              </a:tblGrid>
              <a:tr h="129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
          <p:cNvSpPr/>
          <p:nvPr/>
        </p:nvSpPr>
        <p:spPr>
          <a:xfrm>
            <a:off x="533520" y="152388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n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7672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9" name=""/>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2760" cy="5762520"/>
        </p:xfrm>
        <a:graphic>
          <a:graphicData uri="http://schemas.openxmlformats.org/drawingml/2006/table">
            <a:tbl>
              <a:tblPr/>
              <a:tblGrid>
                <a:gridCol w="219060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08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35440"/>
        </p:xfrm>
        <a:graphic>
          <a:graphicData uri="http://schemas.openxmlformats.org/drawingml/2006/table">
            <a:tbl>
              <a:tblPr/>
              <a:tblGrid>
                <a:gridCol w="2152800"/>
                <a:gridCol w="2192400"/>
                <a:gridCol w="2112840"/>
                <a:gridCol w="2152800"/>
              </a:tblGrid>
              <a:tr h="62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097160"/>
        </p:xfrm>
        <a:graphic>
          <a:graphicData uri="http://schemas.openxmlformats.org/drawingml/2006/table">
            <a:tbl>
              <a:tblPr/>
              <a:tblGrid>
                <a:gridCol w="2870280"/>
                <a:gridCol w="2921040"/>
                <a:gridCol w="2819520"/>
              </a:tblGrid>
              <a:tr h="94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09-30T12:22:47Z</dcterms:modified>
  <cp:revision>11</cp:revision>
  <dc:subject/>
  <dc:title>Thinking like a Geographer</dc:title>
</cp:coreProperties>
</file>