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31F0B-7FE2-4076-82EA-C55F97853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91790-AEB0-419B-907B-B4AF21F1F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1FBA0-EAC8-4BAF-89C9-77FCD48FD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6889F-DC72-44CB-AB88-A78BA3E03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107A9-DC5A-467D-8969-A47777BA9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66303-DCCE-413B-9790-391D2AC11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CFA2E-649E-4343-B3F3-D00FFDF03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76836-1553-4A07-AB7F-ECC173CD8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31621-21D4-4E50-A1CE-8F58D091F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42FC1-16C0-45F5-B429-24D6DB1D2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FB355-30B1-4257-AA62-41CCFAF15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C31F3-AED6-4BA2-867B-91123A06E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491A-214A-4EC6-8227-5F03016880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like a Geograph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y Luo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305280"/>
            <a:ext cx="50292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a:t>
            </a:r>
            <a:endParaRPr b="0" lang="en-US" sz="4400" spc="-1" strike="noStrike">
              <a:solidFill>
                <a:srgbClr val="000000"/>
              </a:solidFill>
              <a:latin typeface="Arial"/>
            </a:endParaRPr>
          </a:p>
        </p:txBody>
      </p:sp>
      <p:graphicFrame>
        <p:nvGraphicFramePr>
          <p:cNvPr id="66" name=""/>
          <p:cNvGraphicFramePr/>
          <p:nvPr/>
        </p:nvGraphicFramePr>
        <p:xfrm>
          <a:off x="152280" y="685800"/>
          <a:ext cx="8382240" cy="4575240"/>
        </p:xfrm>
        <a:graphic>
          <a:graphicData uri="http://schemas.openxmlformats.org/drawingml/2006/table">
            <a:tbl>
              <a:tblPr/>
              <a:tblGrid>
                <a:gridCol w="2095560"/>
                <a:gridCol w="2095560"/>
                <a:gridCol w="2095560"/>
                <a:gridCol w="2095560"/>
              </a:tblGrid>
              <a:tr h="48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Rap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Mur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152280" y="5410080"/>
            <a:ext cx="5715000" cy="187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Give three examples of layers that you could add to this map that would provide additional information about the crime level in each area.  Do not use additional crimes for your answer, credit will not be give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aw enforcement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ocal hospitals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gang activity and “ghetto” neighborhoods in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readily available firearms available in the area/Amount of known firearm owners in that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Continued </a:t>
            </a:r>
            <a:endParaRPr b="0" lang="en-US" sz="4400" spc="-1" strike="noStrike">
              <a:solidFill>
                <a:srgbClr val="000000"/>
              </a:solidFill>
              <a:latin typeface="Arial"/>
            </a:endParaRPr>
          </a:p>
        </p:txBody>
      </p:sp>
      <p:sp>
        <p:nvSpPr>
          <p:cNvPr id="69" name=""/>
          <p:cNvSpPr/>
          <p:nvPr/>
        </p:nvSpPr>
        <p:spPr>
          <a:xfrm>
            <a:off x="0" y="990720"/>
            <a:ext cx="7238880" cy="128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crime data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crime levels, students may or not want to attend that college as the chances of getting raped or murdered incr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5280"/>
            <a:ext cx="30477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 prices</a:t>
            </a:r>
            <a:endParaRPr b="0" lang="en-US" sz="4000" spc="-1" strike="noStrike">
              <a:solidFill>
                <a:srgbClr val="000000"/>
              </a:solidFill>
              <a:latin typeface="Arial"/>
            </a:endParaRPr>
          </a:p>
        </p:txBody>
      </p:sp>
      <p:graphicFrame>
        <p:nvGraphicFramePr>
          <p:cNvPr id="71" name=""/>
          <p:cNvGraphicFramePr/>
          <p:nvPr/>
        </p:nvGraphicFramePr>
        <p:xfrm>
          <a:off x="152280" y="762120"/>
          <a:ext cx="8228160" cy="4525920"/>
        </p:xfrm>
        <a:graphic>
          <a:graphicData uri="http://schemas.openxmlformats.org/drawingml/2006/table">
            <a:tbl>
              <a:tblPr/>
              <a:tblGrid>
                <a:gridCol w="411336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52280" y="5334120"/>
            <a:ext cx="6248520" cy="11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land prices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expensive the land is, space will be limited to the budget and tuition fees may be higher or lower depending on the cost of the land and the students might have a problem paying the fe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formation-Analysis </a:t>
            </a:r>
            <a:endParaRPr b="0" lang="en-US" sz="4400" spc="-1" strike="noStrike">
              <a:solidFill>
                <a:srgbClr val="000000"/>
              </a:solidFill>
              <a:latin typeface="Arial"/>
            </a:endParaRPr>
          </a:p>
        </p:txBody>
      </p:sp>
      <p:graphicFrame>
        <p:nvGraphicFramePr>
          <p:cNvPr id="74" name=""/>
          <p:cNvGraphicFramePr/>
          <p:nvPr/>
        </p:nvGraphicFramePr>
        <p:xfrm>
          <a:off x="457200" y="1523880"/>
          <a:ext cx="8229600" cy="4638960"/>
        </p:xfrm>
        <a:graphic>
          <a:graphicData uri="http://schemas.openxmlformats.org/drawingml/2006/table">
            <a:tbl>
              <a:tblPr/>
              <a:tblGrid>
                <a:gridCol w="2057400"/>
                <a:gridCol w="2057400"/>
                <a:gridCol w="2057400"/>
                <a:gridCol w="2057400"/>
              </a:tblGrid>
              <a:tr h="1295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ources of infor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how the source would be benef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most from your sour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least from your sourc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out of highways and roa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an easy way to get to school without much traff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firemen/ ambulances available at any given ti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feel saf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1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cery stores, bars, and gas stations around the are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buy food to eat and bars for their own entertainme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Conclusion</a:t>
            </a:r>
            <a:endParaRPr b="0" lang="en-US" sz="4400" spc="-1" strike="noStrike">
              <a:solidFill>
                <a:srgbClr val="000000"/>
              </a:solidFill>
              <a:latin typeface="Arial"/>
            </a:endParaRPr>
          </a:p>
        </p:txBody>
      </p:sp>
      <p:sp>
        <p:nvSpPr>
          <p:cNvPr id="76" name=""/>
          <p:cNvSpPr/>
          <p:nvPr/>
        </p:nvSpPr>
        <p:spPr>
          <a:xfrm>
            <a:off x="533520" y="1523880"/>
            <a:ext cx="7086600" cy="38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Crime data- Students need to be and feel saf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Floodplains- A university can’t shut down operation every time a minor storm comes and floods everything, it needs to be away from floodplai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Hurricane storm surge and potential damage-A university needs to be able to withstand a hurricane when it happe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Watersheds-Students and university owners need to know if they’re in a water shed and the potential of flood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Fault data and mechanical weathering-A university can’t be built on major fault lines that would put the building at risk for damage and destru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Land prices-Students need to be able to afford tuition costs and dorm co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impor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n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27672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79" name=""/>
          <p:cNvSpPr/>
          <p:nvPr/>
        </p:nvSpPr>
        <p:spPr>
          <a:xfrm>
            <a:off x="228600" y="685800"/>
            <a:ext cx="7238880" cy="4680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id I put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Houston (Huffman, TX) </a:t>
            </a:r>
            <a:r>
              <a:rPr b="0" lang="en-US" sz="2000" spc="-1" strike="noStrike">
                <a:solidFill>
                  <a:srgbClr val="000000"/>
                </a:solidFill>
                <a:latin typeface="Wingdings"/>
                <a:ea typeface="Wingdings"/>
              </a:rPr>
              <a:t></a:t>
            </a:r>
            <a:r>
              <a:rPr b="0" lang="en-US" sz="2000" spc="-1" strike="noStrike">
                <a:solidFill>
                  <a:srgbClr val="000000"/>
                </a:solidFill>
                <a:latin typeface="Arial"/>
              </a:rPr>
              <a:t> 12688 FM 1960, Huffman, 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threat isn’t too 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affected by hurricane evacuations or many hurricanes in that ma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only one small fault close to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ve been no murders or rapes in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nd is very cheap, being the cheapest out of every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nces of a hurricane hitting there? What are the chances of floo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nditions of the soil and ground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lose to a fault is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buildings are there? Is it a major city with a lot of buildings or more of a rural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ther college choices are there around in the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the climate like in tha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a:t>
            </a:r>
            <a:endParaRPr b="0" lang="en-US" sz="4400" spc="-1" strike="noStrike">
              <a:solidFill>
                <a:srgbClr val="000000"/>
              </a:solidFill>
              <a:latin typeface="Arial"/>
            </a:endParaRPr>
          </a:p>
        </p:txBody>
      </p:sp>
      <p:sp>
        <p:nvSpPr>
          <p:cNvPr id="46" name="Text Box 5"/>
          <p:cNvSpPr/>
          <p:nvPr/>
        </p:nvSpPr>
        <p:spPr>
          <a:xfrm>
            <a:off x="457200" y="1447920"/>
            <a:ext cx="8534520" cy="39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ve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loodplain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atershed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ault data and mechanical weather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urricane storm surge and potential dam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and pric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rime dat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a:t>
            </a:r>
            <a:endParaRPr b="0" lang="en-US" sz="4400" spc="-1" strike="noStrike">
              <a:solidFill>
                <a:srgbClr val="000000"/>
              </a:solidFill>
              <a:latin typeface="Arial"/>
            </a:endParaRPr>
          </a:p>
        </p:txBody>
      </p:sp>
      <p:graphicFrame>
        <p:nvGraphicFramePr>
          <p:cNvPr id="48" name=""/>
          <p:cNvGraphicFramePr/>
          <p:nvPr/>
        </p:nvGraphicFramePr>
        <p:xfrm>
          <a:off x="152280" y="762120"/>
          <a:ext cx="8762760" cy="5762520"/>
        </p:xfrm>
        <a:graphic>
          <a:graphicData uri="http://schemas.openxmlformats.org/drawingml/2006/table">
            <a:tbl>
              <a:tblPr/>
              <a:tblGrid>
                <a:gridCol w="2190600"/>
                <a:gridCol w="2190600"/>
                <a:gridCol w="2190960"/>
                <a:gridCol w="2190600"/>
              </a:tblGrid>
              <a:tr h="7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s of floodplain in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where the ground is deep and flooding can stay for a few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portion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valley may fill and overflow causing maj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8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plain is large and deep. It moves fast and flooding can last a week or mo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river may overflow causing severe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floodplain exceeds its capacity, it will overflow causing flooding that will last only hou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round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channel may overflow causing min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on the coast that when unusually high tides or hurricanes surge waves onto the coast flooding low build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high tides or hurricanes surge big waves and flood low lying buildin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579132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 Continued</a:t>
            </a:r>
            <a:endParaRPr b="0" lang="en-US" sz="4400" spc="-1" strike="noStrike">
              <a:solidFill>
                <a:srgbClr val="000000"/>
              </a:solidFill>
              <a:latin typeface="Arial"/>
            </a:endParaRPr>
          </a:p>
        </p:txBody>
      </p:sp>
      <p:sp>
        <p:nvSpPr>
          <p:cNvPr id="50" name="Text Box 134"/>
          <p:cNvSpPr/>
          <p:nvPr/>
        </p:nvSpPr>
        <p:spPr>
          <a:xfrm flipV="1" rot="10800000">
            <a:off x="-360" y="9907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three categories of floods?</a:t>
            </a:r>
            <a:endParaRPr b="0" lang="en-US" sz="2000" spc="-1" strike="noStrike">
              <a:solidFill>
                <a:srgbClr val="000000"/>
              </a:solidFill>
              <a:latin typeface="Arial"/>
            </a:endParaRPr>
          </a:p>
        </p:txBody>
      </p:sp>
      <p:sp>
        <p:nvSpPr>
          <p:cNvPr id="51" name="Text Box 101"/>
          <p:cNvSpPr/>
          <p:nvPr/>
        </p:nvSpPr>
        <p:spPr>
          <a:xfrm>
            <a:off x="0" y="1371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st to weakest: 10 year, 100 year, 500 year</a:t>
            </a:r>
            <a:endParaRPr b="0" lang="en-US" sz="1400" spc="-1" strike="noStrike">
              <a:solidFill>
                <a:srgbClr val="000000"/>
              </a:solidFill>
              <a:latin typeface="Arial"/>
            </a:endParaRPr>
          </a:p>
        </p:txBody>
      </p:sp>
      <p:sp>
        <p:nvSpPr>
          <p:cNvPr id="52" name=""/>
          <p:cNvSpPr/>
          <p:nvPr/>
        </p:nvSpPr>
        <p:spPr>
          <a:xfrm>
            <a:off x="152280" y="1981080"/>
            <a:ext cx="60199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0" y="1752480"/>
            <a:ext cx="6781680" cy="158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 floodplain situation</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think a coastal floodplain would be the worst situation. Just look at Galveston and all the coastal areas after Ike. Storm surges affect the coastal plains most and the surges bulldoze anything in their path leaving total destruction. The clean up would take quite a bit of time and a lot of money. The destruction would also leaves thousands, if not, millions of people homeless and leave them with nothing. People would have to find new jobs, and kids would have to transfer schools.</a:t>
            </a:r>
            <a:endParaRPr b="0" lang="en-US" sz="1200" spc="-1" strike="noStrike">
              <a:solidFill>
                <a:srgbClr val="000000"/>
              </a:solidFill>
              <a:latin typeface="Arial"/>
            </a:endParaRPr>
          </a:p>
        </p:txBody>
      </p:sp>
      <p:sp>
        <p:nvSpPr>
          <p:cNvPr id="54" name=""/>
          <p:cNvSpPr/>
          <p:nvPr/>
        </p:nvSpPr>
        <p:spPr>
          <a:xfrm>
            <a:off x="0" y="3352680"/>
            <a:ext cx="5638680" cy="23360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worst</a:t>
            </a:r>
            <a:endParaRPr b="0" lang="en-US" sz="20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floodplain- when it floods, it is just a small flood that lasts no more than a few hours to a day with usually no damage.</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ley floodplain- when it floods, It just overflows and stays for a few days.</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river floodplain- flooding along the river will cause higher levels of water eroding the soil surrounding the river. Flooding lasts around a week.</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stal floodplains- wave surges would completely destroy everything in it’s pathway depending on the storm strength. </a:t>
            </a:r>
            <a:endParaRPr b="0" lang="en-US" sz="1200" spc="-1" strike="noStrike">
              <a:solidFill>
                <a:srgbClr val="000000"/>
              </a:solidFill>
              <a:latin typeface="Arial"/>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sheds</a:t>
            </a:r>
            <a:endParaRPr b="0" lang="en-US" sz="4400" spc="-1" strike="noStrike">
              <a:solidFill>
                <a:srgbClr val="000000"/>
              </a:solidFill>
              <a:latin typeface="Arial"/>
            </a:endParaRPr>
          </a:p>
        </p:txBody>
      </p:sp>
      <p:graphicFrame>
        <p:nvGraphicFramePr>
          <p:cNvPr id="56" name=""/>
          <p:cNvGraphicFramePr/>
          <p:nvPr/>
        </p:nvGraphicFramePr>
        <p:xfrm>
          <a:off x="304920" y="1066680"/>
          <a:ext cx="8229600" cy="4560840"/>
        </p:xfrm>
        <a:graphic>
          <a:graphicData uri="http://schemas.openxmlformats.org/drawingml/2006/table">
            <a:tbl>
              <a:tblPr/>
              <a:tblGrid>
                <a:gridCol w="2057400"/>
                <a:gridCol w="2057400"/>
                <a:gridCol w="2057400"/>
                <a:gridCol w="2057400"/>
              </a:tblGrid>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dar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4784760"/>
            <a:ext cx="914400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arge dome of water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lf of Mexico instead of places like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m surge is a huge problem in the Gulf of Mexico because of oil drilling and cities like New Orleans being below sea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unusually high and low pressure during a hurricane. The low pressure sucks in the water towards the middle of the storm. The high pressure pushes the water down and creates the bubble of wa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ves act like a giant bulldozer and take down anything in their path.</a:t>
            </a:r>
            <a:endParaRPr b="0" lang="en-US" sz="1000" spc="-1" strike="noStrike">
              <a:solidFill>
                <a:srgbClr val="000000"/>
              </a:solidFill>
              <a:latin typeface="Arial"/>
            </a:endParaRPr>
          </a:p>
        </p:txBody>
      </p:sp>
      <p:graphicFrame>
        <p:nvGraphicFramePr>
          <p:cNvPr id="58" name=""/>
          <p:cNvGraphicFramePr/>
          <p:nvPr/>
        </p:nvGraphicFramePr>
        <p:xfrm>
          <a:off x="152280" y="914400"/>
          <a:ext cx="8610840" cy="3835440"/>
        </p:xfrm>
        <a:graphic>
          <a:graphicData uri="http://schemas.openxmlformats.org/drawingml/2006/table">
            <a:tbl>
              <a:tblPr/>
              <a:tblGrid>
                <a:gridCol w="2152800"/>
                <a:gridCol w="2192400"/>
                <a:gridCol w="2112840"/>
                <a:gridCol w="2152800"/>
              </a:tblGrid>
              <a:tr h="62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of hurricane that would require an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height that would flood the camp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PlaceHolder 1"/>
          <p:cNvSpPr>
            <a:spLocks noGrp="1"/>
          </p:cNvSpPr>
          <p:nvPr>
            <p:ph type="title"/>
          </p:nvPr>
        </p:nvSpPr>
        <p:spPr>
          <a:xfrm>
            <a:off x="0" y="0"/>
            <a:ext cx="373392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rrican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76880" y="-360"/>
            <a:ext cx="586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Data</a:t>
            </a:r>
            <a:endParaRPr b="0" lang="en-US" sz="4000" spc="-1" strike="noStrike">
              <a:solidFill>
                <a:srgbClr val="000000"/>
              </a:solidFill>
              <a:latin typeface="Arial"/>
            </a:endParaRPr>
          </a:p>
        </p:txBody>
      </p:sp>
      <p:graphicFrame>
        <p:nvGraphicFramePr>
          <p:cNvPr id="61" name=""/>
          <p:cNvGraphicFramePr/>
          <p:nvPr/>
        </p:nvGraphicFramePr>
        <p:xfrm>
          <a:off x="152280" y="762120"/>
          <a:ext cx="8610840" cy="4097160"/>
        </p:xfrm>
        <a:graphic>
          <a:graphicData uri="http://schemas.openxmlformats.org/drawingml/2006/table">
            <a:tbl>
              <a:tblPr/>
              <a:tblGrid>
                <a:gridCol w="2870280"/>
                <a:gridCol w="2921040"/>
                <a:gridCol w="2819520"/>
              </a:tblGrid>
              <a:tr h="948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Ship Channel, Battleground, Pelly, Magnoli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ureka Heights, Magnolia, Pecore, Clinton, Memorial, Battleground, Ship Chann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Clinton, Memorial, Pecore, Eureka Heights, Magno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0" y="5029200"/>
            <a:ext cx="9448920" cy="161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Physical Weathe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to 0.8 inches per ye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s would form and get larger destroying the building if the cracks formed in vital areas and higher chances of earthquakes near faults.</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Data Continued</a:t>
            </a:r>
            <a:endParaRPr b="0" lang="en-US" sz="4400" spc="-1" strike="noStrike">
              <a:solidFill>
                <a:srgbClr val="000000"/>
              </a:solidFill>
              <a:latin typeface="Arial"/>
            </a:endParaRPr>
          </a:p>
        </p:txBody>
      </p:sp>
      <p:sp>
        <p:nvSpPr>
          <p:cNvPr id="64" name=""/>
          <p:cNvSpPr/>
          <p:nvPr/>
        </p:nvSpPr>
        <p:spPr>
          <a:xfrm>
            <a:off x="0" y="990720"/>
            <a:ext cx="9144000" cy="439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problems do you anticipate from the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faults there are, more risk for damage and more costly to rep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locations in order from worst to best based on your analysis of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your ranking for each individual 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t is in the middle of a lot of various faults and will be at mos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It is close to many various faults and will be at medium ri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It is also close to a lot of faults, not as many, and will be at medium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It is close to only one minor fault and is at very low a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It is isolated from any fault and is at no risk for damage from faul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many faults are close by, the risk of damage, the Board of Directors may not want to build in a certain area because there are too many faults and is too high of risk of damage and investors may not want to invest because if a fault destroys a building they lose mon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1:41Z</dcterms:created>
  <dc:creator>CFISD</dc:creator>
  <dc:description/>
  <dc:language>en-US</dc:language>
  <cp:lastModifiedBy>CFISD</cp:lastModifiedBy>
  <dcterms:modified xsi:type="dcterms:W3CDTF">2008-09-30T12:22:47Z</dcterms:modified>
  <cp:revision>11</cp:revision>
  <dc:subject/>
  <dc:title>Thinking like a Geographer</dc:title>
</cp:coreProperties>
</file>