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2C3-D0E7-49E8-ABD1-0CEA5008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A91-E640-4FF1-89B1-42CE300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7AB-2B19-4809-9370-81E704F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7D5-7678-47BB-8328-4FD63336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C3-FA12-4BC1-AB8D-5BDCEAD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1D7-64F4-4F7B-9EF1-6F2FAA32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526-575F-417E-A665-CA5E136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B7C-12F7-4757-94CA-ACADE997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469-C5ED-48E1-843C-1ECB581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5BD-6194-4F7C-B87D-80EEED6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0DE-CDF3-4394-B8D1-91ACB80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218-6B46-46E6-9FB7-A454DD4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D57B-4946-4E5F-B3DE-266158FA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49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589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11T13:10:25Z</dcterms:modified>
  <cp:revision>4</cp:revision>
  <dc:subject/>
  <dc:title>Thinking like a Geographer</dc:title>
</cp:coreProperties>
</file>