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1112-8E70-4931-96FF-44AB0092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A68-95C9-400A-AA20-D0B583BA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372-E4A4-434A-AAE0-CA92CDC8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AFA-6BB2-46D8-8965-7BA548D4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AFDE-7C1D-4710-BEFB-2334746B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747-9E09-45A7-B632-B6417F61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F01F-EF79-4640-BC56-B55ABDF6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FF57-AA18-4635-A548-AAFD5C3BE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BCDF-FA39-4ACD-9511-45C938C2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11D-630E-4144-9845-930A5D36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3E8-25F0-4F40-A43A-05CBFA80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AA2-5DDF-4885-8ADB-5CA6284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A2F-7BFF-433A-A899-623AEFF69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499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589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11T13:10:25Z</dcterms:modified>
  <cp:revision>4</cp:revision>
  <dc:subject/>
  <dc:title>Thinking like a Geographer</dc:title>
</cp:coreProperties>
</file>