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527F-9BB0-4F97-A282-1CDEA713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2F02-488A-45A3-ACF1-994F499A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B4EB-34D6-4953-8716-AE1C19AD1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E88A-29B6-422A-A7D6-F43F2E9F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58CF-17B6-485B-A49F-FDCB2489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5644-59DC-4408-B40B-7E9D6AB5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C97-11F4-4E29-B703-10E467F8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D696-3F6E-4F8A-8D02-2A8223BC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83D7-9B9B-484B-A857-0BC74652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7A2A-B165-4CB5-A1CF-0D43C5B9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7C97-0A75-4A35-82D7-D1FA99F4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459E-10C1-4B22-AE4F-51D67CD1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24E7-F572-4709-8143-52FB77F9A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like a Geogra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y Lu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so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nces of a hurricane hitting there? What are the chances of floo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onditions of the soil and ground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lose to a faul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buildings are there? Is it a major city with a lot of buildings or more of a rural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other college choices are there around in the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e climate like in that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57200" y="1447920"/>
            <a:ext cx="853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loodpl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tersh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ault data and mechanical weath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urricane storm surge and potential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d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Crim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762120"/>
          <a:ext cx="7391520" cy="574992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  <a:gridCol w="1847880"/>
                <a:gridCol w="184788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-created explanation of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s of floodplain in Harris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of potential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y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loodplain where the ground is deep and flooding can stay for a few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west portion of Harris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valley may fill and overflow causing major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Rive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loodplain is large and deep. It moves fast and flooding can last a week or mor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Jacinto R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river may overflow causing severe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llow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the floodplain exceeds its capacity, it will overflow causing flooding that will last only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ound the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channel may overflow causing minor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stal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loodplain on the coast that when unusually high tides or hurricanes surge waves onto the coast flooding low buil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the co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high tides or hurricanes surge big waves and flood low lying buil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134"/>
          <p:cNvSpPr/>
          <p:nvPr/>
        </p:nvSpPr>
        <p:spPr>
          <a:xfrm flipV="1" rot="10800000">
            <a:off x="7619760" y="-36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three categories of floo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1371600"/>
            <a:ext cx="1523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on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ak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sh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066680"/>
          <a:ext cx="8229600" cy="4589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s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oding Threat 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2:51:41Z</dcterms:created>
  <dc:creator>CFISD</dc:creator>
  <dc:description/>
  <dc:language>en-US</dc:language>
  <cp:lastModifiedBy>cfisd</cp:lastModifiedBy>
  <dcterms:modified xsi:type="dcterms:W3CDTF">2008-09-11T13:10:25Z</dcterms:modified>
  <cp:revision>4</cp:revision>
  <dc:subject/>
  <dc:title>Thinking like a Geographer</dc:title>
</cp:coreProperties>
</file>