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9B27-CE10-4011-85F4-B03D997C1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8614-5096-4936-9B5A-51708B275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6265-5EAE-4619-9AE7-054B86985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EC75-65DD-48F9-86CF-68ACD13A2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D769-75D7-435C-8324-3F7311D54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8EA8-CA79-45F9-B6D3-4340E2295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ACB9-18E4-487D-85A9-6D488761A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0418-7261-4173-A266-73EEDBE9E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8448-DC21-4A50-9D8F-35EC78B0B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5E42-EC6B-4CBF-AE2E-6A09D9C3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B054-CE4D-4258-A971-744B57F4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82C6-B7BA-47A7-9E7F-FE70857F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23489-23E6-4D9E-B323-6AD53BA88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king like a Geogra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ry Lu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so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chances of a hurricane hitting there? What are the chances of flood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conditions of the soil and ground the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lose to a fault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kind of buildings are there? Is it a major city with a lot of buildings or more of a rural are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other college choices are there around in the are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is the climate like in that are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qu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457200" y="1447920"/>
            <a:ext cx="85345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ledge 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Floodpl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Watersh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Fault data and mechanical weath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Hurricane storm surge and potential da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Land pr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Crim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odpl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280" y="762120"/>
          <a:ext cx="7391520" cy="5749920"/>
        </p:xfrm>
        <a:graphic>
          <a:graphicData uri="http://schemas.openxmlformats.org/drawingml/2006/table">
            <a:tbl>
              <a:tblPr/>
              <a:tblGrid>
                <a:gridCol w="1847880"/>
                <a:gridCol w="1847880"/>
                <a:gridCol w="1847880"/>
                <a:gridCol w="1847880"/>
              </a:tblGrid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 of floodpl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-created explanation of floodpl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s of floodplain in Harris Coun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nation of potential floo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ley Floodpl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floodplain where the ground is deep and flooding can stay for a few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west portion of Harris Coun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it rains, the valley may fill and overflow causing major floo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 River Floodpl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floodplain is large and deep. It moves fast and flooding can last a week or mor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 Jacinto Riv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it rains, the river may overflow causing severe floo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llow Floodpl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the floodplain exceeds its capacity, it will overflow causing flooding that will last only hou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around the coun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it rains, the channel may overflow causing minor floo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astal Floodpl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floodplain on the coast that when unusually high tides or hurricanes surge waves onto the coast flooding low buildin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the co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high tides or hurricanes surge big waves and flood low lying buildin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Text Box 134"/>
          <p:cNvSpPr/>
          <p:nvPr/>
        </p:nvSpPr>
        <p:spPr>
          <a:xfrm flipV="1" rot="10800000">
            <a:off x="7619760" y="-360"/>
            <a:ext cx="1523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three categories of flood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20120" y="1371600"/>
            <a:ext cx="15238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ong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ak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0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sh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04920" y="1066680"/>
          <a:ext cx="8229600" cy="45896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 of floodpla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sh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ooding Threat  Lev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12:51:41Z</dcterms:created>
  <dc:creator>CFISD</dc:creator>
  <dc:description/>
  <dc:language>en-US</dc:language>
  <cp:lastModifiedBy>cfisd</cp:lastModifiedBy>
  <dcterms:modified xsi:type="dcterms:W3CDTF">2008-09-11T13:10:25Z</dcterms:modified>
  <cp:revision>4</cp:revision>
  <dc:subject/>
  <dc:title>Thinking like a Geographer</dc:title>
</cp:coreProperties>
</file>