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418-3211-43E6-A6CC-9057B970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D9C-F83F-425F-A5D8-7D896ABD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75B-0BF7-42DB-94F7-FC665917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BEC4-2ECF-440B-BE86-BB8303B1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BD3F-CC38-4FBB-9021-2DA61C13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AB48-9BE0-4370-8CD5-4BD77AFF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6D8-E33A-477C-A7F6-6527E9654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46CC-442C-420B-900F-FF4A3D7E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9A4-5869-4238-AAC0-445F5A09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308-527A-4F97-A070-C6EEA52F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09D-FC31-4D35-BC46-1D52AA87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A7F7-6C9E-40EB-82E0-38BCB20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4B79-4EDA-48EE-8D48-83CA2F8B9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45720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: Analyze, Arrange, and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you did not acquire crime data and land price data return to part one, those directions were recently added to that fi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800600" y="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- Click “Slide Show” then “View Show” to view the power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links and files will not work unless you complete step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 – These are your project directions, complete all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1: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ach location and its corresponding floodplain creates a different flooding scenario.  Which floodplain creates the worst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the floodplains in order from best to worst based on your analysi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your ranking for each individual location/floodpl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2: Flooding and Hurrica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columns that were previously left blank on the Flooding and Hurricane sections of the Acquire section. Fill in the columns with one of the following grades: A – No risk, B – Low risk, C – Medium risk, D – High risk, F – Very High risk.  You may assign multiple A’s, B’s, etc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3: Faul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ypes of problems do you anticipate from the fault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 the locations in order from worst to best based on your analysis of faul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individual lo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 4: Crime Data and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crime data will affect the recruitment of futur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land prices will affect the recruitment of future stud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how the Board of Directors and investors will respond to both sets of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: Other Sources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sources of information would need to be considered to truly complete this project in a real-life scenari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3 other sources of information that would assist in thi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how each source of information would be benefici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 which location would benefit the most from the results of this data collection and which location would benefit the leas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48320" y="1600200"/>
          <a:ext cx="4038480" cy="31147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sources of 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how the source would be benefi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most from your sour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 that would likely benefit the least from your source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6: 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data that you collected (and is listed on the right) which data set do you feel is most important to your decision-making process.  Rank the six data sets in order from most influential to least influential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your ranking for each exampl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loodpl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Watersh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ult data and mechanical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urricane storm surge and potenti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r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the data set that you feel is most important and arrange it.  You may create a graph of any kind, thematic map, Google Earth tour, or see me if you have another ide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necessary labels and ensure that your product is accurate.  You must include each of the 5 locations in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0021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you put i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uild it for extra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86200" y="3809880"/>
            <a:ext cx="1687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6T19:35:25Z</dcterms:created>
  <dc:creator>cfisd</dc:creator>
  <dc:description/>
  <dc:language>en-US</dc:language>
  <cp:lastModifiedBy>cfisd</cp:lastModifiedBy>
  <dcterms:modified xsi:type="dcterms:W3CDTF">2008-09-11T03:47:38Z</dcterms:modified>
  <cp:revision>40</cp:revision>
  <dc:subject/>
  <dc:title>Thinking Like a Geographer Project</dc:title>
</cp:coreProperties>
</file>