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F94-C042-4E98-9E29-B3F77391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865-3DE2-447C-A4A5-823C8584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0EC-C198-4C83-A02A-FC6AC708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43B-DB0B-4CD7-B369-D13037F1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8C4-AA27-4E1C-B194-85AEEFFD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85F-3BFF-4725-833D-5AC4B8FE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0058-48BA-49F2-93F2-C1CDCD95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4B9-E5CF-48AF-9E85-65A52C46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35C-72B7-48AF-9027-FB65AF79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456-C7AC-4B5C-A133-9E52452A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1F7-568B-44D3-B2FA-9257A354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572-9EBA-46AA-A160-8891EB4B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7FAD-474A-418B-B105-EE587B285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Geographe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: Analyze, Arrange, and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you did not acquire crime data and land price data return to part one, those directions were recently added to that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800600" y="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- Click “Slide Show” then “View Show” to view the power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inks and files will not work unless you complete step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These are your project directions, complete al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Flood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ach location and its corresponding floodplain creates a different flooding scenario.  Which floodplain creates the worst situ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the floodplains in order from best to worst based on your analysi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your ranking for each individual location/flood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Flooding and Hurrica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columns that were previously left blank on the Flooding and Hurricane sections of the Acquire section. Fill in the columns with one of the following grades: A – No risk, B – Low risk, C – Medium risk, D – High risk, F – Very High risk.  You may assign multiple A’s, B’s, et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Faul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problems do you anticipate from the fault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 the locations in order from worst to best based on your analysis of faul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your ranking for each individu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4: Crime Data and L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crime data will affect the recruitment of futur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land prices will affect the recruitment of future stud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how the Board of Directors and investors will respond to both sets of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5: Other Sources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sources of information would need to be considered to truly complete this project in a real-life scenari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3 other sources of information that would assist in thi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each source of information would be benefi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 which location would benefit the most from the results of this data collection and which location would benefit the le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48320" y="1600200"/>
          <a:ext cx="4038480" cy="31147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sources of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how the source would be benefi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that would likely benefit the most from your sour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that would likely benefit the least from your sourc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6: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data that you collected (and is listed on the right) which data set do you feel is most important to your decision-making process.  Rank the six data sets in order from most influential to least influenti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your ranking for each examp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loodpl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ault data and mechanical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urricane storm surge and potenti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d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rim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the data set that you feel is most important and arrange it.  You may create a graph of any kind, thematic map, Google Earth tour, or see me if you have another ide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necessary labels and ensure that your product is accurate.  You must include each of the 5 locations in you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you put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uild it for extra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86200" y="3809880"/>
            <a:ext cx="168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9:35:25Z</dcterms:created>
  <dc:creator>cfisd</dc:creator>
  <dc:description/>
  <dc:language>en-US</dc:language>
  <cp:lastModifiedBy>cfisd</cp:lastModifiedBy>
  <dcterms:modified xsi:type="dcterms:W3CDTF">2008-09-11T03:47:38Z</dcterms:modified>
  <cp:revision>40</cp:revision>
  <dc:subject/>
  <dc:title>Thinking Like a Geographer Project</dc:title>
</cp:coreProperties>
</file>