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DF0-7719-4BEF-9732-07AC53F3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4E1-ED36-4E9A-8D1D-453EB423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897-095A-490C-B87D-5B72632D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FEE4-CE48-4EFB-A190-CD0E2126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7921-5BC4-4015-94C1-F4A71D02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C7C-4ED3-4F27-9352-A9635A11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5B7-BA4D-43DE-A5F0-38BC175A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EF7-9432-484B-A328-0D545F6B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EB5-AD46-4E15-9E9C-B33A76D7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1D7-E874-43DA-B14E-1633E7F0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F31-5AF0-4E97-953E-D0E101C9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990-531B-4A9F-BD9D-287A77CC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88A2-62F8-4AD8-823C-B91BED785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Like a Geographe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: Analyze, Arrange, and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you did not acquire crime data and land price data return to part one, those directions were recently added to that f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800600" y="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- Click “Slide Show” then “View Show” to view the power poi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inks and files will not work unless you complete step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These are your project directions, complete al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Flood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ach location and its corresponding floodplain creates a different flooding scenario.  Which floodplain creates the worst situ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 the floodplains in order from best to worst based on your analysi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your ranking for each individual location/flood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 Flooding and Hurrican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columns that were previously left blank on the Flooding and Hurricane sections of the Acquire section. Fill in the columns with one of the following grades: A – No risk, B – Low risk, C – Medium risk, D – High risk, F – Very High risk.  You may assign multiple A’s, B’s, et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: Faul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s of problems do you anticipate from the fault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 the locations in order from worst to best based on your analysis of faul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your ranking for each individu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4: Crime Data and Lan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crime data will affect the recruitment of futur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land prices will affect the recruitment of future stud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how the Board of Directors and investors will respond to both sets of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5: Other Sources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sources of information would need to be considered to truly complete this project in a real-life scenari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3 other sources of information that would assist in thi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each source of information would be benefi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 which location would benefit the most from the results of this data collection and which location would benefit the le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48320" y="1600200"/>
          <a:ext cx="4038480" cy="31147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sources of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how the source would be benefi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 that would likely benefit the most from your sour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 that would likely benefit the least from your sourc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6: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data that you collected (and is listed on the right) which data set do you feel is most important to your decision-making process.  Rank the six data sets in order from most influential to least influentia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your ranking for each exampl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loodpl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atersh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ault data and mechanical 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urricane storm surge and potenti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nd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rim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the data set that you feel is most important and arrange it.  You may create a graph of any kind, thematic map, Google Earth tour, or see me if you have another ide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ll necessary labels and ensure that your product is accurate.  You must include each of the 5 locations in your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d you put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uild it for extra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86200" y="3809880"/>
            <a:ext cx="168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9:35:25Z</dcterms:created>
  <dc:creator>cfisd</dc:creator>
  <dc:description/>
  <dc:language>en-US</dc:language>
  <cp:lastModifiedBy>cfisd</cp:lastModifiedBy>
  <dcterms:modified xsi:type="dcterms:W3CDTF">2008-09-11T03:47:38Z</dcterms:modified>
  <cp:revision>40</cp:revision>
  <dc:subject/>
  <dc:title>Thinking Like a Geographer Project</dc:title>
</cp:coreProperties>
</file>