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47E44-E260-4081-8ED2-3F93442B5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20102-3011-41C0-BC15-F42D2A233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23BCB-7620-4567-9BAE-2C8CB57FD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24EFD-C072-4632-9A3C-8BDDB45CA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28CC3-7B05-410A-9DBE-41626D0D8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27886-02E3-47E6-80E0-41BE65497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E1679-80CE-4A73-8644-4D29D2CAA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5C8AC-8FC1-43E5-B52A-F4ECA5751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A4782-9FA5-47E8-B7B9-02F10C1A1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919CD-1E83-4D7E-892F-98FB0E837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27CB8-6683-4567-9607-C2305D99F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908DE-DB6C-4062-953C-089F61D04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5002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40F08-05DE-4827-AB3A-806202A3F0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5002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590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nking Like a Geographer Pro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800" y="4572000"/>
            <a:ext cx="784872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 2: Analyze, Arrange, and App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p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f you did not acquire crime data and land price data return to part one, those directions were recently added to that fi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4800600" y="0"/>
            <a:ext cx="4343400" cy="2442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p 1 - Click “Slide Show” then “View Show” to view the power poin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links and files will not work unless you complete step 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p 2 – These are your project directions, complete all tas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5002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alyz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p 1: Floodpla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Each location and its corresponding floodplain creates a different flooding scenario.  Which floodplain creates the worst situation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k the floodplains in order from best to worst based on your analysi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lain your ranking for each individual location/floodpla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5002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alyz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ep 2: Flooding and Hurrican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te the columns that were previously left blank on the Flooding and Hurricane sections of the Acquire section. Fill in the columns with one of the following grades: A – No risk, B – Low risk, C – Medium risk, D – High risk, F – Very High risk.  You may assign multiple A’s, B’s, etc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ep 3: Fault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types of problems do you anticipate from the fault dat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k the locations in order from worst to best based on your analysis of fault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your ranking for each individual lo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5002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alyz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p 4: Crime Data and Land Pr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lain how crime data will affect the recruitment of future stud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lain how land prices will affect the recruitment of future student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dict how the Board of Directors and investors will respond to both sets of dat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5002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alyz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520" y="1218960"/>
            <a:ext cx="403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ep 5: Other Sources of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 sources of information would need to be considered to truly complete this project in a real-life scenario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y 3 other sources of information that would assist in this proces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lain how each source of information would be beneficial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dict which location would benefit the most from the results of this data collection and which location would benefit the leas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4648320" y="1600200"/>
          <a:ext cx="4038480" cy="3114720"/>
        </p:xfrm>
        <a:graphic>
          <a:graphicData uri="http://schemas.openxmlformats.org/drawingml/2006/table">
            <a:tbl>
              <a:tblPr/>
              <a:tblGrid>
                <a:gridCol w="1009440"/>
                <a:gridCol w="1009800"/>
                <a:gridCol w="1009440"/>
                <a:gridCol w="1009800"/>
              </a:tblGrid>
              <a:tr h="85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ther sources of inform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lanation of how the source would be benefici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cation that would likely benefit the most from your source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cation that would likely benefit the least from your source.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5002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alyz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3848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ep 6: Concl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the data that you collected (and is listed on the right) which data set do you feel is most important to your decision-making process.  Rank the six data sets in order from most influential to least influential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your ranking for each example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05520" y="1600200"/>
            <a:ext cx="358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Floodpla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Watersh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Fault data and mechanical weath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Hurricane storm surge and potential dam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Land pr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Crim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5002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r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ick the data set that you feel is most important and arrange it.  You may create a graph of any kind, thematic map, Google Earth tour, or see me if you have another idea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lude all necessary labels and ensure that your product is accurate.  You must include each of the 5 locations in your produ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5002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pp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did you put it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 build it for extra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886200" y="3809880"/>
            <a:ext cx="168768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6T19:35:25Z</dcterms:created>
  <dc:creator>cfisd</dc:creator>
  <dc:description/>
  <dc:language>en-US</dc:language>
  <cp:lastModifiedBy>cfisd</cp:lastModifiedBy>
  <dcterms:modified xsi:type="dcterms:W3CDTF">2008-09-11T03:47:38Z</dcterms:modified>
  <cp:revision>40</cp:revision>
  <dc:subject/>
  <dc:title>Thinking Like a Geographer Project</dc:title>
</cp:coreProperties>
</file>