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ADED-CA32-4E92-B78B-A48ED22B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EA83-5789-48A9-B3BA-0B1E3BD1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87D5-898F-44CB-9F8F-AB655A1A3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597C-2F45-4764-86BB-CA059233E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44AD-FCBF-41A0-B134-577B38F9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3190-CA87-439A-A7D5-6BBE7743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CBEF-0E0A-42FF-B951-F5A571CC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4429-4720-4E6E-81C0-95DFF169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28A2-C62F-43CE-B78E-DB24E1DB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26E9-039B-4A69-96A9-88B4CD6A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CDF5-6799-4AE7-85E4-9AB1E661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1809-43E2-4A9B-9864-0337704A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E258-CA65-4D76-BD84-C90F6EF1F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Like a Geographer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45720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2: Analyze, Arrange, and A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you did not acquire crime data and land price data return to part one, those directions were recently added to that fi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800600" y="0"/>
            <a:ext cx="4343400" cy="24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 - Click “Slide Show” then “View Show” to view the power poi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links and files will not work unless you complete step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 – These are your project directions, complete all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1: Floodpl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Each location and its corresponding floodplain creates a different flooding scenario.  Which floodplain creates the worst situ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k the floodplains in order from best to worst based on your analysi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your ranking for each individual location/floodpl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2: Flooding and Hurrican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the columns that were previously left blank on the Flooding and Hurricane sections of the Acquire section. Fill in the columns with one of the following grades: A – No risk, B – Low risk, C – Medium risk, D – High risk, F – Very High risk.  You may assign multiple A’s, B’s, etc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3: Faul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ypes of problems do you anticipate from the fault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k the locations in order from worst to best based on your analysis of fault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your ranking for each individual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4: Crime Data and Land 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crime data will affect the recruitment of future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land prices will affect the recruitment of future stud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 how the Board of Directors and investors will respond to both sets of da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z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03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5: Other Sources of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sources of information would need to be considered to truly complete this project in a real-life scenario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3 other sources of information that would assist in thi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how each source of information would be benefici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 which location would benefit the most from the results of this data collection and which location would benefit the lea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648320" y="1600200"/>
          <a:ext cx="4038480" cy="31147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sources of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 of how the source would be benefi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 that would likely benefit the most from your sourc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 that would likely benefit the least from your source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6: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data that you collected (and is listed on the right) which data set do you feel is most important to your decision-making process.  Rank the six data sets in order from most influential to least influential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your ranking for each exampl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Floodpl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Watersh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Fault data and mechanical weath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urricane storm surge and potential 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and p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rim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the data set that you feel is most important and arrange it.  You may create a graph of any kind, thematic map, Google Earth tour, or see me if you have another ide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ll necessary labels and ensure that your product is accurate.  You must include each of the 5 locations in your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id you put 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uild it for extra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86200" y="3809880"/>
            <a:ext cx="1687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6T19:35:25Z</dcterms:created>
  <dc:creator>cfisd</dc:creator>
  <dc:description/>
  <dc:language>en-US</dc:language>
  <cp:lastModifiedBy>cfisd</cp:lastModifiedBy>
  <dcterms:modified xsi:type="dcterms:W3CDTF">2008-09-11T03:47:38Z</dcterms:modified>
  <cp:revision>40</cp:revision>
  <dc:subject/>
  <dc:title>Thinking Like a Geographer Project</dc:title>
</cp:coreProperties>
</file>