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699-39EF-4AFA-8990-C8ACD0F5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F7C-AB0C-4E93-B739-F71F1245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E05-2722-41B1-9A34-8911BAE4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855-97C8-4049-B661-33EEF04C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457-6C3B-4F72-96E5-EA71EB92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7D3-185F-4E5B-9EB7-6993DD84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43F-F8AF-4622-B7D3-1E1542AA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05A-8268-4B0E-B9E4-543B417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968-298C-4137-A3FA-49DAF40B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B25-9DC9-499C-9073-56AE206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E53-BA3B-40F9-8206-F0953BC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3EC-75EA-4D3F-A506-375106A0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19A8-DF03-4F30-8D9D-499CE7E12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: Analyze, Arrange, and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did not acquire crime data and land price data return to part one, those directions were recently added to that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800600" y="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- Click “Slide Show” then “View Show” to view the power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inks and files will not work unless you complete step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These are your project directions, complete al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ach location and its corresponding floodplain creates a different flooding scenario.  Which floodplain creates the worst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the floodplains in order from best to worst based on your analys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your ranking for each individual location/flood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Flooding and Hurrica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columns that were previously left blank on the Flooding and Hurricane sections of the Acquire section. Fill in the columns with one of the following grades: A – No risk, B – Low risk, C – Medium risk, D – High risk, F – Very High risk.  You may assign multiple A’s, B’s,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Faul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problems do you anticipate from the faul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the locations in order from worst to best based on your analysis of faul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individu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4: Crime Data and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rime data will affect the recruitment of futur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land prices will affect the recruitment of future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how the Board of Directors and investors will respond to both sets of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: Other Sour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ources of information would need to be considered to truly complete this project in a real-life scenari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3 other sources of information that would assist in thi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each source of information would be bene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ich location would benefit the most from the results of this data collection and which location would benefit the le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600200"/>
          <a:ext cx="4038480" cy="31147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sources of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how the source would be benefi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most from your sour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least from your sourc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: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data that you collected (and is listed on the right) which data set do you feel is most important to your decision-making process.  Rank the six data sets in order from most influential to least influenti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oodpl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ult data and mechanical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urricane storm surge and potenti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data set that you feel is most important and arrange it.  You may create a graph of any kind, thematic map, Google Earth tour, or see me if you have another id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necessary labels and ensure that your product is accurate.  You must include each of the 5 locations in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you put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uild it for extra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68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9:35:25Z</dcterms:created>
  <dc:creator>cfisd</dc:creator>
  <dc:description/>
  <dc:language>en-US</dc:language>
  <cp:lastModifiedBy>cfisd</cp:lastModifiedBy>
  <dcterms:modified xsi:type="dcterms:W3CDTF">2008-09-11T03:47:38Z</dcterms:modified>
  <cp:revision>40</cp:revision>
  <dc:subject/>
  <dc:title>Thinking Like a Geographer Project</dc:title>
</cp:coreProperties>
</file>