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38C-245A-4D20-92FA-5C61424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682-B2D1-48CC-9BC0-C8B82648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768-1BC4-469E-A450-E8D5A693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923-BC56-4DC6-A358-D3A51F8C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0FA-83EF-4E9E-9A3A-9F9FC34E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007-BB63-4881-83AE-8F9433F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80C0-B1AB-4347-9BCF-92D9DDFE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539-14AC-4384-A4E0-324CF8D1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26D-AA88-4C4E-AEA0-15D76EAF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8BA-E0CE-4AB7-8BC8-1FFD8D2F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A6C-2F92-469E-AFAB-09396190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38F3-56E2-45B3-8AFD-4C42C66B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1A03-01FC-40C6-BC37-360D9B1AF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.bbc.co.uk/2/hi/asia-pacific/country_profiles/1131421.stm" TargetMode="External"/><Relationship Id="rId3" Type="http://schemas.openxmlformats.org/officeDocument/2006/relationships/hyperlink" Target="http://news.bbc.co.uk/2/hi/middle_east/country_profiles/791936.stmt" TargetMode="External"/><Relationship Id="rId4" Type="http://schemas.openxmlformats.org/officeDocument/2006/relationships/hyperlink" Target="http://news.bbc.co.uk/2/hi/europe/country_profiles/1038758.stm" TargetMode="External"/><Relationship Id="rId5" Type="http://schemas.openxmlformats.org/officeDocument/2006/relationships/hyperlink" Target="http://news.bbc.co.uk/2/hi/americas/country_profiles/1203299.stm" TargetMode="External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295280"/>
          <a:ext cx="8229600" cy="482940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ground: You have been hired by the CIA to conduct an information gathering exercise about a country under surveillanc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information about your assigned country using the links on the next sl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 Create a poster that includes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Explanation of their political system (p. 8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Posi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Negative Characteristics of their politica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Picture that represents the characteristic that you feel is most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influences i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country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mber is responsible for teaching the other members of their group the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your meeting in the following w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olitical expert has 3 minutes to teach the other members of his/her 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embers should complete all columns of their chart while learning from the political expe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the following in the country analysis column of your ch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Conclus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e sentence. (short and swe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Explanation of how the nation’s political syste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s its citize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xplanation of how the political system influences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ry’s relationships with other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North Kore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Dictatorship (Commu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udi Arab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Absolute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ted Kingd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– Constitutional Mon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ub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y based on man-made cre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457200"/>
            <a:ext cx="56390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New Unit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developed as a response to people living in a “State of Natu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Nature” concept developed by Hobbe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ia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60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7200" y="2819520"/>
            <a:ext cx="4495680" cy="38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5867280" y="4495680"/>
          <a:ext cx="66996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4495680"/>
                    <a:ext cx="6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9400" y="464832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8077320" y="4800600"/>
            <a:ext cx="814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difference between political systems and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– the control and administration of public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– the 4 choices for running your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– What is the “government” structure of Cy-Rid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52280" y="990720"/>
          <a:ext cx="8763120" cy="556200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72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2280" y="990720"/>
          <a:ext cx="8763120" cy="287316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381400"/>
                <a:gridCol w="21906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emocr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Expla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ITIZENS hold political power, either directly or through elected representa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haracteristi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a democ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920" y="4419720"/>
            <a:ext cx="19047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Voting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191120" y="4572000"/>
            <a:ext cx="3733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presentative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80880" y="5943600"/>
            <a:ext cx="2457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Freedo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029200" y="5257800"/>
            <a:ext cx="398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ee Market Econom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62320" y="5105520"/>
            <a:ext cx="215244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ivil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62520" y="6019920"/>
            <a:ext cx="3286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ajority Ru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990720"/>
          <a:ext cx="8763120" cy="3259080"/>
        </p:xfrm>
        <a:graphic>
          <a:graphicData uri="http://schemas.openxmlformats.org/drawingml/2006/table">
            <a:tbl>
              <a:tblPr/>
              <a:tblGrid>
                <a:gridCol w="2057400"/>
                <a:gridCol w="2133720"/>
                <a:gridCol w="2286000"/>
                <a:gridCol w="2286000"/>
              </a:tblGrid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racter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Democra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IZENS hold political power, either directly or through elected representativ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,  Majority Rule,  Freedoms,  Civil Rights,   Representatives,  Free Market Econ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S believes in providing their citizens and support democracy worldwide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5T12:28:23Z</dcterms:modified>
  <cp:revision>27</cp:revision>
  <dc:subject/>
  <dc:title>Human Geography</dc:title>
</cp:coreProperties>
</file>