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EDE-AD84-42D9-96A2-1F609789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CFA-566A-41FC-9E05-3E268EEE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5F1-0992-4248-9E90-668AF961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230-DB92-4E2E-AB29-0D6D4C64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F39-6382-4360-8274-1662689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145-3922-45F8-BDCC-57F9688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76B-96D9-409F-AFD8-7E7D09ED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D52-A426-4FB6-8FB0-7A2D5AAE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2EF-577E-47EE-BB82-B8D3F7EC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F8E-128F-4E43-A12A-56CBBDC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F04-E7D5-4E4D-9C89-ADCE7DB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71D-CFB0-45B2-8F83-9C9CB83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42F-9B43-4550-8AED-3513B6AF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sia-pacific/country_profiles/1131421.stm" TargetMode="External"/><Relationship Id="rId3" Type="http://schemas.openxmlformats.org/officeDocument/2006/relationships/hyperlink" Target="http://news.bbc.co.uk/2/hi/middle_east/country_profiles/791936.stmt" TargetMode="External"/><Relationship Id="rId4" Type="http://schemas.openxmlformats.org/officeDocument/2006/relationships/hyperlink" Target="http://news.bbc.co.uk/2/hi/europe/country_profiles/1038758.stm" TargetMode="External"/><Relationship Id="rId5" Type="http://schemas.openxmlformats.org/officeDocument/2006/relationships/hyperlink" Target="http://news.bbc.co.uk/2/hi/americas/country_profiles/1203299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95280"/>
          <a:ext cx="8229600" cy="482940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: You have been hired by the CIA to conduct an information gathering exercise about a country under surveill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nformation about your assigned country using the links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Create a poster that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their political system (p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osi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ega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icture that represents the characteristic that you feel is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influences 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country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mber is responsible for teaching the other members of their group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 meeting in the following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litical expert has 3 minutes to teach the other members of his/her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embers should complete all columns of their chart while learning from the political exp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following in the country analysis column of your ch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s its 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’s 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th Kore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Dictatorship (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udi Arab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Absolute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ted Kingd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ub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developed as a response to people living in a “State of Na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Nature” concept developed by Hobb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ia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9568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67280" y="4495680"/>
          <a:ext cx="6699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95680"/>
                    <a:ext cx="6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077320" y="4800600"/>
            <a:ext cx="81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ifference between political systems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– the control and administration of public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– the 4 choices for running you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What is the “government” structure of Cy-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990720"/>
          <a:ext cx="8763120" cy="55620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990720"/>
          <a:ext cx="8763120" cy="28731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ITIZENS hold political power, either directly or through electe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441972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4572000"/>
            <a:ext cx="37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resentativ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594360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reed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525780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e Market Econ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62320" y="5105520"/>
            <a:ext cx="2152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ivil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601992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jority Ru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990720"/>
          <a:ext cx="876312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286000"/>
                <a:gridCol w="228600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 believes in providing their citizens and support democracy worldwi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5T12:28:23Z</dcterms:modified>
  <cp:revision>27</cp:revision>
  <dc:subject/>
  <dc:title>Human Geography</dc:title>
</cp:coreProperties>
</file>