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9630-676F-4B10-B42F-DFD174BAD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93A0-2057-42D9-A578-0714063DC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93C3-8FA6-45EC-B028-8F2AEFB23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B908-8FB2-4FBC-B2C2-03BAFD8F7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C101-4E4A-4D28-B3B1-169DBB8C2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200D-BE6C-4223-AA28-747D06046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9937-BA9B-4C76-A25B-B0F992914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1ECB-20DB-416E-8DD8-2121AF2B0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E560-C9C7-4995-9CBB-DA4027449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2FC7-3B19-46F7-B78C-DF593E71F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1D47-A0ED-41F2-8E97-B46AEFDB8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51D8-A94E-4177-817C-B96A933BF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6D1D8-40AD-4FE5-8FCD-CC62836ED3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news.bbc.co.uk/2/hi/asia-pacific/country_profiles/1131421.stm" TargetMode="External"/><Relationship Id="rId3" Type="http://schemas.openxmlformats.org/officeDocument/2006/relationships/hyperlink" Target="http://news.bbc.co.uk/2/hi/middle_east/country_profiles/791936.stmt" TargetMode="External"/><Relationship Id="rId4" Type="http://schemas.openxmlformats.org/officeDocument/2006/relationships/hyperlink" Target="http://news.bbc.co.uk/2/hi/europe/country_profiles/1038758.stm" TargetMode="External"/><Relationship Id="rId5" Type="http://schemas.openxmlformats.org/officeDocument/2006/relationships/hyperlink" Target="http://news.bbc.co.uk/2/hi/americas/country_profiles/1203299.stm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457200" y="1295280"/>
          <a:ext cx="8229600" cy="4829400"/>
        </p:xfrm>
        <a:graphic>
          <a:graphicData uri="http://schemas.openxmlformats.org/drawingml/2006/table">
            <a:tbl>
              <a:tblPr/>
              <a:tblGrid>
                <a:gridCol w="1600200"/>
                <a:gridCol w="4572000"/>
                <a:gridCol w="2057400"/>
              </a:tblGrid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Themes of Geograph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A’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o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ysical Proces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mograph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Human Geography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itical Syste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457200" y="4952880"/>
            <a:ext cx="8229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untry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ground: You have been hired by the CIA to conduct an information gathering exercise about a country under surveillance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ss information about your assigned country using the links on the next sli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   Create a poster that includes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Explanation of their political system (p. 8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 Positive Characteristics of their politica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 Negative Characteristics of their politica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icture that represents the characteristic that you feel is most impor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 Conclus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e sentence. (short and swe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Explanation of how the nation’s political system influences it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tizen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Explanation of how the political system influences the country’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s with other countr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up Mee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5345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member is responsible for teaching the other members of their group the inform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uct your meeting in the following wa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political expert has 3 minutes to teach the other members of his/her group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 members should complete all columns of their chart while learning from the political exper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the following in the country analysis column of your char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  Conclus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e sentence. (short and swe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Explanation of how the nation’s political syste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luences its citizen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Explanation of how the political system influences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ry’s relationships with other countr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ourc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North Kore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– Dictatorship (Communi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Saudi Arabi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– Absolute Monar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United Kingdom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– Constitutional Monar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Cub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- Commu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an Ge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graphy based on man-made cre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066680" y="457200"/>
            <a:ext cx="563904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New Unit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an Ge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tical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ono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ban Ge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tion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litical Sys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120" y="1066680"/>
            <a:ext cx="80010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ical systems developed as a response to people living in a “State of Nature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 of Nature” concept developed by Hobbes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eviath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1600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57200" y="2819520"/>
            <a:ext cx="4495680" cy="3862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" name=""/>
          <p:cNvGraphicFramePr/>
          <p:nvPr/>
        </p:nvGraphicFramePr>
        <p:xfrm>
          <a:off x="5867280" y="4495680"/>
          <a:ext cx="669960" cy="182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4495680"/>
                    <a:ext cx="66996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6629400" y="4648320"/>
            <a:ext cx="1219320" cy="1371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8077320" y="4800600"/>
            <a:ext cx="814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the difference between political systems and govern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vernment – the control and administration of public polic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ical Systems – the 4 choices for running your 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– What is the “government” structure of Cy-Rid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litical Sys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52280" y="990720"/>
          <a:ext cx="8763120" cy="5562000"/>
        </p:xfrm>
        <a:graphic>
          <a:graphicData uri="http://schemas.openxmlformats.org/drawingml/2006/table">
            <a:tbl>
              <a:tblPr/>
              <a:tblGrid>
                <a:gridCol w="2057400"/>
                <a:gridCol w="2133720"/>
                <a:gridCol w="2381400"/>
                <a:gridCol w="2190600"/>
              </a:tblGrid>
              <a:tr h="72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an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racterist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 Analy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9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Democrac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litical Sys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52280" y="990720"/>
          <a:ext cx="8763120" cy="2873160"/>
        </p:xfrm>
        <a:graphic>
          <a:graphicData uri="http://schemas.openxmlformats.org/drawingml/2006/table">
            <a:tbl>
              <a:tblPr/>
              <a:tblGrid>
                <a:gridCol w="2057400"/>
                <a:gridCol w="2133720"/>
                <a:gridCol w="2381400"/>
                <a:gridCol w="219060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an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racterist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 Analy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3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Democrac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TIZENS hold political power, either directly or through elected representativ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ting,  Majority Rule,  Freedoms,  Civil Rights,   Representatives,  Free Market Econom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Democrac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610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Explan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CITIZENS hold political power, either directly or through elected representat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characteristic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a democ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04920" y="4419720"/>
            <a:ext cx="19047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Voting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191120" y="4572000"/>
            <a:ext cx="37335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Representatives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80880" y="5943600"/>
            <a:ext cx="2457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Freedom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029200" y="5257800"/>
            <a:ext cx="398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ree Market Econom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362320" y="5105520"/>
            <a:ext cx="215244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Civil Righ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962520" y="6019920"/>
            <a:ext cx="3286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Majority Rul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litical Sys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52280" y="990720"/>
          <a:ext cx="8763120" cy="3259080"/>
        </p:xfrm>
        <a:graphic>
          <a:graphicData uri="http://schemas.openxmlformats.org/drawingml/2006/table">
            <a:tbl>
              <a:tblPr/>
              <a:tblGrid>
                <a:gridCol w="2057400"/>
                <a:gridCol w="2133720"/>
                <a:gridCol w="2286000"/>
                <a:gridCol w="2286000"/>
              </a:tblGrid>
              <a:tr h="59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an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racterist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 Analy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0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Democrac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TIZENS hold political power, either directly or through elected representativ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ting,  Majority Rule,  Freedoms,  Civil Rights,   Representatives,  Free Market Econom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US believes in providing their citizens and support democracy worldwide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11:36:29Z</dcterms:created>
  <dc:creator>CFISD</dc:creator>
  <dc:description/>
  <dc:language>en-US</dc:language>
  <cp:lastModifiedBy>CFISD</cp:lastModifiedBy>
  <dcterms:modified xsi:type="dcterms:W3CDTF">2008-09-25T12:28:23Z</dcterms:modified>
  <cp:revision>27</cp:revision>
  <dc:subject/>
  <dc:title>Human Geography</dc:title>
</cp:coreProperties>
</file>