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F7F-A333-4FEA-8643-2CAE0815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DBC-C470-4BBC-A29B-B89C0E1A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CEB-25C1-4850-8806-ACAFA426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5F1-158E-4B75-8060-8C5CBAF5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589-B9D0-427B-AA22-0DFC8FB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930-61FD-4ED5-8485-25A99873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B61-5FF9-4815-8359-4AF77DF4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E2F-95B6-49F0-971D-AC61C1F2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E23-D096-4712-B559-DA27972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EAA-D6FD-4528-8AE6-B01D4B37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513-3606-4968-BDDB-7DB30F2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282-6409-438F-A7B4-1051AAA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7239-E2DD-4C2E-802B-B5B0E386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3600" y="0"/>
            <a:ext cx="82296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bjective (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BAT identify the economic impact of Africa’s physica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Question of the Day? (writ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Focus (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e Sahara desert affect the culture of the people living the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 the defini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locked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untry that is surrounded by land on all sides, no ocean 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name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the back and divide it in ha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of the sections, answer the questions below as you watch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major physical features in Afr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ysical features will make trade difficul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chart columns to reflect what is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1 –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2 – Political and Soci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3 – Economic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cha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but Regular Coastline and Landlock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i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t a laptop and finish the chart using the online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ara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mpt: Choose a landlocked country in Africa.  Develop a trading plan that addresses their needs.  Identify your country and explain three strategies to improve trade in your count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the back of your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22:50Z</dcterms:created>
  <dc:creator>CFISD</dc:creator>
  <dc:description/>
  <dc:language>en-US</dc:language>
  <cp:lastModifiedBy>CFISD</cp:lastModifiedBy>
  <dcterms:modified xsi:type="dcterms:W3CDTF">2009-04-29T13:37:15Z</dcterms:modified>
  <cp:revision>3</cp:revision>
  <dc:subject/>
  <dc:title>Today</dc:title>
</cp:coreProperties>
</file>