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329-411A-4827-A9E6-01A8717F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D32C-EB50-4DBA-8025-C2585230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684-07D1-47C5-9960-A9EBE768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CDAA-4373-47AF-B938-4653F4EF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F87-D487-4E8D-A798-38D9508D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19C-D038-4158-AB1D-EBF59EF4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C10-5EA5-4EC3-8F84-DB888123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DA31-3578-426C-97FA-E60A9F04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9351-198F-4311-B4B3-DAB8E30A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1F1B-9673-46EE-9BE2-8D5CDCA6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8695-8752-45D1-AE02-6271411E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318B-0E07-4428-A0C7-E1DD9268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0ED1-2EC1-46D2-95B5-AC8DEE59F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63600" y="0"/>
            <a:ext cx="8229600" cy="66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bjective (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BAT identify the economic impact of Africa’s physical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Question of the Day? (write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Focus (answ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es the Sahara desert affect the culture of the people living there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cord the definition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locked 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ountry that is surrounded by land on all sides, no ocean por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name on your workshee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 to the back and divide it in ha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ne of the sections, answer the questions below as you watch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the major physical features in Afric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hysical features will make trade difficul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chart columns to reflect what is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1 – Explanation and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2 – Political and Social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umn 3 – Economic Eff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do li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mplete the char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l but Regular Coastline and Landlock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Get it appr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Get a laptop and finish the chart using the online resour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Paragrap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prompt: Choose a landlocked country in Africa.  Develop a trading plan that addresses their needs.  Identify your country and explain three strategies to improve trade in your countr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on the back of your ch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13:22:50Z</dcterms:created>
  <dc:creator>CFISD</dc:creator>
  <dc:description/>
  <dc:language>en-US</dc:language>
  <cp:lastModifiedBy>CFISD</cp:lastModifiedBy>
  <dcterms:modified xsi:type="dcterms:W3CDTF">2009-04-29T13:37:15Z</dcterms:modified>
  <cp:revision>3</cp:revision>
  <dc:subject/>
  <dc:title>Today</dc:title>
</cp:coreProperties>
</file>