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801-28AC-4B37-9C70-774F8557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38B-173C-4719-8042-3EAE43FB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D7D-6595-4211-AE45-ABD13C6F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551-2EB4-4896-B1C5-3B91D5C8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592-FF9F-42AA-8DF6-7A0EBC8C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6DF-CF68-4836-943F-9B11966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BBB-88D1-4E72-9D0D-00A47DFA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F7A-55D9-4C46-B8DA-1A68CA02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DC2-A8CA-4383-9984-214A304F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D0C-808E-4FB3-8E72-31EC520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01D-E0DC-49F2-8D1B-233AA7F6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A93-FA44-43E1-836D-76FCA8D4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CFB7-DF0F-4F36-8501-631E15BC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3600" y="0"/>
            <a:ext cx="8229600" cy="66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bjective (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BAT identify the economic impact of Africa’s physical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Question of the Day? (writ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Focus (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e Sahara desert affect the culture of the people living ther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 the defini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locked 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ountry that is surrounded by land on all sides, no ocean 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name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the back and divide it in ha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of the sections, answer the questions below as you watch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major physical features in Afric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hysical features will make trade difficul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chart columns to reflect what is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1 – Explanation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2 – Political and Soci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3 – Economic Ef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cha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but Regular Coastline and Landlock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it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t a laptop and finish the chart using the online resour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ara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prompt: Choose a landlocked country in Africa.  Develop a trading plan that addresses their needs.  Identify your country and explain three strategies to improve trade in your count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 the back of your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22:50Z</dcterms:created>
  <dc:creator>CFISD</dc:creator>
  <dc:description/>
  <dc:language>en-US</dc:language>
  <cp:lastModifiedBy>CFISD</cp:lastModifiedBy>
  <dcterms:modified xsi:type="dcterms:W3CDTF">2009-04-29T13:37:15Z</dcterms:modified>
  <cp:revision>3</cp:revision>
  <dc:subject/>
  <dc:title>Today</dc:title>
</cp:coreProperties>
</file>