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5DE-09B8-4A23-98F3-85403F486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4C5B-931F-4C5F-B25D-B0447FCB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402-FE4E-4C35-9407-08D81A0A7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DA17-E384-4592-9272-9C58A3C1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B3E-729B-4985-97A7-A778E626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DD2-0C9C-4606-A315-D254733C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142-7E76-477E-9E16-7BB182DB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70BA-8858-4F6A-8E00-CF37F51E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57CC-5110-47C0-8DC6-538F47B1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D8D-06C4-4F8B-835F-84814F70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712-CE80-45F2-A22F-2B25E74D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C139-303B-4E3D-A0CC-10B21422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2E0D-ABAE-4F73-855F-2985A9522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3600" y="0"/>
            <a:ext cx="8229600" cy="66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bjective (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BAT identify the economic impact of Africa’s physical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Question of the Day? (writ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Focus (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e Sahara desert affect the culture of the people living ther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 the defini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locked 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ountry that is surrounded by land on all sides, no ocean po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name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the back and divide it in ha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of the sections, answer the questions below as you watch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major physical features in Afric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hysical features will make trade difficul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chart columns to reflect what is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1 – Explanation an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2 – Political and Soci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3 – Economic Eff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char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but Regular Coastline and Landlock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it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t a laptop and finish the chart using the online resour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ara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prompt: Choose a landlocked country in Africa.  Develop a trading plan that addresses their needs.  Identify your country and explain three strategies to improve trade in your count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on the back of your ch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3:22:50Z</dcterms:created>
  <dc:creator>CFISD</dc:creator>
  <dc:description/>
  <dc:language>en-US</dc:language>
  <cp:lastModifiedBy>CFISD</cp:lastModifiedBy>
  <dcterms:modified xsi:type="dcterms:W3CDTF">2009-04-29T13:37:15Z</dcterms:modified>
  <cp:revision>3</cp:revision>
  <dc:subject/>
  <dc:title>Today</dc:title>
</cp:coreProperties>
</file>