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05B-7008-46A5-9E78-1B23A788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4B2-C899-4B28-A391-3E94C8AC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BBB-8798-4BE3-86E2-0DE2FF9D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704-1948-4E47-908C-801C2D3D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91D-C82E-4ABA-AF3B-A4600BA2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43A-2557-46E8-B817-F835B134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E9B-C3F7-4CEF-9D52-BFA4D921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F29-5168-4AF7-9298-75E857F3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F78-EB1A-46FA-99D0-278ABE65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E5A0-61BB-4D78-BEF3-0252B310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65E-8030-45B6-954E-1D92E2C1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3AE-425A-41CE-AFF2-1652E594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5C41-B313-4095-A325-F48C1E7CB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63600" y="0"/>
            <a:ext cx="8229600" cy="66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bjective (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BAT identify the economic impact of Africa’s physical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Question of the Day? (write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Focus (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es the Sahara desert affect the culture of the people living ther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cord the definition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locked 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ountry that is surrounded by land on all sides, no ocean po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name on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the back and divide it in ha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of the sections, answer the questions below as you watch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major physical features in Afric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hysical features will make trade difficul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chart columns to reflect what is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1 – Explanation and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2 – Political and Social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3 – Economic Eff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lete the char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but Regular Coastline and Landlock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et it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t a laptop and finish the chart using the online resour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ara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prompt: Choose a landlocked country in Africa.  Develop a trading plan that addresses their needs.  Identify your country and explain three strategies to improve trade in your count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on the back of your ch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3:22:50Z</dcterms:created>
  <dc:creator>CFISD</dc:creator>
  <dc:description/>
  <dc:language>en-US</dc:language>
  <cp:lastModifiedBy>CFISD</cp:lastModifiedBy>
  <dcterms:modified xsi:type="dcterms:W3CDTF">2009-04-29T13:37:15Z</dcterms:modified>
  <cp:revision>3</cp:revision>
  <dc:subject/>
  <dc:title>Today</dc:title>
</cp:coreProperties>
</file>