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245-C1EE-425C-80B3-900DDF89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1BF-FCB3-4401-9A90-1DC0050D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55E-AC29-4E51-AB1C-DCE57BA4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34D-7672-4324-B543-EC6AACCC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5EB-8164-4630-905C-C4681865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B10-2FAA-4BE5-B966-76C5B8B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86B-F9A7-4C26-833A-316C2EDA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217-2156-4748-9B5E-C9A1D04A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17E-1FF7-43DD-B928-7CAD8AC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C79-12CB-4955-A067-A3F736E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35E-8FC5-4180-AB22-4D4AEC7A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1F5-0C55-4CDB-8BF7-FF12D5D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48B1-A466-4693-B9EA-497E31FD2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685800"/>
            <a:ext cx="4800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rategic Commodity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32767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 by Peacock and   Zaro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21985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14600" y="457200"/>
            <a:ext cx="3971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rategic Commod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523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ural resource that makes Iraq important is o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362320"/>
            <a:ext cx="57909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ategic Commodity is a resource so important nations will go to war ove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a conflict based on Strategic Commodity is World War II Liberia signed a defense pact assuring that the U.S would get a supply of natural rub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00:02Z</dcterms:created>
  <dc:creator>cfisd</dc:creator>
  <dc:description/>
  <dc:language>en-US</dc:language>
  <cp:lastModifiedBy>cfisd</cp:lastModifiedBy>
  <dcterms:modified xsi:type="dcterms:W3CDTF">2009-05-19T13:03:48Z</dcterms:modified>
  <cp:revision>3</cp:revision>
  <dc:subject/>
  <dc:title>Slide 1</dc:title>
</cp:coreProperties>
</file>