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7C9-4D82-4222-B9DC-380AD19E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DE4-81F5-46E3-92BC-8AE0D960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6678-602D-4C69-AF86-B24D74A09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664F-D0F9-4845-B8CB-B6107443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BF4-947F-4BA7-9A37-7A62F2CFC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5A1-3E8B-4EF4-8518-B2F7E6D9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DF1-23FB-448F-9C11-76530DE4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2B1-6B2B-4648-AFC0-8CEE2D57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D48-AF1D-4908-AB59-764EE89F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31C-DD40-4140-8321-A95A757F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F6D-39CB-4C4F-AFCA-C0BB3FAE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F00-7B0C-442F-9903-6F98C26F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04D9-FB37-44DB-B0B6-4948B1CFA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685800"/>
            <a:ext cx="4800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rategic Commodity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32767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nted by Peacock and   Zaro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705720" y="1371600"/>
            <a:ext cx="21985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514600" y="457200"/>
            <a:ext cx="3971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trategic Commod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52388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tural resource that makes Iraq important is o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2362320"/>
            <a:ext cx="57909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ategic Commodity is a resource so important nations will go to war over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of a conflict based on Strategic Commodity is World War II Liberia signed a defense pact assuring that the U.S would get a supply of natural rub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00:02Z</dcterms:created>
  <dc:creator>cfisd</dc:creator>
  <dc:description/>
  <dc:language>en-US</dc:language>
  <cp:lastModifiedBy>cfisd</cp:lastModifiedBy>
  <dcterms:modified xsi:type="dcterms:W3CDTF">2009-05-19T13:03:48Z</dcterms:modified>
  <cp:revision>3</cp:revision>
  <dc:subject/>
  <dc:title>Slide 1</dc:title>
</cp:coreProperties>
</file>