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BC96-6AD2-46C9-9F62-990083A3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4F37-60A1-448D-BF45-B806B635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EF29-62EE-4556-952B-5ED2AD28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2843-3166-49BE-BCDD-3D01CDEF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F82C-357F-41A4-8228-02ED43F0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E76E-CD1F-4A35-A112-D82E86DA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A1A9-80D0-4FD3-AECF-12DCADCE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2A62-FCCD-48F2-A270-E9230909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C25F-DBC0-4792-A07F-ACA16D67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9469-6CC2-4ECB-8EF3-B344353C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3BF9-A038-4F6B-9A4F-F6B38AD4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C04A-28A5-470F-A6DA-F699576F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8534-F424-4908-BDCF-0DF7FE3B5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52480" y="685800"/>
            <a:ext cx="48006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trategic Commodity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43200" y="3276720"/>
            <a:ext cx="320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ented by Peacock and   Zaros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05720" y="1371600"/>
            <a:ext cx="219852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5000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514600" y="457200"/>
            <a:ext cx="3971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trategic Commodit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15238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atural resource that makes Iraq important is o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2362320"/>
            <a:ext cx="57909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rategic Commodity is a resource so important nations will go to war over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xample of a conflict based on Strategic Commodity is World War II Liberia signed a defense pact assuring that the U.S would get a supply of natural rubb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3:00:02Z</dcterms:created>
  <dc:creator>cfisd</dc:creator>
  <dc:description/>
  <dc:language>en-US</dc:language>
  <cp:lastModifiedBy>cfisd</cp:lastModifiedBy>
  <dcterms:modified xsi:type="dcterms:W3CDTF">2009-05-19T13:03:48Z</dcterms:modified>
  <cp:revision>3</cp:revision>
  <dc:subject/>
  <dc:title>Slide 1</dc:title>
</cp:coreProperties>
</file>