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FFDC-D4EE-4EA9-ACD9-3E1E75704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710-CCFD-4124-B39F-6A2FB3C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F81-8D0C-4AB0-AE8D-B238D156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D8E-FBE7-4886-B217-02BEC6E28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B47-475C-43B1-9A74-C5DA8FE6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622-35DB-4A33-BE5A-C6BC40A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B92-D5CB-430C-90C1-C94FA8E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BDE-8D7B-40AF-935D-4D97ADB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899F-7423-448B-934B-0D38F836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7498-7D30-4297-B3BF-66E53BE8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6E4-6D53-4111-887A-252464CD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5502-5532-455C-894A-6069460B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DDA9-D038-48CD-9B0B-985EDFF5D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685800"/>
            <a:ext cx="4800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tegic Commodity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276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Peacock and   Zaro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98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457200"/>
            <a:ext cx="397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tegic Commod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resource that makes Iraq important is 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362320"/>
            <a:ext cx="57909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ategic Commodity is a resource so important nations will go to war ov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a conflict based on Strategic Commodity is World War II Liberia signed a defense pact assuring that the U.S would get a supply of natural rub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00:02Z</dcterms:created>
  <dc:creator>cfisd</dc:creator>
  <dc:description/>
  <dc:language>en-US</dc:language>
  <cp:lastModifiedBy>cfisd</cp:lastModifiedBy>
  <dcterms:modified xsi:type="dcterms:W3CDTF">2009-05-19T13:03:48Z</dcterms:modified>
  <cp:revision>3</cp:revision>
  <dc:subject/>
  <dc:title>Slide 1</dc:title>
</cp:coreProperties>
</file>