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4987-2D34-4627-BB96-8420B385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1AC6-8967-45D4-99B6-D36F0DA8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90D-E535-4B76-82BF-D53FE502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197C-FF6A-4935-BDC2-A2275DCB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D2D1-31BC-40BD-B269-249FBCFE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F36F-ACFD-4B42-8513-7C1B9B8D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839D-9848-442E-99B6-3AE2152F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5755-835A-4296-AE5F-5404D964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3D24-181E-4754-B976-F77DD626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D517-924D-4139-939B-204DE80E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BD72-B350-4B05-95BE-5ED39E0E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D061-44FD-4DD1-A554-2ACBD834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4352-AFAB-4ECE-AF1F-8474DF920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nn.com/2009/WORLD/asiapcf/02/25/sierra.leone.trial/index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snbc.msn.com/id/21134540/vp/9041334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orso2ndperiod.wikispaces.com/" TargetMode="External"/><Relationship Id="rId2" Type="http://schemas.openxmlformats.org/officeDocument/2006/relationships/hyperlink" Target="http://www.orso2ndperiod.wikispaces.com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laverysite.com/slave%20trade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ation in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ierra Le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y do they use these tac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natural resources are they fighting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Uga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563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tic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party politics restored i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vernment and Lord's Resistance Army (LRA) rebels have signed a truce aimed at ending a 19-year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ganda is vulnerable to changes in the world price of coffee, its main export ear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tiona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ganda has been actively involved in the DR Congo conflict. LRA leaders are wanted by the International Criminal Court for war cr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91320" y="1219320"/>
            <a:ext cx="2971800" cy="2225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934320" y="5029200"/>
            <a:ext cx="99036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90560" y="-360"/>
            <a:ext cx="655308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. Ug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iolence has displaced more than 1.6 million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UF has abducted 20,000 child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10280" y="5181480"/>
            <a:ext cx="18288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WHAT’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g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type of tactics are used in the Ugandan Civil W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has this conflict contributed to mig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 List –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your assignments and due d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Review She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ue tomorrow when you walk in the ro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Blogging Assign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ue Friday at mid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Darfur Pro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ue Saturday @ 10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mplete the Migration worksheet.  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rso2ndperiod.wikispaces.c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nd open the power point titled “Migration in Africa FINAL”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E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mplete the Map from yesterday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E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mplete the African Art Assignment from Friday.  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rso2ndperiod.wikispaces.c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nd open the power point titled “African Ar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Af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4813200"/>
        </p:xfrm>
        <a:graphic>
          <a:graphicData uri="http://schemas.openxmlformats.org/drawingml/2006/table">
            <a:tbl>
              <a:tblPr/>
              <a:tblGrid>
                <a:gridCol w="1066680"/>
                <a:gridCol w="586764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population/Graying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AFRIC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rt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22860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Mi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Voluntary Mig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hen people move because of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gold discoveries like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Forced Mig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hen people because of conflict or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ivil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04920" y="1371600"/>
          <a:ext cx="8534160" cy="4724280"/>
        </p:xfrm>
        <a:graphic>
          <a:graphicData uri="http://schemas.openxmlformats.org/drawingml/2006/table">
            <a:tbl>
              <a:tblPr/>
              <a:tblGrid>
                <a:gridCol w="2209680"/>
                <a:gridCol w="632448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 txBox="1"/>
          <p:nvPr/>
        </p:nvSpPr>
        <p:spPr>
          <a:xfrm>
            <a:off x="2666880" y="380880"/>
            <a:ext cx="3867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gration Ch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48006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IS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04920" y="1371600"/>
          <a:ext cx="8534160" cy="4724280"/>
        </p:xfrm>
        <a:graphic>
          <a:graphicData uri="http://schemas.openxmlformats.org/drawingml/2006/table">
            <a:tbl>
              <a:tblPr/>
              <a:tblGrid>
                <a:gridCol w="2209680"/>
                <a:gridCol w="632448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Civil War – Sierra Le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Civil War - Ugan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 txBox="1"/>
          <p:nvPr/>
        </p:nvSpPr>
        <p:spPr>
          <a:xfrm>
            <a:off x="2666880" y="380880"/>
            <a:ext cx="3867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gration Ch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48006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IS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 #1 - Sla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ced Mig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riangular Trade led to enslaved Africans being sold/traded for goods and forcefully sent to the Amer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09556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86400" y="5715000"/>
            <a:ext cx="3657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re most of the Africans forced to mov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 #2 - Civil W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Sierra Le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4343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ti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erra Leone is recovering from a 10-year civil war which ended in 2002; war centred around a power struggle and had a regional dim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nomi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erra Leone is bottom of UN's league for human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809880" cy="2852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477120" y="5257800"/>
            <a:ext cx="99036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 Sierra Le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99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eople flee the country after a brutal civil war be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bels (RUF) vs.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6555" b="0"/>
          <a:stretch/>
        </p:blipFill>
        <p:spPr>
          <a:xfrm>
            <a:off x="4267080" y="3502080"/>
            <a:ext cx="4191120" cy="3355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81080" y="44956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els use amputation and rape as tools of w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28600"/>
            <a:ext cx="18288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WHAT’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3:14:40Z</dcterms:created>
  <dc:creator>CFISD</dc:creator>
  <dc:description/>
  <dc:language>en-US</dc:language>
  <cp:lastModifiedBy>CFISD</cp:lastModifiedBy>
  <dcterms:modified xsi:type="dcterms:W3CDTF">2009-05-21T12:23:39Z</dcterms:modified>
  <cp:revision>13</cp:revision>
  <dc:subject/>
  <dc:title>Civil Wars</dc:title>
</cp:coreProperties>
</file>