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2544-2DB2-4EDD-A919-4C159DB5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C962-F008-455C-A1B5-C0032CD6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892-7437-448B-9567-DAF5B80B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C5E-697B-4FB7-9E4F-9A651E08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71F-02B4-495C-A552-A64628AB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12B-208A-4E8F-B636-3587B488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FB9-CA5D-4053-BD41-BE47D492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455-17AF-4DDD-8753-71CC166A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64CA-F788-4270-AF06-03B02BD0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A67-D45C-4A5A-AEAB-251F9BCD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0F9-C889-4E15-9B3C-6E169AD7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8BF-B4F2-4775-851A-997DAF8C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6194-47B9-4CAE-A536-3F24C10E5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nn.com/2009/WORLD/asiapcf/02/25/sierra.leone.trial/index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snbc.msn.com/id/21134540/vp/9041334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laverysite.com/slave%20trade.htm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do they use these tac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natural resources are they fighting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Uga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56390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ic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party politics restored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and Lord's Resistance Army (LRA) rebels have signed a truce aimed at ending a 19-year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onom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is vulnerable to changes in the world price of coffee, its main export ea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tion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ganda has been actively involved in the DR Congo conflict. LRA leaders are wanted by the International Criminal Court for war c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934320" y="50292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90560" y="-360"/>
            <a:ext cx="655308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. Ug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iolence has displaced more than 1.6 million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UF has abducted 20,000 childr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10280" y="518148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g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type of tactics are used in the Ugandan Civil W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has this conflict contributed to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 –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your assignments and due d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Review She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tomorrow when you walk in the ro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Blogging Assign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Friday at mid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Darfur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ue Saturday @ 10 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Migration worksheet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Migration in Africa FINAL”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mplete the Map from yesterday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omplete the African Art Assignment from Friday. 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and open the power point titled “African Ar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Af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13200"/>
        </p:xfrm>
        <a:graphic>
          <a:graphicData uri="http://schemas.openxmlformats.org/drawingml/2006/table">
            <a:tbl>
              <a:tblPr/>
              <a:tblGrid>
                <a:gridCol w="1066680"/>
                <a:gridCol w="586764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AFRIC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Mi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Voluntary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move because of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gold discoveries like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Forced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hen people because of conflict or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ivil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04920" y="1371600"/>
          <a:ext cx="8534160" cy="4724280"/>
        </p:xfrm>
        <a:graphic>
          <a:graphicData uri="http://schemas.openxmlformats.org/drawingml/2006/table">
            <a:tbl>
              <a:tblPr/>
              <a:tblGrid>
                <a:gridCol w="2209680"/>
                <a:gridCol w="6324480"/>
              </a:tblGrid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lav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Civil War – Sierra Le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ivil War - Ugan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 txBox="1"/>
          <p:nvPr/>
        </p:nvSpPr>
        <p:spPr>
          <a:xfrm>
            <a:off x="2666880" y="380880"/>
            <a:ext cx="3867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igration Char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48006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THIS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-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1 - Sla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86868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ed 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riangular Trade led to enslaved Africans being sold/traded for goods and forcefully sent to the Amer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09556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86400" y="5715000"/>
            <a:ext cx="36576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re most of the Africans forced to mov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 #2 - Civil W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recovering from a 10-year civil war which ended in 2002; war centred around a power struggle and had a regional dimen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ic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erra Leone is bottom of UN's league for human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477120" y="5257800"/>
            <a:ext cx="990360" cy="86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99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flee the country after a brutal civil war be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(RUF) vs.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6555" b="0"/>
          <a:stretch/>
        </p:blipFill>
        <p:spPr>
          <a:xfrm>
            <a:off x="4267080" y="3502080"/>
            <a:ext cx="4191120" cy="335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81080" y="44956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bels use amputation and rape as tools of w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8600"/>
            <a:ext cx="18288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4:40Z</dcterms:created>
  <dc:creator>CFISD</dc:creator>
  <dc:description/>
  <dc:language>en-US</dc:language>
  <cp:lastModifiedBy>CFISD</cp:lastModifiedBy>
  <dcterms:modified xsi:type="dcterms:W3CDTF">2009-05-21T12:23:39Z</dcterms:modified>
  <cp:revision>13</cp:revision>
  <dc:subject/>
  <dc:title>Civil Wars</dc:title>
</cp:coreProperties>
</file>