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25CD-628C-43DE-AAA3-495D929D6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16AE-5918-456D-8BC0-0A7624E5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3C55-59BF-46CD-857C-A35812DFA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B161-C448-412B-8B54-19DB4C8D1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F318-6E88-48A6-88B6-119AD219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C963-0FC2-47A5-8569-FC043916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7E7A-5A71-44AB-ADD2-03740F1F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7594-C9ED-450F-8A51-2CEBF0AC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709E-15F4-4796-A1E6-E06DE0DD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A142-728E-4E90-A709-A6571806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0C66-8ECC-48AB-A889-2CB98B54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59F3-51CA-4968-ACFD-A01FD83C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7BB0-D69C-4C7B-8152-E03098587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nn.com/2009/WORLD/asiapcf/02/25/sierra.leone.trial/index.html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snbc.msn.com/id/21134540/vp/9041334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orso2ndperiod.wikispaces.com/" TargetMode="External"/><Relationship Id="rId2" Type="http://schemas.openxmlformats.org/officeDocument/2006/relationships/hyperlink" Target="http://www.orso2ndperiod.wikispaces.com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laverysite.com/slave%20trade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gration in 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ierra Le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y do they use these tac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natural resources are they fighting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Uga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5639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itic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party politics restored in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overnment and Lord's Resistance Army (LRA) rebels have signed a truce aimed at ending a 19-year 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ganda is vulnerable to changes in the world price of coffee, its main export ear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tional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ganda has been actively involved in the DR Congo conflict. LRA leaders are wanted by the International Criminal Court for war cr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791320" y="1219320"/>
            <a:ext cx="2971800" cy="2225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934320" y="5029200"/>
            <a:ext cx="990360" cy="86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90560" y="-360"/>
            <a:ext cx="655308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. Ug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iolence has displaced more than 1.6 million peo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UF has abducted 20,000 childr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10280" y="5181480"/>
            <a:ext cx="18288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WHAT’S IN TH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ga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type of tactics are used in the Ugandan Civil Wa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How has this conflict contributed to migr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Do List – 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eri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are your assignments and due d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Review She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due tomorrow when you walk in the ro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Blogging Assign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due Friday at mid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Darfur Pro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due Saturday @ 10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omplete the Migration worksheet.  Go to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rso2ndperiod.wikispaces.co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and open the power point titled “Migration in Africa FINAL”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E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mplete the Map from yesterday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E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omplete the African Art Assignment from Friday.  Go to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rso2ndperiod.wikispaces.co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and open the power point titled “African Ar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Af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914400"/>
          <a:ext cx="8763120" cy="4813200"/>
        </p:xfrm>
        <a:graphic>
          <a:graphicData uri="http://schemas.openxmlformats.org/drawingml/2006/table">
            <a:tbl>
              <a:tblPr/>
              <a:tblGrid>
                <a:gridCol w="1066680"/>
                <a:gridCol w="5867640"/>
                <a:gridCol w="18288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population/Graying Popu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AFRIC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rtif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28600" y="22860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Mig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Voluntary Mig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when people move because of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gold discoveries like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 Forced Mig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when people because of conflict or vio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ivil W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04920" y="1371600"/>
          <a:ext cx="8534160" cy="4724280"/>
        </p:xfrm>
        <a:graphic>
          <a:graphicData uri="http://schemas.openxmlformats.org/drawingml/2006/table">
            <a:tbl>
              <a:tblPr/>
              <a:tblGrid>
                <a:gridCol w="2209680"/>
                <a:gridCol w="6324480"/>
              </a:tblGrid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 txBox="1"/>
          <p:nvPr/>
        </p:nvSpPr>
        <p:spPr>
          <a:xfrm>
            <a:off x="2666880" y="380880"/>
            <a:ext cx="3867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igration Cha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6400800" y="4800600"/>
            <a:ext cx="144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THIS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04920" y="1371600"/>
          <a:ext cx="8534160" cy="4724280"/>
        </p:xfrm>
        <a:graphic>
          <a:graphicData uri="http://schemas.openxmlformats.org/drawingml/2006/table">
            <a:tbl>
              <a:tblPr/>
              <a:tblGrid>
                <a:gridCol w="2209680"/>
                <a:gridCol w="6324480"/>
              </a:tblGrid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Slav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Civil War – Sierra Le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Civil War - Ugan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 txBox="1"/>
          <p:nvPr/>
        </p:nvSpPr>
        <p:spPr>
          <a:xfrm>
            <a:off x="2666880" y="380880"/>
            <a:ext cx="3867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igration Cha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6400800" y="4800600"/>
            <a:ext cx="144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THIS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 #1 - Sla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ced Mig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Triangular Trade led to enslaved Africans being sold/traded for goods and forcefully sent to the Amer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095560"/>
            <a:ext cx="9144000" cy="4762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86400" y="5715000"/>
            <a:ext cx="36576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were most of the Africans forced to move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 #2 - Civil W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. Sierra Le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43434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itic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erra Leone is recovering from a 10-year civil war which ended in 2002; war centred around a power struggle and had a regional dimen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conomic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erra Leone is bottom of UN's league for human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876920" y="1828800"/>
            <a:ext cx="3809880" cy="2852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477120" y="5257800"/>
            <a:ext cx="990360" cy="86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. Sierra Le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99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eople flee the country after a brutal civil war be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bels (RUF) vs. the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0" r="6555" b="0"/>
          <a:stretch/>
        </p:blipFill>
        <p:spPr>
          <a:xfrm>
            <a:off x="4267080" y="3502080"/>
            <a:ext cx="4191120" cy="3355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81080" y="449568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bels use amputation and rape as tools of w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228600"/>
            <a:ext cx="18288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WHAT’S IN TH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3:14:40Z</dcterms:created>
  <dc:creator>CFISD</dc:creator>
  <dc:description/>
  <dc:language>en-US</dc:language>
  <cp:lastModifiedBy>CFISD</cp:lastModifiedBy>
  <dcterms:modified xsi:type="dcterms:W3CDTF">2009-05-21T12:23:39Z</dcterms:modified>
  <cp:revision>13</cp:revision>
  <dc:subject/>
  <dc:title>Civil Wars</dc:title>
</cp:coreProperties>
</file>