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jpeg" ContentType="image/jpeg"/>
  <Override PartName="/ppt/media/cashreg.wav" ContentType="audio/x-wav"/>
  <Override PartName="/ppt/media/image16.jpeg" ContentType="image/jpeg"/>
  <Override PartName="/ppt/media/image15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9388-0859-4A7F-B522-222AA63B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5B5-5034-42A2-ACB4-63C00F1B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D95-C1B7-4906-A3F9-A0FF8E57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131B-E83D-4592-AA15-F2796F40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74C-5152-4D68-9161-F9FEAD04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82F-2BE1-4D60-94F6-BC9D470D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99B-7913-43DD-97B3-834E98B4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725-8902-425E-ABC2-71983146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241-FCEE-4998-AA4F-DB66EF23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D4BA-1590-49AB-B570-4362A4B3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BDE-D118-4D78-8ED1-9BDC86AA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25B1-F4D0-4473-BFA6-AFB4AEF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9D51-51C7-4067-BF35-A9339BAE7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based on man-made cre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066680" y="457200"/>
            <a:ext cx="5639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Uni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Supply and Demand – demand guides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reedom to purchase what you w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Many product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Economic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3733920" y="22860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3809880" y="35053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Competition – Price is Righ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adidas Men's Microbounce + FH Leather - Silver"/>
          <p:cNvPicPr/>
          <p:nvPr/>
        </p:nvPicPr>
        <p:blipFill>
          <a:blip r:embed="rId2"/>
          <a:srcRect l="0" t="15004" r="0" b="20005"/>
          <a:stretch/>
        </p:blipFill>
        <p:spPr>
          <a:xfrm>
            <a:off x="380880" y="838080"/>
            <a:ext cx="1905120" cy="123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/>
          <p:cNvPicPr/>
          <p:nvPr/>
        </p:nvPicPr>
        <p:blipFill>
          <a:blip r:embed="rId3"/>
          <a:srcRect l="15054" t="25811" r="45162" b="34050"/>
          <a:stretch/>
        </p:blipFill>
        <p:spPr>
          <a:xfrm>
            <a:off x="3505320" y="838080"/>
            <a:ext cx="1904760" cy="1441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Nike Men's Shox Turbo + 7 - Grey/Black/Black"/>
          <p:cNvPicPr/>
          <p:nvPr/>
        </p:nvPicPr>
        <p:blipFill>
          <a:blip r:embed="rId4"/>
          <a:srcRect l="0" t="21340" r="0" b="20005"/>
          <a:stretch/>
        </p:blipFill>
        <p:spPr>
          <a:xfrm>
            <a:off x="6553080" y="838080"/>
            <a:ext cx="1981440" cy="1162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Nike Women's Shox Turbo + 7 - White/Black/Pink"/>
          <p:cNvPicPr/>
          <p:nvPr/>
        </p:nvPicPr>
        <p:blipFill>
          <a:blip r:embed="rId5"/>
          <a:srcRect l="0" t="23331" r="0" b="20673"/>
          <a:stretch/>
        </p:blipFill>
        <p:spPr>
          <a:xfrm>
            <a:off x="380880" y="3200400"/>
            <a:ext cx="2210040" cy="1238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adidas Women's Microbounce+ Arianna - Iron/Mauve/Grey"/>
          <p:cNvPicPr/>
          <p:nvPr/>
        </p:nvPicPr>
        <p:blipFill>
          <a:blip r:embed="rId6"/>
          <a:srcRect l="0" t="37037" r="0" b="0"/>
          <a:stretch/>
        </p:blipFill>
        <p:spPr>
          <a:xfrm>
            <a:off x="3886200" y="3200400"/>
            <a:ext cx="2057400" cy="1295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7" descr="Jordan Big Kids Collezione 18/5 - Black/Varsity Red &amp; White/Black/Varsity"/>
          <p:cNvPicPr/>
          <p:nvPr/>
        </p:nvPicPr>
        <p:blipFill>
          <a:blip r:embed="rId7"/>
          <a:srcRect l="29340" t="7999" r="0" b="41333"/>
          <a:stretch/>
        </p:blipFill>
        <p:spPr>
          <a:xfrm>
            <a:off x="6858000" y="3200400"/>
            <a:ext cx="1828800" cy="1147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" descr="Nike Men's Tuned 10 - Sun/Burgundy/Black"/>
          <p:cNvPicPr/>
          <p:nvPr/>
        </p:nvPicPr>
        <p:blipFill>
          <a:blip r:embed="rId8"/>
          <a:srcRect l="0" t="20673" r="0" b="20673"/>
          <a:stretch/>
        </p:blipFill>
        <p:spPr>
          <a:xfrm>
            <a:off x="6553080" y="5181480"/>
            <a:ext cx="1962360" cy="1101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1" descr="Nike Men's Hyperdunk TB - Black/White/Metallic Silver"/>
          <p:cNvPicPr/>
          <p:nvPr/>
        </p:nvPicPr>
        <p:blipFill>
          <a:blip r:embed="rId9"/>
          <a:srcRect l="0" t="12673" r="0" b="12673"/>
          <a:stretch/>
        </p:blipFill>
        <p:spPr>
          <a:xfrm>
            <a:off x="2362320" y="5105520"/>
            <a:ext cx="1809720" cy="135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2"/>
          <p:cNvSpPr/>
          <p:nvPr/>
        </p:nvSpPr>
        <p:spPr>
          <a:xfrm>
            <a:off x="838080" y="5257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1752480" y="8380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3657600" y="510552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815328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541008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2057400" y="320040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8001000" y="8380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4876920" y="838080"/>
            <a:ext cx="5331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8001000" y="5181480"/>
            <a:ext cx="53352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leads to a variety of produ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leads to a variety of produc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Nike, Addidas, New Balance, Reebo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762120" y="51055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m L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better your produ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igher the dem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re successful you are $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ograp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eography based on man-made cre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3809880" y="1295280"/>
            <a:ext cx="2403720" cy="5257800"/>
            <a:chOff x="3809880" y="1295280"/>
            <a:chExt cx="2403720" cy="5257800"/>
          </a:xfrm>
        </p:grpSpPr>
        <p:pic>
          <p:nvPicPr>
            <p:cNvPr id="46" name="Picture 4" descr="HG Man"/>
            <p:cNvPicPr/>
            <p:nvPr/>
          </p:nvPicPr>
          <p:blipFill>
            <a:blip r:embed="rId2"/>
            <a:srcRect l="15806" t="2856" r="48829" b="2856"/>
            <a:stretch/>
          </p:blipFill>
          <p:spPr>
            <a:xfrm>
              <a:off x="3809880" y="1295280"/>
              <a:ext cx="2403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2" descr=""/>
            <p:cNvPicPr/>
            <p:nvPr/>
          </p:nvPicPr>
          <p:blipFill>
            <a:blip r:embed="rId3"/>
            <a:srcRect l="15127" t="6527" r="12947" b="4351"/>
            <a:stretch/>
          </p:blipFill>
          <p:spPr>
            <a:xfrm>
              <a:off x="4572000" y="1295280"/>
              <a:ext cx="86832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Group 15"/>
          <p:cNvGrpSpPr/>
          <p:nvPr/>
        </p:nvGrpSpPr>
        <p:grpSpPr>
          <a:xfrm>
            <a:off x="5334120" y="304920"/>
            <a:ext cx="3047760" cy="1143000"/>
            <a:chOff x="5334120" y="304920"/>
            <a:chExt cx="3047760" cy="1143000"/>
          </a:xfrm>
        </p:grpSpPr>
        <p:sp>
          <p:nvSpPr>
            <p:cNvPr id="49" name="Text Box 6"/>
            <p:cNvSpPr/>
            <p:nvPr/>
          </p:nvSpPr>
          <p:spPr>
            <a:xfrm>
              <a:off x="6629400" y="304920"/>
              <a:ext cx="1752480" cy="100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litic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the “thinking” of a socie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3"/>
            <p:cNvSpPr/>
            <p:nvPr/>
          </p:nvSpPr>
          <p:spPr>
            <a:xfrm flipH="1">
              <a:off x="5334120" y="762120"/>
              <a:ext cx="129528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14"/>
          <p:cNvSpPr/>
          <p:nvPr/>
        </p:nvSpPr>
        <p:spPr>
          <a:xfrm>
            <a:off x="304920" y="2971800"/>
            <a:ext cx="228600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– Sketch the outline a human figure in your notebook on an unused piece of paper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abel political with an arrow pointing to the he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295280"/>
          <a:ext cx="8229600" cy="48373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41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a country produces and exchanges goods and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Systems – the two modern choices for running a country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Systems – 2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63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Line 10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 – Us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. 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add a bubble to your web that explains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71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75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– Add 2 bubbles to your web, one for characteristics and one for sum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83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87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91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95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0" descr="Image:USDnotes.jpg"/>
          <p:cNvPicPr/>
          <p:nvPr/>
        </p:nvPicPr>
        <p:blipFill>
          <a:blip r:embed="rId2"/>
          <a:stretch/>
        </p:blipFill>
        <p:spPr>
          <a:xfrm>
            <a:off x="7315200" y="40384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Market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ion is controlled by the DEMAND of CONSUM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ople can choose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any rich people but many poor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5"/>
          <p:cNvGrpSpPr/>
          <p:nvPr/>
        </p:nvGrpSpPr>
        <p:grpSpPr>
          <a:xfrm>
            <a:off x="4572000" y="4114800"/>
            <a:ext cx="1449360" cy="2456280"/>
            <a:chOff x="4572000" y="4114800"/>
            <a:chExt cx="1449360" cy="2456280"/>
          </a:xfrm>
        </p:grpSpPr>
        <p:pic>
          <p:nvPicPr>
            <p:cNvPr id="102" name="Picture 11" descr="Image:SMAW.welding.af.ncs.jpg"/>
            <p:cNvPicPr/>
            <p:nvPr/>
          </p:nvPicPr>
          <p:blipFill>
            <a:blip r:embed="rId3"/>
            <a:stretch/>
          </p:blipFill>
          <p:spPr>
            <a:xfrm>
              <a:off x="4572000" y="4114800"/>
              <a:ext cx="1449360" cy="16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4"/>
            <p:cNvSpPr/>
            <p:nvPr/>
          </p:nvSpPr>
          <p:spPr>
            <a:xfrm>
              <a:off x="4572000" y="5867280"/>
              <a:ext cx="1447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kill - Weld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7"/>
          <p:cNvGrpSpPr/>
          <p:nvPr/>
        </p:nvGrpSpPr>
        <p:grpSpPr>
          <a:xfrm>
            <a:off x="1828800" y="4572000"/>
            <a:ext cx="2514600" cy="1313280"/>
            <a:chOff x="1828800" y="4572000"/>
            <a:chExt cx="2514600" cy="1313280"/>
          </a:xfrm>
        </p:grpSpPr>
        <p:pic>
          <p:nvPicPr>
            <p:cNvPr id="105" name="Picture 8" descr="81"/>
            <p:cNvPicPr/>
            <p:nvPr/>
          </p:nvPicPr>
          <p:blipFill>
            <a:blip r:embed="rId4"/>
            <a:stretch/>
          </p:blipFill>
          <p:spPr>
            <a:xfrm>
              <a:off x="1828800" y="4572000"/>
              <a:ext cx="25146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/>
            <p:cNvSpPr/>
            <p:nvPr/>
          </p:nvSpPr>
          <p:spPr>
            <a:xfrm>
              <a:off x="2311560" y="5486400"/>
              <a:ext cx="13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usine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9"/>
          <p:cNvGrpSpPr/>
          <p:nvPr/>
        </p:nvGrpSpPr>
        <p:grpSpPr>
          <a:xfrm>
            <a:off x="152280" y="4114800"/>
            <a:ext cx="1447920" cy="2456280"/>
            <a:chOff x="152280" y="4114800"/>
            <a:chExt cx="1447920" cy="2456280"/>
          </a:xfrm>
        </p:grpSpPr>
        <p:pic>
          <p:nvPicPr>
            <p:cNvPr id="108" name="Picture 5" descr="John Belushi - Animal..."/>
            <p:cNvPicPr/>
            <p:nvPr/>
          </p:nvPicPr>
          <p:blipFill>
            <a:blip r:embed="rId5"/>
            <a:stretch/>
          </p:blipFill>
          <p:spPr>
            <a:xfrm>
              <a:off x="228600" y="4114800"/>
              <a:ext cx="12952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8"/>
            <p:cNvSpPr/>
            <p:nvPr/>
          </p:nvSpPr>
          <p:spPr>
            <a:xfrm>
              <a:off x="152280" y="6172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lle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2"/>
          <p:cNvGrpSpPr/>
          <p:nvPr/>
        </p:nvGrpSpPr>
        <p:grpSpPr>
          <a:xfrm>
            <a:off x="0" y="4267080"/>
            <a:ext cx="1828800" cy="1600200"/>
            <a:chOff x="0" y="4267080"/>
            <a:chExt cx="1828800" cy="1600200"/>
          </a:xfrm>
        </p:grpSpPr>
        <p:sp>
          <p:nvSpPr>
            <p:cNvPr id="111" name="Oval 20"/>
            <p:cNvSpPr/>
            <p:nvPr/>
          </p:nvSpPr>
          <p:spPr>
            <a:xfrm>
              <a:off x="0" y="426708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1"/>
            <p:cNvSpPr/>
            <p:nvPr/>
          </p:nvSpPr>
          <p:spPr>
            <a:xfrm flipH="1">
              <a:off x="228600" y="449568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5"/>
          <p:cNvGrpSpPr/>
          <p:nvPr/>
        </p:nvGrpSpPr>
        <p:grpSpPr>
          <a:xfrm>
            <a:off x="380880" y="6172200"/>
            <a:ext cx="1067040" cy="457200"/>
            <a:chOff x="380880" y="6172200"/>
            <a:chExt cx="1067040" cy="457200"/>
          </a:xfrm>
        </p:grpSpPr>
        <p:sp>
          <p:nvSpPr>
            <p:cNvPr id="114" name="Line 23"/>
            <p:cNvSpPr/>
            <p:nvPr/>
          </p:nvSpPr>
          <p:spPr>
            <a:xfrm>
              <a:off x="380880" y="61722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24"/>
            <p:cNvSpPr/>
            <p:nvPr/>
          </p:nvSpPr>
          <p:spPr>
            <a:xfrm flipH="1">
              <a:off x="380880" y="61722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6"/>
          <p:cNvGrpSpPr/>
          <p:nvPr/>
        </p:nvGrpSpPr>
        <p:grpSpPr>
          <a:xfrm>
            <a:off x="4952880" y="6019920"/>
            <a:ext cx="1067040" cy="457200"/>
            <a:chOff x="4952880" y="6019920"/>
            <a:chExt cx="1067040" cy="457200"/>
          </a:xfrm>
        </p:grpSpPr>
        <p:sp>
          <p:nvSpPr>
            <p:cNvPr id="117" name="Line 27"/>
            <p:cNvSpPr/>
            <p:nvPr/>
          </p:nvSpPr>
          <p:spPr>
            <a:xfrm>
              <a:off x="4952880" y="601992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8"/>
            <p:cNvSpPr/>
            <p:nvPr/>
          </p:nvSpPr>
          <p:spPr>
            <a:xfrm flipH="1">
              <a:off x="4952880" y="601992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9"/>
          <p:cNvGrpSpPr/>
          <p:nvPr/>
        </p:nvGrpSpPr>
        <p:grpSpPr>
          <a:xfrm>
            <a:off x="2438280" y="5486400"/>
            <a:ext cx="1067040" cy="457200"/>
            <a:chOff x="2438280" y="5486400"/>
            <a:chExt cx="1067040" cy="457200"/>
          </a:xfrm>
        </p:grpSpPr>
        <p:sp>
          <p:nvSpPr>
            <p:cNvPr id="120" name="Line 30"/>
            <p:cNvSpPr/>
            <p:nvPr/>
          </p:nvSpPr>
          <p:spPr>
            <a:xfrm>
              <a:off x="2438280" y="54864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 flipH="1">
              <a:off x="2438280" y="5486400"/>
              <a:ext cx="106704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2"/>
          <p:cNvGrpSpPr/>
          <p:nvPr/>
        </p:nvGrpSpPr>
        <p:grpSpPr>
          <a:xfrm>
            <a:off x="2133720" y="4038480"/>
            <a:ext cx="1828800" cy="1600200"/>
            <a:chOff x="2133720" y="4038480"/>
            <a:chExt cx="1828800" cy="1600200"/>
          </a:xfrm>
        </p:grpSpPr>
        <p:sp>
          <p:nvSpPr>
            <p:cNvPr id="123" name="Oval 33"/>
            <p:cNvSpPr/>
            <p:nvPr/>
          </p:nvSpPr>
          <p:spPr>
            <a:xfrm>
              <a:off x="2133720" y="403848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4"/>
            <p:cNvSpPr/>
            <p:nvPr/>
          </p:nvSpPr>
          <p:spPr>
            <a:xfrm flipH="1">
              <a:off x="2362320" y="426708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5"/>
          <p:cNvGrpSpPr/>
          <p:nvPr/>
        </p:nvGrpSpPr>
        <p:grpSpPr>
          <a:xfrm>
            <a:off x="4419720" y="4114800"/>
            <a:ext cx="1828800" cy="1600200"/>
            <a:chOff x="4419720" y="4114800"/>
            <a:chExt cx="1828800" cy="1600200"/>
          </a:xfrm>
        </p:grpSpPr>
        <p:sp>
          <p:nvSpPr>
            <p:cNvPr id="126" name="Oval 36"/>
            <p:cNvSpPr/>
            <p:nvPr/>
          </p:nvSpPr>
          <p:spPr>
            <a:xfrm>
              <a:off x="4419720" y="4114800"/>
              <a:ext cx="18288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 flipH="1">
              <a:off x="4648320" y="4343400"/>
              <a:ext cx="129528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8"/>
          <p:cNvSpPr/>
          <p:nvPr/>
        </p:nvSpPr>
        <p:spPr>
          <a:xfrm>
            <a:off x="6324480" y="4952880"/>
            <a:ext cx="9144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46"/>
          <p:cNvGrpSpPr/>
          <p:nvPr/>
        </p:nvGrpSpPr>
        <p:grpSpPr>
          <a:xfrm>
            <a:off x="7315200" y="4038480"/>
            <a:ext cx="1828800" cy="1447560"/>
            <a:chOff x="7315200" y="4038480"/>
            <a:chExt cx="1828800" cy="1447560"/>
          </a:xfrm>
        </p:grpSpPr>
        <p:sp>
          <p:nvSpPr>
            <p:cNvPr id="130" name="Rectangle 41"/>
            <p:cNvSpPr/>
            <p:nvPr/>
          </p:nvSpPr>
          <p:spPr>
            <a:xfrm>
              <a:off x="7315200" y="4038480"/>
              <a:ext cx="1828800" cy="1447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5" descr="Sad-tpvgames"/>
            <p:cNvPicPr/>
            <p:nvPr/>
          </p:nvPicPr>
          <p:blipFill>
            <a:blip r:embed="rId6"/>
            <a:stretch/>
          </p:blipFill>
          <p:spPr>
            <a:xfrm>
              <a:off x="7620120" y="4199400"/>
              <a:ext cx="1371600" cy="112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Economy Sale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Pass and Test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out of notebook checks for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swer by your economics intro no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hich good had the highest dem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In a Market Economy, which good should  I (Mr. Orso) produce more of to sell tomorrow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ould you have purchased any good you wanted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If you were unable to make a purchase, why didn’t you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9T17:41:26Z</dcterms:modified>
  <cp:revision>59</cp:revision>
  <dc:subject/>
  <dc:title>Human Geography</dc:title>
</cp:coreProperties>
</file>