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cashreg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9FA-AAA9-4249-81FA-6717A78B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CB5-0142-4161-B93A-A9449ECC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4AB-CAC4-4103-A26D-CB8BDE17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8AF-B322-418E-B587-2E3187E4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D87-7633-4269-9106-658E58A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757-4449-4132-8BA0-5AED8304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DB7-3D75-4F62-BA5B-6E8661E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542-9E81-4341-87A3-5F3E7AB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EA2-3F70-43B2-8F9A-F915290D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230-5597-45F8-AFB2-F8EAE04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EC1-BC68-4CFB-A92B-4D9FB729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042-AE87-4080-AA41-71EB9E2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F69-8BCF-4FE8-8ED1-D2C01E80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pply and Demand – demand guide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edom to purchase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y product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098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mpetition – Price is 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didas Men's Microbounce + FH Leather - Silver"/>
          <p:cNvPicPr/>
          <p:nvPr/>
        </p:nvPicPr>
        <p:blipFill>
          <a:blip r:embed="rId2"/>
          <a:srcRect l="0" t="15004" r="0" b="20005"/>
          <a:stretch/>
        </p:blipFill>
        <p:spPr>
          <a:xfrm>
            <a:off x="380880" y="8380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3"/>
          <a:srcRect l="15054" t="25811" r="45162" b="34050"/>
          <a:stretch/>
        </p:blipFill>
        <p:spPr>
          <a:xfrm>
            <a:off x="3505320" y="838080"/>
            <a:ext cx="1904760" cy="14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Nike Men's Shox Turbo + 7 - Grey/Black/Black"/>
          <p:cNvPicPr/>
          <p:nvPr/>
        </p:nvPicPr>
        <p:blipFill>
          <a:blip r:embed="rId4"/>
          <a:srcRect l="0" t="21340" r="0" b="20005"/>
          <a:stretch/>
        </p:blipFill>
        <p:spPr>
          <a:xfrm>
            <a:off x="6553080" y="838080"/>
            <a:ext cx="198144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Nike Women's Shox Turbo + 7 - White/Black/Pink"/>
          <p:cNvPicPr/>
          <p:nvPr/>
        </p:nvPicPr>
        <p:blipFill>
          <a:blip r:embed="rId5"/>
          <a:srcRect l="0" t="23331" r="0" b="20673"/>
          <a:stretch/>
        </p:blipFill>
        <p:spPr>
          <a:xfrm>
            <a:off x="380880" y="3200400"/>
            <a:ext cx="22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didas Women's Microbounce+ Arianna - Iron/Mauve/Grey"/>
          <p:cNvPicPr/>
          <p:nvPr/>
        </p:nvPicPr>
        <p:blipFill>
          <a:blip r:embed="rId6"/>
          <a:srcRect l="0" t="37037" r="0" b="0"/>
          <a:stretch/>
        </p:blipFill>
        <p:spPr>
          <a:xfrm>
            <a:off x="3886200" y="3200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Jordan Big Kids Collezione 18/5 - Black/Varsity Red &amp; White/Black/Varsity"/>
          <p:cNvPicPr/>
          <p:nvPr/>
        </p:nvPicPr>
        <p:blipFill>
          <a:blip r:embed="rId7"/>
          <a:srcRect l="29340" t="7999" r="0" b="41333"/>
          <a:stretch/>
        </p:blipFill>
        <p:spPr>
          <a:xfrm>
            <a:off x="6858000" y="32004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Nike Men's Tuned 10 - Sun/Burgundy/Black"/>
          <p:cNvPicPr/>
          <p:nvPr/>
        </p:nvPicPr>
        <p:blipFill>
          <a:blip r:embed="rId8"/>
          <a:srcRect l="0" t="20673" r="0" b="20673"/>
          <a:stretch/>
        </p:blipFill>
        <p:spPr>
          <a:xfrm>
            <a:off x="6553080" y="5181480"/>
            <a:ext cx="1962360" cy="110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Nike Men's Hyperdunk TB - Black/White/Metallic Silver"/>
          <p:cNvPicPr/>
          <p:nvPr/>
        </p:nvPicPr>
        <p:blipFill>
          <a:blip r:embed="rId9"/>
          <a:srcRect l="0" t="12673" r="0" b="12673"/>
          <a:stretch/>
        </p:blipFill>
        <p:spPr>
          <a:xfrm>
            <a:off x="2362320" y="5105520"/>
            <a:ext cx="1809720" cy="135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2"/>
          <p:cNvSpPr/>
          <p:nvPr/>
        </p:nvSpPr>
        <p:spPr>
          <a:xfrm>
            <a:off x="8380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75248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657600" y="510552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81532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4100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05740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0100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876920" y="838080"/>
            <a:ext cx="5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01000" y="51814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Nike, Addidas, New Balance, Reebo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tter your produ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igher the dem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e successful you are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46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5"/>
          <p:cNvGrpSpPr/>
          <p:nvPr/>
        </p:nvGrpSpPr>
        <p:grpSpPr>
          <a:xfrm>
            <a:off x="5334120" y="304920"/>
            <a:ext cx="3047760" cy="1143000"/>
            <a:chOff x="5334120" y="304920"/>
            <a:chExt cx="3047760" cy="1143000"/>
          </a:xfrm>
        </p:grpSpPr>
        <p:sp>
          <p:nvSpPr>
            <p:cNvPr id="49" name="Text Box 6"/>
            <p:cNvSpPr/>
            <p:nvPr/>
          </p:nvSpPr>
          <p:spPr>
            <a:xfrm>
              <a:off x="6629400" y="304920"/>
              <a:ext cx="17524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the “thinking” of a socie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 flipH="1">
              <a:off x="5334120" y="7621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4"/>
          <p:cNvSpPr/>
          <p:nvPr/>
        </p:nvSpPr>
        <p:spPr>
          <a:xfrm>
            <a:off x="304920" y="2971800"/>
            <a:ext cx="2286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Sketch the outline a human figure in your notebook on an unused piece of pap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political with an arrow pointing to the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41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a country produces and exchanges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ystems – the two modern choices for running a country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 – 2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6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0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Us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. 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dd a bubble to your web that explains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1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5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Add 2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8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87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91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5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0" descr="Image:USDnotes.jpg"/>
          <p:cNvPicPr/>
          <p:nvPr/>
        </p:nvPicPr>
        <p:blipFill>
          <a:blip r:embed="rId2"/>
          <a:stretch/>
        </p:blipFill>
        <p:spPr>
          <a:xfrm>
            <a:off x="7315200" y="4038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is controlled by the DEMAND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ople can choos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ny rich people but many po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572000" y="4114800"/>
            <a:ext cx="1449360" cy="2456280"/>
            <a:chOff x="4572000" y="4114800"/>
            <a:chExt cx="1449360" cy="2456280"/>
          </a:xfrm>
        </p:grpSpPr>
        <p:pic>
          <p:nvPicPr>
            <p:cNvPr id="102" name="Picture 11" descr="Image:SMAW.welding.af.ncs.jpg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44936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>
              <a:off x="4572000" y="58672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 - We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1828800" y="4572000"/>
            <a:ext cx="2514600" cy="1313280"/>
            <a:chOff x="1828800" y="4572000"/>
            <a:chExt cx="2514600" cy="1313280"/>
          </a:xfrm>
        </p:grpSpPr>
        <p:pic>
          <p:nvPicPr>
            <p:cNvPr id="105" name="Picture 8" descr="81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251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2311560" y="54864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152280" y="4114800"/>
            <a:ext cx="1447920" cy="2456280"/>
            <a:chOff x="152280" y="4114800"/>
            <a:chExt cx="1447920" cy="2456280"/>
          </a:xfrm>
        </p:grpSpPr>
        <p:pic>
          <p:nvPicPr>
            <p:cNvPr id="108" name="Picture 5" descr="John Belushi - Animal..."/>
            <p:cNvPicPr/>
            <p:nvPr/>
          </p:nvPicPr>
          <p:blipFill>
            <a:blip r:embed="rId5"/>
            <a:stretch/>
          </p:blipFill>
          <p:spPr>
            <a:xfrm>
              <a:off x="228600" y="4114800"/>
              <a:ext cx="12952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152280" y="6172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0" y="4267080"/>
            <a:ext cx="1828800" cy="1600200"/>
            <a:chOff x="0" y="4267080"/>
            <a:chExt cx="1828800" cy="1600200"/>
          </a:xfrm>
        </p:grpSpPr>
        <p:sp>
          <p:nvSpPr>
            <p:cNvPr id="111" name="Oval 20"/>
            <p:cNvSpPr/>
            <p:nvPr/>
          </p:nvSpPr>
          <p:spPr>
            <a:xfrm>
              <a:off x="0" y="42670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228600" y="44956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380880" y="6172200"/>
            <a:ext cx="1067040" cy="457200"/>
            <a:chOff x="380880" y="6172200"/>
            <a:chExt cx="1067040" cy="457200"/>
          </a:xfrm>
        </p:grpSpPr>
        <p:sp>
          <p:nvSpPr>
            <p:cNvPr id="114" name="Line 23"/>
            <p:cNvSpPr/>
            <p:nvPr/>
          </p:nvSpPr>
          <p:spPr>
            <a:xfrm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6"/>
          <p:cNvGrpSpPr/>
          <p:nvPr/>
        </p:nvGrpSpPr>
        <p:grpSpPr>
          <a:xfrm>
            <a:off x="4952880" y="6019920"/>
            <a:ext cx="1067040" cy="457200"/>
            <a:chOff x="4952880" y="6019920"/>
            <a:chExt cx="1067040" cy="457200"/>
          </a:xfrm>
        </p:grpSpPr>
        <p:sp>
          <p:nvSpPr>
            <p:cNvPr id="117" name="Line 27"/>
            <p:cNvSpPr/>
            <p:nvPr/>
          </p:nvSpPr>
          <p:spPr>
            <a:xfrm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438280" y="5486400"/>
            <a:ext cx="1067040" cy="457200"/>
            <a:chOff x="2438280" y="5486400"/>
            <a:chExt cx="1067040" cy="457200"/>
          </a:xfrm>
        </p:grpSpPr>
        <p:sp>
          <p:nvSpPr>
            <p:cNvPr id="120" name="Line 30"/>
            <p:cNvSpPr/>
            <p:nvPr/>
          </p:nvSpPr>
          <p:spPr>
            <a:xfrm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2133720" y="4038480"/>
            <a:ext cx="1828800" cy="1600200"/>
            <a:chOff x="2133720" y="4038480"/>
            <a:chExt cx="1828800" cy="1600200"/>
          </a:xfrm>
        </p:grpSpPr>
        <p:sp>
          <p:nvSpPr>
            <p:cNvPr id="123" name="Oval 33"/>
            <p:cNvSpPr/>
            <p:nvPr/>
          </p:nvSpPr>
          <p:spPr>
            <a:xfrm>
              <a:off x="2133720" y="40384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2362320" y="42670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5"/>
          <p:cNvGrpSpPr/>
          <p:nvPr/>
        </p:nvGrpSpPr>
        <p:grpSpPr>
          <a:xfrm>
            <a:off x="4419720" y="4114800"/>
            <a:ext cx="1828800" cy="1600200"/>
            <a:chOff x="4419720" y="4114800"/>
            <a:chExt cx="1828800" cy="1600200"/>
          </a:xfrm>
        </p:grpSpPr>
        <p:sp>
          <p:nvSpPr>
            <p:cNvPr id="126" name="Oval 36"/>
            <p:cNvSpPr/>
            <p:nvPr/>
          </p:nvSpPr>
          <p:spPr>
            <a:xfrm>
              <a:off x="4419720" y="411480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4648320" y="434340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8"/>
          <p:cNvSpPr/>
          <p:nvPr/>
        </p:nvSpPr>
        <p:spPr>
          <a:xfrm>
            <a:off x="6324480" y="495288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7315200" y="4038480"/>
            <a:ext cx="1828800" cy="1447560"/>
            <a:chOff x="7315200" y="4038480"/>
            <a:chExt cx="1828800" cy="1447560"/>
          </a:xfrm>
        </p:grpSpPr>
        <p:sp>
          <p:nvSpPr>
            <p:cNvPr id="130" name="Rectangle 41"/>
            <p:cNvSpPr/>
            <p:nvPr/>
          </p:nvSpPr>
          <p:spPr>
            <a:xfrm>
              <a:off x="7315200" y="4038480"/>
              <a:ext cx="182880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5" descr="Sad-tpvgames"/>
            <p:cNvPicPr/>
            <p:nvPr/>
          </p:nvPicPr>
          <p:blipFill>
            <a:blip r:embed="rId6"/>
            <a:stretch/>
          </p:blipFill>
          <p:spPr>
            <a:xfrm>
              <a:off x="7620120" y="4199400"/>
              <a:ext cx="13716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Economy Sale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ss and Test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ut of notebook checks fo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swer by your economics intro no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ich good had the highest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 a Market Economy, which good should  I (Mr. Orso) produce more of to sell tomorrow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uld you have purchased any good you wan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f you were unable to make a purchase, why didn’t you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26Z</dcterms:modified>
  <cp:revision>59</cp:revision>
  <dc:subject/>
  <dc:title>Human Geography</dc:title>
</cp:coreProperties>
</file>