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7AC-BFC6-4740-A27A-AC77021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4E0-1CE6-44BF-9656-4361CCFE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B39-9068-4436-AA9A-16E2FF5B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F19-5BD9-4164-B7E1-1863D80B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6B1-8A93-41A3-82EC-B07A539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697-664D-452C-8F63-66A95869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DBC-9031-4630-8345-D2B81AE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5A6-7AB8-4BB3-AA4D-9345755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B9B-811C-44BB-BA24-E5F10D83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649-D3DF-46D8-872A-D115419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04F-65A2-4794-BEB0-421B0C9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5E6-584A-4B6A-B0C9-E2794CE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34B1-121C-49E8-9C78-6DC5330D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in the Poli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vote provide the power to the democracy. If people don’t support the government then nothing will get done and we will have a American revolution on 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 -de Montesquieu influenced the framers by saying that no one power should have complete hol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inty- is the idea that Rousseau put for the in the Social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5Z</dcterms:created>
  <dc:creator>cfisd</dc:creator>
  <dc:description/>
  <dc:language>en-US</dc:language>
  <cp:lastModifiedBy>cfisd</cp:lastModifiedBy>
  <dcterms:modified xsi:type="dcterms:W3CDTF">2008-10-21T13:15:59Z</dcterms:modified>
  <cp:revision>2</cp:revision>
  <dc:subject/>
  <dc:title>Slide 1</dc:title>
</cp:coreProperties>
</file>