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96A8-6D8D-416D-AD4E-80744492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48D2-ECD6-440A-BCB7-434691DA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651A-9E11-4B87-B644-F9F801B5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77C5-BCAA-4F95-8475-A9D43000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CD4C-B579-4775-8860-567882BC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35B1-5567-4674-82E9-54F2BEBA0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D24-A9A1-4A4B-B085-01C6A397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261-8F19-46BE-8384-C7680F3C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9B1B-C538-4BBC-A910-4021E1A4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063E-FC22-4B35-9866-0B63E757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F01C-8580-47AE-94BD-5B22F562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CA84-4F7E-4F0D-9552-5CE86F77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D40D-DC13-4A4A-A070-4FD5F858D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in the Political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 who vote provide the power to the democracy. If people don’t support the government then nothing will get done and we will have a American revolution on ou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s from the Enlighte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s and Balances -de Montesquieu influenced the framers by saying that no one power should have complete hold over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r Soverinty- is the idea that Rousseau put for the in the Social COntra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3:10:05Z</dcterms:created>
  <dc:creator>cfisd</dc:creator>
  <dc:description/>
  <dc:language>en-US</dc:language>
  <cp:lastModifiedBy>cfisd</cp:lastModifiedBy>
  <dcterms:modified xsi:type="dcterms:W3CDTF">2008-10-21T13:15:59Z</dcterms:modified>
  <cp:revision>2</cp:revision>
  <dc:subject/>
  <dc:title>Slide 1</dc:title>
</cp:coreProperties>
</file>