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708-9FAD-4F12-B11B-F8D0B173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AF2-B46F-45A0-B804-7FF4C7DD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388-1A54-463E-85D0-B9505B06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F27-D602-4C89-B888-E8EE4B35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8ED-7299-4241-9895-ECF02F34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48C-86B3-483E-811D-66674685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E395-9669-42E2-8C0A-698538E4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DAD1-D263-4A3D-8024-043FAAF4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715-76AD-4384-A287-4F422473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88E-16E1-4212-95C7-03CAD7CA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3AC6-0635-4AFC-9838-0C2D625E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886-AE3F-4BF9-81C4-B56B4781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32CA-7B7A-48A2-BB7D-AABB45397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in the Politic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who vote provide the power to the democracy. If people don’t support the government then nothing will get done and we will have a American revolution on 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s from the Enlighte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s and Balances -de Montesquieu influenced the framers by saying that no one power should have complete hold over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 Soverinty- is the idea that Rousseau put for the in the Social COntr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3:10:05Z</dcterms:created>
  <dc:creator>cfisd</dc:creator>
  <dc:description/>
  <dc:language>en-US</dc:language>
  <cp:lastModifiedBy>cfisd</cp:lastModifiedBy>
  <dcterms:modified xsi:type="dcterms:W3CDTF">2008-10-21T13:15:59Z</dcterms:modified>
  <cp:revision>2</cp:revision>
  <dc:subject/>
  <dc:title>Slide 1</dc:title>
</cp:coreProperties>
</file>