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C9F6-517A-4F06-9F5D-6F944016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95C-9F4D-4012-9575-0314BE4B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E74-0156-4E38-9170-36920B53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A19-D114-472D-98BD-B32F1C9D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D2C-FCE6-457F-AD2D-25F6254C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AD0-5EF9-4D5B-91E7-6FAD15A0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752-3E7A-4635-96F8-5183E482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9FF4-D7AC-48B5-AB59-7B4119A5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ABF-AC6C-4DE6-9635-F9521A2B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206-FF49-403F-9D6C-52646652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8F9-9BE4-40ED-9F70-D073C9B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9BD6-9B1B-47A7-A7B2-5D6C4343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564A-FD8B-4432-811F-5B620055E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in the Politi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who vote provide the power to the democracy. If people don’t support the government then nothing will get done and we will have a American revolution on 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rom the Enlighte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 and Balances -de Montesquieu influenced the framers by saying that no one power should have complete hold over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Soverinty- is the idea that Rousseau put for the in the Social COntr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10:05Z</dcterms:created>
  <dc:creator>cfisd</dc:creator>
  <dc:description/>
  <dc:language>en-US</dc:language>
  <cp:lastModifiedBy>cfisd</cp:lastModifiedBy>
  <dcterms:modified xsi:type="dcterms:W3CDTF">2008-10-21T13:15:59Z</dcterms:modified>
  <cp:revision>2</cp:revision>
  <dc:subject/>
  <dc:title>Slide 1</dc:title>
</cp:coreProperties>
</file>