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431E5-8251-4485-880B-C9048D2CF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1E3CE-8357-4867-BC6A-1651D1C49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AB99B-8467-47BA-BFA9-48A0E5EC6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44E6F-7D4A-433C-A3B0-CC3B439920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20DB3-FB3B-49CD-930F-B5D6D6575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572BB-0596-457E-8D63-9101729EA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B471D-5225-441E-9421-40D26C770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E7A498-8271-44A4-B8E5-AACF2FAD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86CD6-FBFC-4ACA-BE8D-638B63013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0A012-8FD6-4E81-A974-38F19E1FC4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3E39E-E16A-419A-915A-A05050C92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86978-BA6D-46FB-AE84-5D9E40DE7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38250-C759-4237-BDD3-A5EC0BD9D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227E85-E460-45BD-A0CE-71A595FA8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C738B-625C-41E0-820B-19380641C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2F4481-183B-482D-AEE5-8F666992F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BFE0E-33DD-439D-993A-E3A701558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3D22E-6767-4C0F-8E25-98F52740B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75F3E-9E86-4FD6-8445-36BFC14F7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88A3-B4EF-4CF3-989B-9FC914E10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57F05-DED4-45F7-A55C-99537D9D5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9DA2-8A88-436B-A88B-72955F364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E094-DFF7-456D-A0B8-11922F530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2459B-0C8F-4735-A2B3-468F2ED764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FB2E-F813-4A7C-A259-4E42E393B34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81305-4DC7-4F7C-951A-01733D0F088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295280" y="2362320"/>
            <a:ext cx="4953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Georgia"/>
              </a:rPr>
              <a:t>ORSO UNIVERSITY</a:t>
            </a:r>
            <a:endParaRPr b="0" lang="en-US" sz="2400" spc="1" strike="noStrike">
              <a:ln w="0">
                <a:noFill/>
              </a:ln>
              <a:blipFill rotWithShape="0">
                <a:blip r:embed="rId2"/>
                <a:srcRect/>
                <a:stretch/>
              </a:blipFill>
              <a:effectLst>
                <a:outerShdw dist="17819" dir="2700000" blurRad="0" rotWithShape="0">
                  <a:srgbClr val="c0c0c0"/>
                </a:outerShdw>
              </a:effectLst>
              <a:latin typeface="Georgia"/>
              <a:ea typeface="Georgia"/>
            </a:endParaRPr>
          </a:p>
        </p:txBody>
      </p:sp>
      <p:sp>
        <p:nvSpPr>
          <p:cNvPr id="100" name=""/>
          <p:cNvSpPr/>
          <p:nvPr/>
        </p:nvSpPr>
        <p:spPr>
          <a:xfrm>
            <a:off x="5105520" y="419112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Kelsy Laz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Crime Data</a:t>
            </a:r>
            <a:endParaRPr b="0" lang="en-US" sz="4400" spc="-1" strike="noStrike">
              <a:solidFill>
                <a:srgbClr val="333399"/>
              </a:solidFill>
              <a:latin typeface="Tahoma"/>
            </a:endParaRPr>
          </a:p>
        </p:txBody>
      </p:sp>
      <p:sp>
        <p:nvSpPr>
          <p:cNvPr id="123" name="PlaceHolder 2"/>
          <p:cNvSpPr>
            <a:spLocks noGrp="1"/>
          </p:cNvSpPr>
          <p:nvPr>
            <p:ph/>
          </p:nvPr>
        </p:nvSpPr>
        <p:spPr>
          <a:xfrm>
            <a:off x="228240" y="2057400"/>
            <a:ext cx="297180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 three examples of layers you could add to this map that would provide additional information about the crime level of each area. Do not use additional crimes for your answer, credit will not be given.</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umber of cops in each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ifferent jai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Number of hospita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s crime data fully lets students know the danger in each potential area. This is crucial info that will come in use.</a:t>
            </a:r>
            <a:endParaRPr b="0" lang="en-US" sz="1400" spc="-1" strike="noStrike">
              <a:solidFill>
                <a:srgbClr val="000000"/>
              </a:solidFill>
              <a:latin typeface="Tahoma"/>
            </a:endParaRPr>
          </a:p>
        </p:txBody>
      </p:sp>
      <p:graphicFrame>
        <p:nvGraphicFramePr>
          <p:cNvPr id="124" name=""/>
          <p:cNvGraphicFramePr/>
          <p:nvPr/>
        </p:nvGraphicFramePr>
        <p:xfrm>
          <a:off x="3124080" y="2286000"/>
          <a:ext cx="5791320" cy="3886200"/>
        </p:xfrm>
        <a:graphic>
          <a:graphicData uri="http://schemas.openxmlformats.org/drawingml/2006/table">
            <a:tbl>
              <a:tblPr/>
              <a:tblGrid>
                <a:gridCol w="1447920"/>
                <a:gridCol w="1447920"/>
                <a:gridCol w="1447560"/>
                <a:gridCol w="1447920"/>
              </a:tblGrid>
              <a:tr h="647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rap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mur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e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ysi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 Hous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 Tomb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Ea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Cent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Land Prices</a:t>
            </a:r>
            <a:endParaRPr b="0" lang="en-US" sz="4400" spc="-1" strike="noStrike">
              <a:solidFill>
                <a:srgbClr val="333399"/>
              </a:solidFill>
              <a:latin typeface="Tahoma"/>
            </a:endParaRPr>
          </a:p>
        </p:txBody>
      </p:sp>
      <p:graphicFrame>
        <p:nvGraphicFramePr>
          <p:cNvPr id="126" name=""/>
          <p:cNvGraphicFramePr/>
          <p:nvPr/>
        </p:nvGraphicFramePr>
        <p:xfrm>
          <a:off x="228600" y="1981080"/>
          <a:ext cx="6324480" cy="4567320"/>
        </p:xfrm>
        <a:graphic>
          <a:graphicData uri="http://schemas.openxmlformats.org/drawingml/2006/table">
            <a:tbl>
              <a:tblPr/>
              <a:tblGrid>
                <a:gridCol w="3162240"/>
                <a:gridCol w="3162240"/>
              </a:tblGrid>
              <a:tr h="881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nd Price (per ac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si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7,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 Houst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Tomba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Ea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8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6781680" y="2590920"/>
            <a:ext cx="19051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nd prices can tell a lot about the area of land where each school will be located. The can tell about the size and condition of the land around and where the school will be buil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Crime Data &amp;&amp; Land Price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ed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e board of directors and investors will respond to this data in many ways. They must analyze it correctly to come up with a solid decision. Not does the crime rate cause issues it also is a matter of safety. They must look at the statistics of each area to find the safest and most secure location. The price is also an important factor when it comes to decision making. The higher the price, most likely the better land. But too much cost can be probl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Sources</a:t>
            </a:r>
            <a:endParaRPr b="0" lang="en-US" sz="4400" spc="-1" strike="noStrike">
              <a:solidFill>
                <a:srgbClr val="333399"/>
              </a:solidFill>
              <a:latin typeface="Tahoma"/>
            </a:endParaRPr>
          </a:p>
        </p:txBody>
      </p:sp>
      <p:graphicFrame>
        <p:nvGraphicFramePr>
          <p:cNvPr id="131" name=""/>
          <p:cNvGraphicFramePr/>
          <p:nvPr/>
        </p:nvGraphicFramePr>
        <p:xfrm>
          <a:off x="3352680" y="2057400"/>
          <a:ext cx="5334120" cy="3784680"/>
        </p:xfrm>
        <a:graphic>
          <a:graphicData uri="http://schemas.openxmlformats.org/drawingml/2006/table">
            <a:tbl>
              <a:tblPr/>
              <a:tblGrid>
                <a:gridCol w="1333800"/>
                <a:gridCol w="1333440"/>
                <a:gridCol w="1333440"/>
                <a:gridCol w="1333440"/>
              </a:tblGrid>
              <a:tr h="1020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ources of inform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lanation on how the source would be usef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most from the sour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least from the sour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80880" y="2209680"/>
            <a:ext cx="274320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Rank from most influential to least influent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tential New Location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side (La Porte, TX)  12328 Bay Area Blv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 Houston (Huffman, TX)  12688 FM 1960. (Huffma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 Tomball (Tomball, TX)  29608 Liberty LN. (Tomball,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East (Houston, TX)  650 Oats R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Central (Houston, TX)  1400 Travis St. (Houston,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k…</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population like in each ar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he land convenient to build a university 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physical features does the land ha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land have any damage due to plates moving? If so, what ki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re or has there been any natural destruction to the la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traffic like around the a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plains</a:t>
            </a:r>
            <a:endParaRPr b="0" lang="en-US" sz="4400" spc="-1" strike="noStrike">
              <a:solidFill>
                <a:srgbClr val="333399"/>
              </a:solidFill>
              <a:latin typeface="Tahoma"/>
            </a:endParaRPr>
          </a:p>
        </p:txBody>
      </p:sp>
      <p:sp>
        <p:nvSpPr>
          <p:cNvPr id="106" name="PlaceHolder 2"/>
          <p:cNvSpPr>
            <a:spLocks noGrp="1"/>
          </p:cNvSpPr>
          <p:nvPr>
            <p:ph/>
          </p:nvPr>
        </p:nvSpPr>
        <p:spPr>
          <a:xfrm>
            <a:off x="228600" y="2133720"/>
            <a:ext cx="2819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three different categories of floods? Rank them from strongest to weak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5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1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1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07" name=""/>
          <p:cNvGraphicFramePr/>
          <p:nvPr/>
        </p:nvGraphicFramePr>
        <p:xfrm>
          <a:off x="3506760" y="2017800"/>
          <a:ext cx="5430960" cy="4111560"/>
        </p:xfrm>
        <a:graphic>
          <a:graphicData uri="http://schemas.openxmlformats.org/presentationml/2006/ole">
            <p:oleObj r:id="rId1" spid="">
              <p:embed/>
              <p:pic>
                <p:nvPicPr>
                  <p:cNvPr id="108" name="" descr=""/>
                  <p:cNvPicPr/>
                  <p:nvPr/>
                </p:nvPicPr>
                <p:blipFill>
                  <a:blip r:embed="rId2"/>
                  <a:stretch/>
                </p:blipFill>
                <p:spPr>
                  <a:xfrm>
                    <a:off x="3506760" y="2017800"/>
                    <a:ext cx="5430960" cy="4111560"/>
                  </a:xfrm>
                  <a:prstGeom prst="rect">
                    <a:avLst/>
                  </a:prstGeom>
                  <a:ln w="0">
                    <a:noFill/>
                  </a:ln>
                </p:spPr>
              </p:pic>
            </p:oleObj>
          </a:graphicData>
        </a:graphic>
      </p:graphicFrame>
      <p:graphicFrame>
        <p:nvGraphicFramePr>
          <p:cNvPr id="109" name=""/>
          <p:cNvGraphicFramePr/>
          <p:nvPr/>
        </p:nvGraphicFramePr>
        <p:xfrm>
          <a:off x="2590920" y="1981080"/>
          <a:ext cx="6172200" cy="4686480"/>
        </p:xfrm>
        <a:graphic>
          <a:graphicData uri="http://schemas.openxmlformats.org/drawingml/2006/table">
            <a:tbl>
              <a:tblPr/>
              <a:tblGrid>
                <a:gridCol w="1542960"/>
                <a:gridCol w="1542960"/>
                <a:gridCol w="1542960"/>
                <a:gridCol w="1543320"/>
              </a:tblGrid>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udent created explanation of floodpla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of floodplain in Harris coun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nation of potential flood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0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lley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s creek valleys therefore the flooding is dee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are located in the northwestern part of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can be there for many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8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jor river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big and deep and there is only one in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located along the San Jacinto riv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last a week or mor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hallow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occurs when the capacity of the channel is excee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exist in different parts of the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lasts hours rather than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stal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ppens when water flows over low lying 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can occur in different areas, not just 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will affect buildings or houses that are located on low lying lan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loodplai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Worst scenari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at the coastal floodplain creates the worst scenario because it can effect homes and bulidings. This could put a persons house at risk and create damage to buildings. It could need a repai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nk Floodplains from best to wor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shallow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valley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major river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costal floodplai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ing Data</a:t>
            </a:r>
            <a:endParaRPr b="0" lang="en-US" sz="4400" spc="-1" strike="noStrike">
              <a:solidFill>
                <a:srgbClr val="333399"/>
              </a:solidFill>
              <a:latin typeface="Tahoma"/>
            </a:endParaRPr>
          </a:p>
        </p:txBody>
      </p:sp>
      <p:graphicFrame>
        <p:nvGraphicFramePr>
          <p:cNvPr id="113" name=""/>
          <p:cNvGraphicFramePr/>
          <p:nvPr/>
        </p:nvGraphicFramePr>
        <p:xfrm>
          <a:off x="380880" y="1981080"/>
          <a:ext cx="8382240" cy="4595760"/>
        </p:xfrm>
        <a:graphic>
          <a:graphicData uri="http://schemas.openxmlformats.org/drawingml/2006/table">
            <a:tbl>
              <a:tblPr/>
              <a:tblGrid>
                <a:gridCol w="2095560"/>
                <a:gridCol w="2095560"/>
                <a:gridCol w="2095560"/>
                <a:gridCol w="2095560"/>
              </a:tblGrid>
              <a:tr h="76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loodpla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ersh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looding Threat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sid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ear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 Houst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dar Bayo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 Tomba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ow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Eas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Hunting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Centr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Buffalo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Hurricane Data</a:t>
            </a:r>
            <a:endParaRPr b="0" lang="en-US" sz="4400" spc="-1" strike="noStrike">
              <a:solidFill>
                <a:srgbClr val="333399"/>
              </a:solidFill>
              <a:latin typeface="Tahoma"/>
            </a:endParaRPr>
          </a:p>
        </p:txBody>
      </p:sp>
      <p:sp>
        <p:nvSpPr>
          <p:cNvPr id="115" name="PlaceHolder 2"/>
          <p:cNvSpPr>
            <a:spLocks noGrp="1"/>
          </p:cNvSpPr>
          <p:nvPr>
            <p:ph/>
          </p:nvPr>
        </p:nvSpPr>
        <p:spPr>
          <a:xfrm>
            <a:off x="228600" y="1980720"/>
            <a:ext cx="2743200" cy="4419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is a storm surge?</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rm surge is simply water that is pushed toward the shore by the force of the winds swirling around</a:t>
            </a:r>
            <a:r>
              <a:rPr b="1" lang="en-US" sz="1200" spc="-1" strike="noStrike">
                <a:solidFill>
                  <a:srgbClr val="000000"/>
                </a:solidFill>
                <a:latin typeface="Verdana"/>
              </a:rPr>
              <a:t>. </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y is storm surge such a huge problem in the gulf of Mexico instead of places like the Atlantic ocean?</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cause when the storm surge approaches land the max height is reached</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in the three causes of storm surge.</a:t>
            </a:r>
            <a:endParaRPr b="0" lang="en-US" sz="14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rricanes, when low pressure builds it takes the water to the middle of the storm, and wave/current action</a:t>
            </a:r>
            <a:r>
              <a:rPr b="0" lang="en-US" sz="1000" spc="-1" strike="noStrike">
                <a:solidFill>
                  <a:srgbClr val="000000"/>
                </a:solidFill>
                <a:latin typeface="Tahoma"/>
              </a:rPr>
              <a:t>. </a:t>
            </a:r>
            <a:endParaRPr b="0" lang="en-US" sz="10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makes storm surge so devastating?</a:t>
            </a: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destroys everything and anything in sight, including people and homes.</a:t>
            </a:r>
            <a:endParaRPr b="0" lang="en-US" sz="1200" spc="-1" strike="noStrike">
              <a:solidFill>
                <a:srgbClr val="000000"/>
              </a:solidFill>
              <a:latin typeface="Tahoma"/>
            </a:endParaRPr>
          </a:p>
        </p:txBody>
      </p:sp>
      <p:graphicFrame>
        <p:nvGraphicFramePr>
          <p:cNvPr id="116" name=""/>
          <p:cNvGraphicFramePr/>
          <p:nvPr/>
        </p:nvGraphicFramePr>
        <p:xfrm>
          <a:off x="3124080" y="2057400"/>
          <a:ext cx="5791320" cy="4097160"/>
        </p:xfrm>
        <a:graphic>
          <a:graphicData uri="http://schemas.openxmlformats.org/drawingml/2006/table">
            <a:tbl>
              <a:tblPr/>
              <a:tblGrid>
                <a:gridCol w="1447920"/>
                <a:gridCol w="1600200"/>
                <a:gridCol w="1455840"/>
                <a:gridCol w="1287360"/>
              </a:tblGrid>
              <a:tr h="1022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egory of hurricane that would require an evacu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m surge height that would flood the 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urricane Threat Lev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si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9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 Hou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Tomb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Centr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ault Data</a:t>
            </a:r>
            <a:endParaRPr b="0" lang="en-US" sz="4400" spc="-1" strike="noStrike">
              <a:solidFill>
                <a:srgbClr val="333399"/>
              </a:solidFill>
              <a:latin typeface="Tahoma"/>
            </a:endParaRPr>
          </a:p>
        </p:txBody>
      </p:sp>
      <p:sp>
        <p:nvSpPr>
          <p:cNvPr id="118" name="PlaceHolder 2"/>
          <p:cNvSpPr>
            <a:spLocks noGrp="1"/>
          </p:cNvSpPr>
          <p:nvPr>
            <p:ph/>
          </p:nvPr>
        </p:nvSpPr>
        <p:spPr>
          <a:xfrm>
            <a:off x="228240" y="2057400"/>
            <a:ext cx="3809880" cy="4114800"/>
          </a:xfrm>
          <a:prstGeom prst="rect">
            <a:avLst/>
          </a:prstGeom>
          <a:noFill/>
          <a:ln w="0">
            <a:noFill/>
          </a:ln>
        </p:spPr>
        <p:txBody>
          <a:bodyPr lIns="90000" rIns="90000" tIns="46800" bIns="46800" anchor="t">
            <a:normAutofit fontScale="95000"/>
          </a:bodyPr>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images included on the map are examples of what kind of weathering?</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chanical weathering</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far are Harris county’s faults moving per year?</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would faults and weathering impact your university? </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could impact the university because they could damage it of the land around it causes a0stly repairs.</a:t>
            </a:r>
            <a:endParaRPr b="0" lang="en-US" sz="1600" spc="-1" strike="noStrike">
              <a:solidFill>
                <a:srgbClr val="000000"/>
              </a:solidFill>
              <a:latin typeface="Tahoma"/>
            </a:endParaRPr>
          </a:p>
        </p:txBody>
      </p:sp>
      <p:graphicFrame>
        <p:nvGraphicFramePr>
          <p:cNvPr id="119" name=""/>
          <p:cNvGraphicFramePr/>
          <p:nvPr/>
        </p:nvGraphicFramePr>
        <p:xfrm>
          <a:off x="4038480" y="1905120"/>
          <a:ext cx="4724640" cy="4521240"/>
        </p:xfrm>
        <a:graphic>
          <a:graphicData uri="http://schemas.openxmlformats.org/drawingml/2006/table">
            <a:tbl>
              <a:tblPr/>
              <a:tblGrid>
                <a:gridCol w="1575000"/>
                <a:gridCol w="1574640"/>
                <a:gridCol w="1575000"/>
              </a:tblGrid>
              <a:tr h="131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ults Nearby (High, Medium, 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jected Repair Cos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ysi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 Hous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Tomba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Ea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Cent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ault Data</a:t>
            </a:r>
            <a:endParaRPr b="0" lang="en-US" sz="4400" spc="-1" strike="noStrike">
              <a:solidFill>
                <a:srgbClr val="333399"/>
              </a:solidFill>
              <a:latin typeface="Tahoma"/>
            </a:endParaRPr>
          </a:p>
        </p:txBody>
      </p:sp>
      <p:sp>
        <p:nvSpPr>
          <p:cNvPr id="12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types of problems do you anticipate from fault dat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the fault data we can anticipate problems such as, damages to the land and are surrounding the school. As a result to damages there will have to be repair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te locations from worst to b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W. Tombal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NE Houst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Downtown Centr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aysi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Downtown Ea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7:58:15Z</dcterms:created>
  <dc:creator>carlos</dc:creator>
  <dc:description/>
  <dc:language>en-US</dc:language>
  <cp:lastModifiedBy>CFISD</cp:lastModifiedBy>
  <dcterms:modified xsi:type="dcterms:W3CDTF">2008-09-23T15:19:15Z</dcterms:modified>
  <cp:revision>15</cp:revision>
  <dc:subject/>
  <dc:title>PowerPoint Presentation</dc:title>
</cp:coreProperties>
</file>