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212B-66BB-439D-B8BD-FBBB1439A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8FD6-ED0C-41D2-BD17-441964675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A53E-569B-41E9-8FE3-55DFE51E7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20F9-D397-4068-8A78-E61944A9A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6B3C-C5CD-49A0-9D77-ADBAEC059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E98B-F8C0-43C7-8482-F0D68720E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C5B7-2B17-4204-8BCF-AA5110880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CF45-7C53-4F5C-B4C8-D2289C36F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6E03-EE7B-458C-8203-031FA075E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5395-4168-4A08-B0AC-014D58D5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0090-441F-49CB-A00A-9D4725CC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5545-8C70-437D-A3A9-578A527B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65708-0578-4F95-B65C-681B09E4A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What does each side w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ertile river valley between mountains because it is a major water source provided by melting glaci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lsy Laz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cob Fl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09480" y="457200"/>
            <a:ext cx="5453280" cy="315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Kashmir Conflict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are the two groups fighting in Kashmi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li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d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Why is this conflict so important international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it is a violent conflict involving random attacks, kidnappings, and military confli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9T12:53:49Z</dcterms:created>
  <dc:creator>cfisd</dc:creator>
  <dc:description/>
  <dc:language>en-US</dc:language>
  <cp:lastModifiedBy>cfisd</cp:lastModifiedBy>
  <dcterms:modified xsi:type="dcterms:W3CDTF">2009-05-19T12:59:33Z</dcterms:modified>
  <cp:revision>2</cp:revision>
  <dc:subject/>
  <dc:title>Kashmir Conflict</dc:title>
</cp:coreProperties>
</file>