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D39-4125-4F58-9A5F-ECA68B1F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65A-FAE7-44A6-980D-DA555B8E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38B-7D3F-4278-A7E5-239585AE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030-E91D-4EFA-9C78-107B7A0B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0A5-B70D-4BAA-923E-783C3D5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935-678A-43DC-B4EB-270C9C38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47E-0B12-4147-BA34-7752B308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F1A-437D-44B9-A415-896E7B73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8C6-EBC2-453A-A817-2BAE0476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461-B67C-45F5-B661-217036E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5BB-29F0-4840-9BAD-6419B6C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089-3CC3-49A3-AFCD-C1DB7B1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3A2-875B-4A28-B5D6-C785326A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does each side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rtile river valley between mountains because it is a major water source provided by melting glac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457200"/>
            <a:ext cx="5453280" cy="31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ashmir Conflic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wo groups fighting in Kash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hy is this conflict so important internatio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is a violent conflict involving random attacks, kidnappings, and military confli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3:49Z</dcterms:created>
  <dc:creator>cfisd</dc:creator>
  <dc:description/>
  <dc:language>en-US</dc:language>
  <cp:lastModifiedBy>cfisd</cp:lastModifiedBy>
  <dcterms:modified xsi:type="dcterms:W3CDTF">2009-05-19T12:59:33Z</dcterms:modified>
  <cp:revision>2</cp:revision>
  <dc:subject/>
  <dc:title>Kashmir Conflict</dc:title>
</cp:coreProperties>
</file>