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5A7-0498-4D9E-93C0-3E5BD32C4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EE76-6325-4690-8325-7D86D558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B27-D12C-4628-9902-26360CC5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3F9A-B68C-4ECF-8443-E86B7C56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5DE-BB5C-419C-8586-1B441303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61A-DF24-44D1-ABF3-E6FD9BE4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2AC-39C2-4515-80D8-2171840F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D10-B867-4FD1-A850-31F6DF1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9C3D-30BE-4F40-A4B0-1EA820CD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C03-321D-4E63-A501-D96E8987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F253-DCEC-4E8C-AB81-1231D4D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3CD-96F2-4FF7-B477-66AEB7EA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69C6-FE6C-4A0F-8116-C5A5CF286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does each side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rtile river valley between mountains because it is a major water source provided by melting glac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sy 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 F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457200"/>
            <a:ext cx="5453280" cy="31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ashmir Conflic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two groups fighting in Kashm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hy is this conflict so important internatio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is a violent conflict involving random attacks, kidnappings, and military confli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3:49Z</dcterms:created>
  <dc:creator>cfisd</dc:creator>
  <dc:description/>
  <dc:language>en-US</dc:language>
  <cp:lastModifiedBy>cfisd</cp:lastModifiedBy>
  <dcterms:modified xsi:type="dcterms:W3CDTF">2009-05-19T12:59:33Z</dcterms:modified>
  <cp:revision>2</cp:revision>
  <dc:subject/>
  <dc:title>Kashmir Conflict</dc:title>
</cp:coreProperties>
</file>