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3D8-908C-473F-B749-10C7B02B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DE4-6656-40BB-906D-65381E92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40A-CB50-4496-96BE-AA3CEEE9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522-D17C-45E1-B3D3-73D2B675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541-4F26-419D-9152-981D7EF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419-6A8B-4904-A6BF-4506DB7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BD9-6FC0-49F4-AE43-691E194E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312-3E0F-449E-8207-A2F3DD5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E76-A95F-44E4-A4EF-534ED24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05-ACD8-4842-9213-984807F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AA8-CBA7-4CA9-8B02-CFF58FD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C23-FF02-47F1-8992-49B4FB9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13F2-E2DF-4D3D-A865-186D310C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oes each side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rtile river valley between mountains because it is a major water source provided by melting glac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457200"/>
            <a:ext cx="545328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shmir Confli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wo groups fighting in Kash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hy is this conflict so important internati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a violent conflict involving random attacks, kidnappings, and military confli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3:49Z</dcterms:created>
  <dc:creator>cfisd</dc:creator>
  <dc:description/>
  <dc:language>en-US</dc:language>
  <cp:lastModifiedBy>cfisd</cp:lastModifiedBy>
  <dcterms:modified xsi:type="dcterms:W3CDTF">2009-05-19T12:59:33Z</dcterms:modified>
  <cp:revision>2</cp:revision>
  <dc:subject/>
  <dc:title>Kashmir Conflict</dc:title>
</cp:coreProperties>
</file>