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1C0E6-505B-465A-A10B-FC75FE615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9C2C8-45BD-465D-9B35-7FC625D91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816CE4-DEC0-4858-A2B3-A284FB8175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74E751-19A0-48DB-A7A6-209652AAB5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F75283-56AA-4D01-B7AF-2E24545633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58C0C6-079F-45E4-8A61-742097A739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1527C9-4BB0-44F9-B5CE-426274F58D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F1366B-6853-4C96-B421-A05ADB3E8C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9922D3-7459-4555-B604-71E203D761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DFD1CF7-5238-4C01-900D-5699010CE7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FF0B71-66F2-4572-BD88-290D0E97CC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D255E5F-FB2E-48B0-845A-1FFF0CB0755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FB6D7-F5E6-4E73-94D7-D2318B95F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5"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CDFCAE-2AD0-447D-B3CC-61060786CC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7"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019797-39A4-460E-AEEB-77FB8CEAAF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9D11BC-2D82-45AC-BCD4-ED0D781604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058933-7DB8-476F-9443-5820F1209A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EC283A-6B49-4CA4-AD36-6F607361A2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69D5C2-A081-46A2-882A-78DA144C93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8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7CEF6D-BD4B-4748-9999-171DBF8368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784B6A-24EC-4BD0-8DEA-9FE0751A49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6"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E996C8-1B63-405D-82B9-3C22E2C767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7D06CDF-C7EB-42D0-8FAC-39D61198E19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641170-10CC-414B-84AF-14A0E92CB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04"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2EC199F-8B91-4BF5-8F17-412022C5D30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5028F2-7695-4578-8CDE-3BB578553D4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DA7CEA-F1B2-4099-B7EB-39E1E1ABDF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1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2933F7-B41C-492D-96F3-58CE616122D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0F1F29-9ED0-40CB-96FF-ECD1741CA7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FE2E7B-8792-4342-867C-95A0A00745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17F755-EBEE-4CFB-9B30-F0DECB91BF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BC42C7-56E3-4CC3-81B5-A404956662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2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04A5C5-FF96-48CE-A430-BC56203F221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E70D33-5DE0-4C7B-9BDF-B4BB7D451A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6029C-270B-4C59-BB81-0457452F2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D201DE-F224-4069-AF48-E04C26479B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AD6F7AC-DCE4-43E7-A659-C4838CCB39D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A1FEC6D-0607-4E12-A942-C0F2A896DAC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ABE8799-7E33-4130-9577-1BCD726F869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E60262-11DA-44F2-BB47-D3D67F04ED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BBA4B3-A82F-4A95-A953-0AAAAA764E9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0958AF-7E42-4D63-BF1A-8BC876F8A3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7375A2-7273-4471-B67F-1B18E34A3C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1DFD12-CB28-4879-8FC1-7013C61720E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0101C5A-0727-46C4-9EE2-A026AEFE0B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E5997E-A730-438E-93DC-BB80A2CFC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C2BDA7-78F4-4FED-986A-31F0CF68AB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96F756-6548-47C1-A688-6AFE0A9391E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F07B47-E2E3-4FCE-9251-5B312120EE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6986C4D-8A36-4632-AC7C-D2982918358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77869DE-50F6-47FA-AB4A-9850B1AA0C9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2BF2D-6CF3-47B3-8BD7-B8E6212AF8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27B8F-1855-4FF6-BBCD-E918364D8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2B029B-DEF5-4F2E-9F56-C95DD8E3F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B347D-EAF1-47BF-89AC-8AA64C3B2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6F52E-A2C7-4F8F-9078-2FDA46881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08A01-6942-4C01-9EBE-C5C5C88FE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E06EE-8C32-44D3-B07A-8C90C0EC7F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5F2EE-7EB6-4204-9AC8-F4DF8FB65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24338-1657-468A-ADCC-C1A8D2BF5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79091D-59DE-4736-907F-77533828A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92B33-EB47-49F5-A1CB-61EB075867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35F516-3E86-4AB7-A77D-20A7DBD18C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666849-6011-4CB0-9EEB-592EE9F86A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485001-50F8-49B1-A14B-6D5306757A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F01CB9-3ACE-4941-BD64-91AB03C8D8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5E58BA-4A2D-43E3-AA12-1D49B98B21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31A6C-4477-4CAE-92B4-15CCB46A6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B77109-F360-41D6-817B-87864F50F6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39B91A-45B8-4423-B479-04262EB710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868DDE-9410-42D7-B488-5D4042FEDD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EA4628-FF11-4E40-B47F-11EC597DEC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A79544-4EBB-4848-A9F0-7AF03DB72E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351332-7DDB-46E3-8BA0-7A6E8C3FD7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3B7F27-5248-4954-944C-F0AE6BAE06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301DD6-EF7C-4D98-B55F-CD19CE5D9E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2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C4A0C6-D0C2-4284-B018-3D8850E4E9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EC8042-7280-43C5-BF3F-51346AB60C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EA4B9-728F-41EE-A687-B37BB7015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31EEB7-9F6B-491E-B059-E17E67DFD4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BFAB65-5E97-430A-951C-FC0ABD67BA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267D28-7FF0-407E-8228-0935D41CC3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3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ECEE27-3EB6-406A-93AA-AC747CA308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E8CCAD-13FC-4CFD-B54E-FE346E3EB2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4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946654-BB2A-46AA-BFB6-4483D6E136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8BC7D0-44E8-4816-877D-3C79C9D188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D35BE4-55C4-4221-8155-D229C375E4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3981B2-E6F6-40AC-81A8-809ED8750B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99FAAC-B92F-4A6D-946F-D73D447095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D1863-0F04-41E9-9BD4-995DF2335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20910E-7BFF-4C22-B496-72B2C78717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CE5B88-EF60-40B2-943A-C4F80C22CA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222C0E-6B02-4408-A902-C076F6B35A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88F913-C03A-4448-B792-5206E9254D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B04710-443A-41DA-AC39-D8696BD6FE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FE631B-C76B-499E-8569-B06B416175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EA4F15-ED04-4784-988D-07F36D4CCC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9248FC-27CF-45CE-B7A7-6D8C852579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AE51E9-FF32-475C-BFC1-CD18634AE1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B3673C-0662-4675-9899-ECA3FAAA65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A04D7-AA3A-4867-8269-D1C5EE010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9CAD50-7217-4A04-BB85-19DA6E76DD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B2A7D6-1ACE-42D4-BF75-8F4BFD18E6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49AA13-3A5D-4410-8A52-3DFFF58FE3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EE773A-CB01-41F2-B6ED-F0D16B10A0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1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AF9606-2C49-4A03-BF58-CCD84902EA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5A7E46-8389-45AC-BD85-94DFF82C3A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24E83D-FF93-43F1-977D-4DB8101C19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15596D-D782-405B-BF8B-9BD8253A0B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430BE6-43F9-48D1-A5B9-B3B1106882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2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2A7B34-4B93-4F08-B2E9-54F97127D5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17E7D-F8D9-41F3-BF68-21FABA5D1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6D72F5-68B1-4F94-8255-113806BFA8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841A04-B289-4497-B269-EF8E3D1491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26B2BC-3C32-40A4-82C0-B95D232099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23AA9D-0FDD-4015-BE9D-8E4E7395A8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7DC843-AF14-4C58-BB81-C3E2D3806F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7593AF-6575-4139-9C32-7DBA2C479A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65309C-8FA4-4694-8EF2-37F8B160E6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39CF95-BEDB-4BCF-B0EE-B750093B76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9C0547-619D-4A02-8F9A-5ECB8631891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018D7E-7FDD-48C0-ABB0-2D6BCE83F9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A7366-5C3B-477E-A0FB-0F39C491D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8882F9-7368-4CDD-884F-F7311DF881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C1FCFD-558A-4F45-AC1F-12927585A4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A4770A-7BA5-4F0B-AADF-50978068D6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9575A2-DF1D-40C5-AF55-B60B8A2B6B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F526DC-4F3F-48F2-ABE7-18D484582D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24598C-B25E-47F9-8916-63AD44EAA3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53368C-FC08-49D6-B54A-625DA79061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C28198-42DB-4867-9FDA-2484FE297B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5F9E9C-9787-4FF8-A611-9F7C751D62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E76E69-ECEE-4807-ACD1-7504F69E3E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4F551-E30B-4DD4-9FBD-5E5FF42B6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34B93E-0F20-4D74-8337-C8E250E420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DA0EEC-4BEF-4E26-8743-E027E4EE07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FC5A87-88EF-4104-8F1B-B3E5BEB6B4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975F98-8F4B-46E3-B66F-40AE3AED7E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D29685-9AAF-4728-ABEA-994DF89123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160F80-0734-4384-BBA1-FDF66B6576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2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D1A50A-7CEF-4D4A-88A1-4E3C92F7A0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611398-56D0-45F1-8372-2BF37BF28DA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D699A8-D38D-4276-8B61-8F4378CA01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3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113F8A-452D-40F6-A13C-013E8F8846A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1FCF8-0E64-494A-96A7-50BCB91D78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70"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472E-26EE-4D0E-BA92-9BA344146D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1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93F0-CDDC-4A00-9FF5-9C2131FF3A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5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4298-89C4-43F4-AFD3-D6FDA27E59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FA11E-4D64-478E-B679-1AF17E34B3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3"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9AD0-F1FD-4C31-993D-F2DFBE789A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24"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061F0-25B9-4924-A459-43B148072E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65"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9B0C3-EC06-4562-86DF-6195B38FDA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0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F64E-9885-4295-9E47-C8C8B88807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47"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4FC6-209A-4C4A-9C06-DB332ADE03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288"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01770-60CF-4531-B240-ADFE91D572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32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8FDC-50E3-48B5-B160-5E1F0ECF34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raeli-Palestinian Conflict </a:t>
            </a:r>
            <a:endParaRPr b="0" lang="en-US" sz="4400" spc="-1" strike="noStrike">
              <a:solidFill>
                <a:srgbClr val="e5ffff"/>
              </a:solidFill>
              <a:latin typeface="Tahoma"/>
            </a:endParaRPr>
          </a:p>
        </p:txBody>
      </p:sp>
      <p:sp>
        <p:nvSpPr>
          <p:cNvPr id="49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Chelsey, Jacob, Kels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raeli Perspectives</a:t>
            </a:r>
            <a:endParaRPr b="0" lang="en-US" sz="4400" spc="-1" strike="noStrike">
              <a:solidFill>
                <a:srgbClr val="e5ffff"/>
              </a:solidFill>
              <a:latin typeface="Tahoma"/>
            </a:endParaRPr>
          </a:p>
        </p:txBody>
      </p:sp>
      <p:sp>
        <p:nvSpPr>
          <p:cNvPr id="495" name="PlaceHolder 2"/>
          <p:cNvSpPr>
            <a:spLocks noGrp="1"/>
          </p:cNvSpPr>
          <p:nvPr>
            <p:ph/>
          </p:nvPr>
        </p:nvSpPr>
        <p:spPr>
          <a:xfrm>
            <a:off x="457200" y="1981080"/>
            <a:ext cx="8229600" cy="4114800"/>
          </a:xfrm>
          <a:prstGeom prst="rect">
            <a:avLst/>
          </a:prstGeom>
          <a:noFill/>
          <a:ln w="0">
            <a:noFill/>
          </a:ln>
        </p:spPr>
        <p:txBody>
          <a:bodyPr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ws should control all of Israeli </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nd has been theirs since long ago in biblical time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lestinians are using terrorism, so they must try their best to protect themselves</a:t>
            </a:r>
            <a:endParaRPr b="0" lang="en-US" sz="3200" spc="-1" strike="noStrike">
              <a:solidFill>
                <a:srgbClr val="ffffff"/>
              </a:solidFill>
              <a:latin typeface="Tahoma"/>
            </a:endParaRPr>
          </a:p>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ir God wanted them to have the land</a:t>
            </a:r>
            <a:endParaRPr b="0" lang="en-US" sz="3200" spc="-1" strike="noStrike">
              <a:solidFill>
                <a:srgbClr val="ffffff"/>
              </a:solidFill>
              <a:latin typeface="Tahoma"/>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alestinian perspective</a:t>
            </a:r>
            <a:endParaRPr b="0" lang="en-US" sz="4400" spc="-1" strike="noStrike">
              <a:solidFill>
                <a:srgbClr val="e5ffff"/>
              </a:solidFill>
              <a:latin typeface="Tahoma"/>
            </a:endParaRPr>
          </a:p>
        </p:txBody>
      </p:sp>
      <p:sp>
        <p:nvSpPr>
          <p:cNvPr id="49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ve their home land is being taken away by the Israelis</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tlements are being built be the Israelis to push them off of their land</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feel Israelis are pushing them out of their own la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Israeli argument</a:t>
            </a:r>
            <a:endParaRPr b="0" lang="en-US" sz="4400" spc="-1" strike="noStrike">
              <a:solidFill>
                <a:srgbClr val="e5ffff"/>
              </a:solidFill>
              <a:latin typeface="Tahoma"/>
            </a:endParaRPr>
          </a:p>
        </p:txBody>
      </p:sp>
      <p:sp>
        <p:nvSpPr>
          <p:cNvPr id="49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sraeli believe they have the right to the land because they were there first and they think its there's because of that. They also say that they are defending themselves even though have occupied the land</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feel it is unfair the way Palestinians are attacking them in their violent ways</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re continuously getting bombed by the Palestinians </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UN Partition Plan was unfai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alestinian Argument</a:t>
            </a:r>
            <a:endParaRPr b="0" lang="en-US" sz="4400" spc="-1" strike="noStrike">
              <a:solidFill>
                <a:srgbClr val="e5ffff"/>
              </a:solidFill>
              <a:latin typeface="Tahoma"/>
            </a:endParaRPr>
          </a:p>
        </p:txBody>
      </p:sp>
      <p:sp>
        <p:nvSpPr>
          <p:cNvPr id="501" name=""/>
          <p:cNvSpPr txBox="1"/>
          <p:nvPr/>
        </p:nvSpPr>
        <p:spPr>
          <a:xfrm>
            <a:off x="457200" y="1980720"/>
            <a:ext cx="8686800" cy="487692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feel that they are defending themselves from the Israeli and their craziness</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anks to the Israeli military blockading most Israel Palestinians can’t get to work so there economy has collapsed , Israel is illegally occupying the land of the Palestinian people</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sraelis keep on building settlements to push out Palestinians and don’t let them justify their land claims</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y fell that everybody favors Israelis and are against them</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though both are currently not in any agreement, they both are looking for solution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lutions</a:t>
            </a:r>
            <a:endParaRPr b="0" lang="en-US" sz="4400" spc="-1" strike="noStrike">
              <a:solidFill>
                <a:srgbClr val="e5ffff"/>
              </a:solidFill>
              <a:latin typeface="Tahoma"/>
            </a:endParaRPr>
          </a:p>
        </p:txBody>
      </p:sp>
      <p:sp>
        <p:nvSpPr>
          <p:cNvPr id="503" name=""/>
          <p:cNvSpPr txBox="1"/>
          <p:nvPr/>
        </p:nvSpPr>
        <p:spPr>
          <a:xfrm>
            <a:off x="457200" y="1981080"/>
            <a:ext cx="8229600" cy="4114800"/>
          </a:xfrm>
          <a:prstGeom prst="rect">
            <a:avLst/>
          </a:prstGeom>
          <a:noFill/>
          <a:ln w="0">
            <a:noFill/>
          </a:ln>
        </p:spPr>
        <p:txBody>
          <a:bodyPr anchor="t">
            <a:normAutofit fontScale="87000"/>
          </a:bodyPr>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way of solving this would be sharing the land and creating a peace treaty</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at didn’t work they could cut the land half and half, chose their own side and stop bugging each other</a:t>
            </a:r>
            <a:endParaRPr b="0" lang="en-US" sz="3200" spc="-1" strike="noStrike">
              <a:solidFill>
                <a:srgbClr val="ffffff"/>
              </a:solidFill>
              <a:latin typeface="Tahoma"/>
            </a:endParaRPr>
          </a:p>
          <a:p>
            <a:pPr marL="298440" indent="-2984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 whoever does the highest bid for the land gets it. It only seems fair to pay for what you want, especially when its something so importa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52:16Z</dcterms:created>
  <dc:creator>cfisd</dc:creator>
  <dc:description/>
  <dc:language>en-US</dc:language>
  <cp:lastModifiedBy>David</cp:lastModifiedBy>
  <dcterms:modified xsi:type="dcterms:W3CDTF">2009-02-27T06:23:11Z</dcterms:modified>
  <cp:revision>8</cp:revision>
  <dc:subject/>
  <dc:title>Israeli-Palestinian Conflict</dc:title>
</cp:coreProperties>
</file>