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62425-D4EA-4C34-A158-2707836AE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C80ED-413E-4153-9A1D-6041FBD3F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2F71C2-8837-49E8-A0C6-CE371AF364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92ACBA-CF75-4743-880C-B1BB125AA9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A9B6AA-029E-4F3A-BABF-66AEE907A6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7EB2C1-1ED5-4ABE-82BA-70B80F2CB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2D3334-D682-4509-AD7E-DD9FE176CE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A37663-E085-453D-85AA-F3116D670F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7A12D3-E0FF-41DD-9BD2-CA14063EEA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DD82FE-7A00-4E9E-A409-7B17A6D0A7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44AEAE-F46E-4346-8530-5156CCCACF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69E1A7-2386-4112-B013-BED96EA7F9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1A5B4-8542-4EE6-B43F-DB21DD056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1F166F-41C5-4B07-8CBF-76B548A5A4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90E24A-0634-4931-BDD3-4A37286165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FD8634-A432-4666-BE3B-F34DE38AE9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C4FFAE-84D2-45A1-B8CD-1A6032498A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A3EAF8-CECF-4003-8CE2-5375DF4103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5103CC-2922-42DD-9C38-F6E7956072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E92F64-E7C9-499C-B8B8-0D921F338E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74591C-8100-4CF2-90A2-1DA855692A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B2815C-E56C-4C5C-B9FC-ADC25BB02C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6A5B77A-5633-462A-812A-A7B0187F98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7A51E-9086-4551-B7A0-617C0A284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B19EF0-310C-4353-93F6-8ADEFF4922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6ECF764-9F12-419E-A36C-1C1C189797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5A878E-C67F-49FD-B09F-042496CA80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8B5746-2546-4C4C-A6EA-1D1EA2984C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56AA73-6CE4-413E-81B4-A9DBB0E70A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60EABD-2A29-4BF3-8F76-ABF11EB245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CBC070-0C02-4C92-AD11-76130D9C96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7D943D-9AA5-42AE-B16F-B460603AC2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3E1B33-2F84-4864-B127-F7D4505A35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E0C98D-7533-442C-9FDE-63F2FD6585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BE7E4-5062-4D80-8AF6-CBFA72346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99B684-86CE-4A0C-BC5E-32A660B486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D4A7A1-D3A0-441B-B6BA-751C47CD66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C07B86F-01CC-48FD-8918-D09C7F71EF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0429C8-FF03-44A2-83CE-B2873CB1CA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E97123-45FF-4669-B1B7-14D2BF0EF7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438BD7-D8EC-4E57-906B-A0D17A37DA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DF2373-40DA-4E78-A998-9EC709347A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B47DB6-C0C5-4CB9-85A2-C516EA6EE2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2C7B50-97BC-486D-AD76-53C585326F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FCD10B-718B-47E2-B412-2D4AE3CEE6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7A205-C8B5-4ABE-9DA6-E62ACE3E9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206187-7EF2-4BF9-9478-F8BE7FAFB8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12CC39-1F83-4AE5-AEE2-51BD932D2F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04DE82-FB5C-467C-87F8-A3C8B4BE3A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DD99F88-8967-41BA-AE19-A3F25CAE1EC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6B969C9-2E24-473D-8B6D-6042905349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6191A-410C-4E26-8D6B-7810D4370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82095-E937-4D3A-AD70-0797BE1F4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D77AE-64B7-48A0-9ABE-CCEFE1981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0D0D0-899B-4E1D-BCF4-E601CAB51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BCEA6-22F4-4C08-8999-0385B37D5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D9B6E-A557-4AF6-852B-56AC149FA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64EF8-8DC6-412A-A7EB-4A83EF822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0F6FE-0416-4AB4-8BD6-B271F258D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9ADE9-3C63-4572-8C3D-757BBB4B2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F8CAE-6432-47BD-BCE0-3DD10A6AC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F60D1-A05D-4ECE-A8EC-C4D264783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966CE9-7C19-42B0-AAC7-E8B2217A74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DAA1D-75A9-41F3-BF7B-B21D63817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9A1DB4-00CB-4575-82D4-AB3E0509A4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E70BA5-F1BB-4A7A-A720-9A13CC6F71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CDCA4-69ED-4664-A3AB-540AACD66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37190-2659-4D19-9183-B3547B4DA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E1A750-8AB4-471A-81F5-55E045E344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9B3CB-1FC3-4C98-96B8-F80AAB800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8ECE0-261C-4139-A3A6-7A418FB509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B2EE7-C0BA-40C0-AAF4-B648935FC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2D871B-7FC0-4E81-96EF-BF5E069CD9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DE87B6-4C21-4CAD-913C-79ADFF97A2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32ABE4-9D87-4D78-B000-69FD5758DA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630966-486E-48B4-8315-8FB6237C66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35F7AF-445D-450F-B1EE-F8CB8456E4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DB1D5-EB71-441C-8CBA-83782C006E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A592D-8E86-4ED7-B6A0-D6DC1CAB2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C4320B-83D2-4B1D-BF8E-AA99B190DD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90CC99-2688-4D2D-8746-B505761DC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430109-41E7-4E6C-803F-EE02E3BA3C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4D5F0-FBA5-42B5-88BA-C171E0D66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6CABF-0E3D-4930-A49C-DCA606208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9DBCC-4030-4814-8539-8B433CCCA2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1C3A8B-7886-4FDC-BA45-F593181E08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B3A25C-A1EA-47D3-B94E-C86354CCCF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BBB582-6612-477D-83D6-90D53ECDA0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7E2D88-0B81-4954-88AD-C2C3513A88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A9B92-34B4-4C53-B380-340A870D0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92F9FB-0BF4-4B13-BD1B-884C23EE18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460A06-831F-4078-8AB2-DC2B672B9A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356A52-8C4A-4FC0-964E-CCAE8A9F1F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75D679-A2D4-43F2-9ABD-2A5F6B8134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56BA23-A83E-4F40-B7D8-535E243433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54F117-8B79-47D7-AA80-9CDD679441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EDE029-4D68-47F5-A0C7-054382462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D567B-A742-4B67-A7C7-B079FF734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D2836A-0388-432E-9943-BA7F6C841C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BDD7F9-9C0D-4D61-8FA8-792234C725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C0232-7BE2-4DDF-998E-966A3C90F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82E296-61E3-4A24-9001-5C635B2100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8AAD3D-DEB3-442B-8648-F4691A2668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DA2E67-3659-49C1-8D2A-ADBCE88E3C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EC5DA4-4426-4009-8250-D4BD131ED9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473761-A20F-40E9-99E7-2EA93D5C6F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583241-0E32-4255-AA0D-E3F68084EE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B0F90D-BCB0-4DA4-9434-EC386EE42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9C027-0EC1-4F7F-99C4-8C2CF1AF57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620AE1-F390-4340-A315-1544CF4AB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A2EDC1-35E6-43FC-98BB-D2DB8B424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E41CA-FC2C-4FDF-A225-4FBF1CEAA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427C84-23CD-4C35-AD0F-85839BC0C7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573F3B-6335-4CA6-BCE5-023BE435E4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74757B-6656-4694-B292-382324E6B6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DF146C-7270-45F3-A230-87C97B8460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9A21BE-E10B-43B6-B2AC-557525CF04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DD90D4-B4FF-42C1-8E0B-EBA1609121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30D8B6-712A-4716-9052-63A6FB84C4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5C50A5-8DB6-40C5-A2F3-E3D6EC5F76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719E21-2C06-4A17-83F9-902A3F7414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F731C7-0A5F-48AA-A274-42CB049E8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D7480-E82B-439F-BD69-EE9426A9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50D8BD-E8A1-4F2A-891F-75E116566D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EBD0B8-A5E6-4FA3-B633-6A0A4E4801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7F54D7-3FB4-4903-BBF8-DECDA3E72B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081FAD-30A3-4518-83F1-4AAA292C17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36C619-3291-4608-9EFD-12A29F6A25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329E56-7568-4FF6-BAF0-BDB2F5E651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059410-1D36-4606-850C-542E01E111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4BFAA-6B88-4B4F-9C88-234A76870C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47AB52-6A92-425A-BF9D-CA104F2643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2D02F7-8398-447A-AAA6-711D41AE4A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8621C-9E69-442B-B076-6377DDCDE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14AA50-A1CD-42D5-9147-C51819969D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F14C11-02A6-4306-84CD-45986AA89A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35F4C-500B-4399-BEA2-766949198A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D8AABF-32B0-48B8-A259-2C5F6BF955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4E6996-EE3F-47E4-8621-6F85C6F239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9EDCDD-0884-4594-B205-56CE38DE0D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A227B9-FEE1-4ED1-944E-4A36E45557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8C1747-A896-4F0C-B140-3CDE612810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D2F3AA-C109-4404-864F-6372E9F956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F51754-F9E1-4991-B623-9CA0A5CFD9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6E67-CB78-4F45-B4DC-FFB5211F03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7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BBD1-3F2F-4CBF-A26A-9A1D38DDD3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1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EB7C-8A6B-4287-BCB7-EBE727609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5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E225-4B36-43FF-BA89-FB9DBE629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89FE-E1F7-4A0D-8444-A085F37C4B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BB94-AF6F-4E0B-AD57-DEE39419C9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8CBB-6F71-47F1-A4DF-80980C38CB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6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5E78-A22E-4F62-BFB7-DF5D424EA4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0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DB66-9A56-4E13-B7B2-7D03164B74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B55A-A02D-4F74-80D4-92EA0CD592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BCE2-78AF-4ABA-B3F7-B9AFB28AAD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2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DB90-D2BF-4A3D-AC15-39BD3BC868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raeli-Palestinian Conflict </a:t>
            </a:r>
            <a:endParaRPr b="0" lang="en-US" sz="4400" spc="-1" strike="noStrike">
              <a:solidFill>
                <a:srgbClr val="e5ffff"/>
              </a:solidFill>
              <a:latin typeface="Tahoma"/>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Chelsey, Jacob, Kels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raeli Perspectives</a:t>
            </a: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ws should control all of Israeli </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d has been theirs since long ago in biblical time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lestinians are using terrorism, so they must try their best to protect themselve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ir God wanted them to have the land</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alestinian perspective</a:t>
            </a:r>
            <a:endParaRPr b="0" lang="en-US" sz="4400" spc="-1" strike="noStrike">
              <a:solidFill>
                <a:srgbClr val="e5ffff"/>
              </a:solidFill>
              <a:latin typeface="Tahoma"/>
            </a:endParaRPr>
          </a:p>
        </p:txBody>
      </p:sp>
      <p:sp>
        <p:nvSpPr>
          <p:cNvPr id="49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 their home land is being taken away by the Israeli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tlements are being built be the Israelis to push them off of their lan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feel Israelis are pushing them out of their own la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raeli argument</a:t>
            </a: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raeli believe they have the right to the land because they were there first and they think its there's because of that. They also say that they are defending themselves even though have occupied the land</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feel it is unfair the way Palestinians are attacking them in their violent ways</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re continuously getting bombed by the Palestinia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N Partition Plan was unfa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alestinian Argument</a:t>
            </a:r>
            <a:endParaRPr b="0" lang="en-US" sz="4400" spc="-1" strike="noStrike">
              <a:solidFill>
                <a:srgbClr val="e5ffff"/>
              </a:solidFill>
              <a:latin typeface="Tahoma"/>
            </a:endParaRPr>
          </a:p>
        </p:txBody>
      </p:sp>
      <p:sp>
        <p:nvSpPr>
          <p:cNvPr id="501" name=""/>
          <p:cNvSpPr txBox="1"/>
          <p:nvPr/>
        </p:nvSpPr>
        <p:spPr>
          <a:xfrm>
            <a:off x="457200" y="1980720"/>
            <a:ext cx="8686800" cy="487692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feel that they are defending themselves from the Israeli and their crazines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anks to the Israeli military blockading most Israel Palestinians can’t get to work so there economy has collapsed , Israel is illegally occupying the land of the Palestinian people</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raelis keep on building settlements to push out Palestinians and don’t let them justify their land claim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fell that everybody favors Israelis and are against them</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though both are currently not in any agreement, they both are looking for solution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lutions</a:t>
            </a:r>
            <a:endParaRPr b="0" lang="en-US" sz="4400" spc="-1" strike="noStrike">
              <a:solidFill>
                <a:srgbClr val="e5ffff"/>
              </a:solidFill>
              <a:latin typeface="Tahoma"/>
            </a:endParaRPr>
          </a:p>
        </p:txBody>
      </p:sp>
      <p:sp>
        <p:nvSpPr>
          <p:cNvPr id="503"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way of solving this would be sharing the land and creating a peace treaty</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at didn’t work they could cut the land half and half, chose their own side and stop bugging each other</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 whoever does the highest bid for the land gets it. It only seems fair to pay for what you want, especially when its something so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52:16Z</dcterms:created>
  <dc:creator>cfisd</dc:creator>
  <dc:description/>
  <dc:language>en-US</dc:language>
  <cp:lastModifiedBy>David</cp:lastModifiedBy>
  <dcterms:modified xsi:type="dcterms:W3CDTF">2009-02-27T06:23:11Z</dcterms:modified>
  <cp:revision>8</cp:revision>
  <dc:subject/>
  <dc:title>Israeli-Palestinian Conflict</dc:title>
</cp:coreProperties>
</file>