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911EA-9890-4E8F-9418-009767A41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52050-4F3C-44F3-8271-AD3E93E0E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F80B33-4219-48C3-9840-3812EC56A5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8696D1-DAB6-4277-8A3A-B7287E2F09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D91756-C065-4894-805E-5D47803755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5A20F0-FAB8-446A-A082-F60B8B732A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7F1040-2EFE-428F-843F-EF3B5D33F6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4F244E-C54F-437B-A0D2-C918A59C9C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7F3445-A610-4AE3-8A41-00937F6889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E9B7BA-A7B2-4956-B38A-EBD2A07853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704FB2-B5BA-4949-8273-337CCCFE60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A1B5FF1-EDA3-4480-BB4C-412F8A58DD6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0CE3B-FB73-4DFE-927D-2AE6C5B1B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014127A-FCE1-40C9-AA6A-D53B4CBF24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770A23A-9D93-49A6-BC1D-342879E72E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6F8D25-E47C-4617-B7DC-C337E5797D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69D5B6-4C16-4644-BF85-724324DEF9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FA0508-5C7C-4A94-AEEA-B9F79234B5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51E6BC-EB2F-4121-B996-D57506B149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F19FE8-4FDC-4CFB-BCC7-211692B858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C21545-BBEB-4940-8BDB-8CAD24F2D8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04C25A-6852-4DB4-BDBD-62A8FEC580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2F50ECE-0D48-449D-992A-B3274A0B29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3A7AE-8AC2-441C-8FC1-3E9535B3FE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A358538-E7EF-4B1A-B1FA-72CB277CBF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40B4AA-DA59-491F-A124-30B6BD62D3A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6CB56B-D0EF-4360-AB51-7B3764482B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DEF5D52-0D2F-4B2C-8BE8-AE3554A93A9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DB55A6-A869-45A1-A7BC-D1041E8F79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3892742-5A04-4782-8804-E056B380556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25CE5FA-E77D-48A8-ACC0-88006F01B7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3835A2-8B24-443E-ABB2-7501A77B9E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7C623C-5132-49D3-A80B-7085C9909B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DA05C8-369E-4005-8BE3-521CB19E0A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7F701-4DDD-457C-9AE5-FE574AF969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88A099-D911-41D3-9857-82C9520755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AB8D4FB-8CE3-47D4-98A6-647D508E81B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2221C1A-D330-43FC-ADC0-BFEFB72906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361B7E4-9A8F-4F2F-9452-21C6B2813A7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A348D9-FCFF-4D1D-A258-75E162A795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D01918-40B5-443C-8A21-297172D3880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3DE082-84F4-408A-8520-A62E45493E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DCB89E-B058-40AD-9C26-7D02BA7A7F0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5A0B55-CAA4-46AC-BD33-977889281C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ACF2AF-234B-4B7F-BED9-B7EE3C485F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924A1-045F-4779-BD56-08197F3001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8B0BCF-CD34-4A9D-A4F6-4DD400A072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548E43-40BD-4CDA-99BD-06DDFB3C92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1E9812-C6C1-4F02-8414-C3ABF171C4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FA7EB54-8EA6-4575-9CE3-8E321A3D80B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58B6993-6A50-4DBE-8671-1367C428F64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7D57F-F877-4765-8DAB-69F7DFF10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84C65A-B0EF-4290-A38A-426B32FF6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DB2E1-17AB-4742-8169-5F6EC60CE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B2B498-F566-494D-9FB3-3C59B895A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07D64-8D26-4252-8E1E-02A61FCC3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29677-56C9-45AD-A20E-1068E87FE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0C1B7-A2BF-4F13-83CD-4ADDB4BF3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D098B-4536-42A0-8363-57EFC562B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281CF-EA07-4191-A01D-97B4933C6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81161E-0DE8-4F2B-9BF8-49681D0428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19625-5B5B-4FB1-A56C-7B16C435E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CA9AE9-7615-46FE-82E2-41B440FFD9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E36AA1-F542-42C9-86B0-C1479877E4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2EE719-64F8-4A13-A2BA-91BF641C9C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149B70-E4F3-4B68-B057-AC3AEDB114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4DCF12-0BC3-404F-973E-6A9BA6A53C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B4CB4-09A0-4C8E-AA6A-FDD24023B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C0CCEE-36B2-4679-84FE-BCAB11C014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4691D7-FC3F-4EC1-B409-62CE1AEEAB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E7CC80-2AE5-4EF4-B24B-B476CE79A7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06AF8-27FB-4349-863A-36D7946A9F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48D924-7392-4C45-8896-418C4E0B4C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22DBC8-F21B-44D8-9C80-3B66487CD0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004424-3CA9-46FC-8CCB-FC59B2801D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A57A1B-ED20-44E9-B038-D43B1E573E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F1AE35-4C00-4D86-BFCF-DCBBC5BEDC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ABF2A2-D4FD-40D4-8C7A-84CC8006C8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C757F-DBA6-4CE4-8DF4-188FDDE37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009F4E-CBB9-4A49-A0BA-9A4E628B15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B7CD19-9D04-42B7-8AE7-E4294B81E2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AB4674-2E3A-4812-9216-7910920469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097AB2-76E8-4BBE-B1D4-5EE12EDA9F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78C50E-B85D-457E-BDC2-AEB934437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E72869-27AD-4D13-821E-C566D4F5D4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D6636C-9298-4BC8-A6A0-90CEF23B07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BD8A11-FE44-4175-92DC-8C9AC77E88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D281A1-4CD6-4700-970B-FFFA2A73B1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D5F8FD-A708-4E7E-82DD-61C4BF946C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648A5-50D2-4C2E-B29E-5DACC3529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277F0D-2C45-444E-B104-77E6EBAE3C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D256F7-8CA4-4268-8D03-B750A5A518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B1B7B2-B441-4D79-BA40-05388239CA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F5F7CF-74FE-40B3-BC29-E495B96B90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D6B088-F573-4939-A0F1-362F1E2EF1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B5A91D-566B-4DFA-8AB5-CDBDB7BED8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4545F-ED0B-47DB-BA2D-284969A065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B73CF1-CD00-49EE-B68D-41D39FFFA2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F6AE6A-D930-4623-AD3B-7D6B693AE8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0212ED-8F27-45E2-B386-A6403FDAA1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A9A08-3C91-47E5-AA7E-4EA0E9B62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0EC488-52C0-44C7-8CAF-C30AB50F2F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7F1796-E058-48C4-97DD-16E9A189F4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26B421-C376-4778-8DAB-AB6E404CAF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9AA5FE-9F1B-486E-9E11-2DDA5367C7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C7477F-3485-46FA-A7E2-03622ABAE5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2D2873-2864-4EAD-A0C4-72CD84DB7D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704F65-ED4F-453C-B1C2-BE14FD586D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B04665-6B07-4A0A-99F0-4803827DD5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3EAF7D-54A7-4724-8D06-02F2505324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83F12C-DE7C-4665-8AD2-9BE1D4648D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B8A18-343C-4B0D-A10F-1B0E4D4E5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CC43E5-FF91-4C6B-98F3-5952BC7131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D53B92-2FDA-48A2-B56F-D096862B91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559859-A916-44AB-90A6-AA63BD3991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FBCC46-35E2-425C-8034-95DC56AA0A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494501-5FA8-486E-97F7-B33BAE1D10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ACB688-50F0-477D-94D4-8822943209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FAF5C3-6C0E-4B34-83FA-EF44DCCD10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A37A17-6FC5-4A56-A79B-205D9B4D26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4EC95B-AB9D-423F-A274-161830A5E0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2B29FB-6AD9-424E-8791-4E67408F51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21CB3-B0EE-41A2-B651-703CEE4C6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67350E-7470-460F-A32A-4046F9B65D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0B56A6-16CD-444B-900D-95BBEDA353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FEDAB0-787D-4428-95DF-DB8F8F81F6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15FD70-8135-4E74-A322-A9CCC1DB95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C276F4D-89C4-46AC-9FE1-BCA8716308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AF06CC-92B5-4973-A07C-45862B1DCD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44CD7A-1EFD-416A-88F8-F817A91A81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B811DD-B4F7-430E-A6F8-2DC3F03693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1E81F1-53F4-49B4-B48B-A010814E2E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8174CD-2537-4BAF-B68A-75DB0A5ADF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03EAA-9412-41FD-A69C-043E93774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D51589-7492-4753-A427-807B035628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6D42AF-0194-40C8-8605-610C1BAB33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991E26-93D0-4A17-B011-EB96FF6A13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FC03D5-1285-4CAA-A4FD-B8809141AF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1C9469-4F83-4838-B809-65762C2F7B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13CA13-5611-4157-AD20-F34DA556C1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D2112D-1106-41D1-A50F-D27BC87920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E3B917-6E6F-4A07-A977-8E58D109CD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045D936-0A6C-44B6-B441-EB3DFD0253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E66817-386D-4404-ABD2-E3B77F1FB3F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1A97-2E86-4813-9A8F-63F06F747C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7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F9B9-0FE1-4DE9-A93B-397C2F4BA1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1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FCA18-FFF5-4742-A8A8-362ACDE932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5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AB62-1BE0-45CC-A1BE-5D74C8F39C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3C7FF-564B-4FF1-BD52-FD812B6570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1AE57-AE14-4DB8-9179-5225B9E8FA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2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9AA59-7651-4C2E-83FA-16644A66EB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6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AF779-E71B-48EE-BE48-69A86AB8CB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0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A6A7-ED89-453C-980A-8B7D2B335C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4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96B0E-46BD-484F-BF47-34196682E6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8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AC623-0F11-40D1-BC65-0512334A3C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2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FA71F-102E-4145-A6EB-209D91E8FA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raeli-Palestinian Conflict </a:t>
            </a:r>
            <a:endParaRPr b="0" lang="en-US" sz="4400" spc="-1" strike="noStrike">
              <a:solidFill>
                <a:srgbClr val="e5ffff"/>
              </a:solidFill>
              <a:latin typeface="Tahoma"/>
            </a:endParaRPr>
          </a:p>
        </p:txBody>
      </p:sp>
      <p:sp>
        <p:nvSpPr>
          <p:cNvPr id="4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Chelsey, Jacob, Kels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raeli Perspectives</a:t>
            </a: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ws should control all of Israeli </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nd has been theirs since long ago in biblical time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lestinians are using terrorism, so they must try their best to protect themselve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ir God wanted them to have the land</a:t>
            </a: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alestinian perspective</a:t>
            </a:r>
            <a:endParaRPr b="0" lang="en-US" sz="4400" spc="-1" strike="noStrike">
              <a:solidFill>
                <a:srgbClr val="e5ffff"/>
              </a:solidFill>
              <a:latin typeface="Tahoma"/>
            </a:endParaRPr>
          </a:p>
        </p:txBody>
      </p:sp>
      <p:sp>
        <p:nvSpPr>
          <p:cNvPr id="49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ve their home land is being taken away by the Israeli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tlements are being built be the Israelis to push them off of their lan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feel Israelis are pushing them out of their own la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raeli argument</a:t>
            </a:r>
            <a:endParaRPr b="0" lang="en-US" sz="4400" spc="-1" strike="noStrike">
              <a:solidFill>
                <a:srgbClr val="e5ffff"/>
              </a:solidFill>
              <a:latin typeface="Tahoma"/>
            </a:endParaRPr>
          </a:p>
        </p:txBody>
      </p:sp>
      <p:sp>
        <p:nvSpPr>
          <p:cNvPr id="49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raeli believe they have the right to the land because they were there first and they think its there's because of that. They also say that they are defending themselves even though have occupied the land</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feel it is unfair the way Palestinians are attacking them in their violent ways</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re continuously getting bombed by the Palestinia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UN Partition Plan was unfai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alestinian Argument</a:t>
            </a:r>
            <a:endParaRPr b="0" lang="en-US" sz="4400" spc="-1" strike="noStrike">
              <a:solidFill>
                <a:srgbClr val="e5ffff"/>
              </a:solidFill>
              <a:latin typeface="Tahoma"/>
            </a:endParaRPr>
          </a:p>
        </p:txBody>
      </p:sp>
      <p:sp>
        <p:nvSpPr>
          <p:cNvPr id="501" name=""/>
          <p:cNvSpPr txBox="1"/>
          <p:nvPr/>
        </p:nvSpPr>
        <p:spPr>
          <a:xfrm>
            <a:off x="457200" y="1980720"/>
            <a:ext cx="8686800" cy="487692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feel that they are defending themselves from the Israeli and their craziness</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anks to the Israeli military blockading most Israel Palestinians can’t get to work so there economy has collapsed , Israel is illegally occupying the land of the Palestinian people</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raelis keep on building settlements to push out Palestinians and don’t let them justify their land claims</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fell that everybody favors Israelis and are against them</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though both are currently not in any agreement, they both are looking for solution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lutions</a:t>
            </a:r>
            <a:endParaRPr b="0" lang="en-US" sz="4400" spc="-1" strike="noStrike">
              <a:solidFill>
                <a:srgbClr val="e5ffff"/>
              </a:solidFill>
              <a:latin typeface="Tahoma"/>
            </a:endParaRPr>
          </a:p>
        </p:txBody>
      </p:sp>
      <p:sp>
        <p:nvSpPr>
          <p:cNvPr id="503"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way of solving this would be sharing the land and creating a peace treaty</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at didn’t work they could cut the land half and half, chose their own side and stop bugging each other</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 whoever does the highest bid for the land gets it. It only seems fair to pay for what you want, especially when its something so importa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52:16Z</dcterms:created>
  <dc:creator>cfisd</dc:creator>
  <dc:description/>
  <dc:language>en-US</dc:language>
  <cp:lastModifiedBy>David</cp:lastModifiedBy>
  <dcterms:modified xsi:type="dcterms:W3CDTF">2009-02-27T06:23:11Z</dcterms:modified>
  <cp:revision>8</cp:revision>
  <dc:subject/>
  <dc:title>Israeli-Palestinian Conflict</dc:title>
</cp:coreProperties>
</file>