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51540-8838-480C-ABCA-7CF609C8A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3B534-8D49-4585-B342-0F25F4AAC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F5888F-4E27-48ED-BCA8-76BB5AB41D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AF2D57-BC42-4F53-9ADE-8B01F66027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296697-9AE8-4607-9CCF-89FA0A1B69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FD8F80-EDB2-405D-92E1-2D45859E31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293545-0717-46CE-B771-7C11DD2E78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B1B0AA-C5EB-42BC-8601-C5DCF9203C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E9BFB0-F0DC-47C8-B5C1-17C53D3974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8E74FD-BD15-45AD-BA23-191876BD60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11F02C-8C7C-43A4-9D37-BED3D1A647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C61FEE3-A6BB-48C5-BDEB-54CD2661E32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ABA81-BC0B-45F4-9910-456755F56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1D6500-CC04-4E57-92F8-7DB8A6713C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D8D25F-7AB9-4647-A1A8-BA507B4E5E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DA43B5-76D5-4ABC-B17C-A7CFA174E5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441526-3FF9-42B7-AA2F-7F2087F6BA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41A834-4431-42CB-8A5A-30A155BC52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817F4F-2A4F-4AF7-8814-877BB85FE4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FF8420-E452-4100-B448-81A64F162C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9914FA-0A67-4F16-9140-3C789A8119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489B91-4F43-4EE3-8DC7-2806776B65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3077679-A069-4B4B-97A4-2985065CBEA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4A03A-213F-48A9-BF83-F8DB8711A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93E8B34-A70C-4E2B-99CB-C0A9E4111EC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E7E61ED-E8FE-403D-9BD9-D56E6C28660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BE93E5-3226-4435-B9C8-FEA0B4FF65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8D5BC5-E7BC-4ABE-A75D-24A30F0B61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5EAF79-FCB7-4651-A202-DD249690AF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A5EF78-C664-4C7A-8757-D7DAD8B1E5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D9C1DD-4C88-4071-A69F-C6F7946513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1D724F-8F67-4B70-A1BB-C8C936CF5D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7B11BD-2058-4341-AC60-5BEB7F8C47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D4198A-16CC-41F6-8B9B-E978A4598B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DF678-7405-48BB-BD2A-B4D1BFDA7A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BA6924-9B4F-4D58-8D9E-F60AD944B5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4CB347A-0815-43E8-8E1B-37F20F6E2A4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0B0111-0330-45E7-9519-8A0FBA6BA52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852BC71-4C12-46F8-B166-BA0A88144A9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6DE4F6-4B45-4315-B03D-4E6EB9D8CD7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2A9F29-8CF8-4309-8039-97C2FEB803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B35B6D-D760-4CE8-97F3-48A3FC1829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50F59A-C864-4CE9-97F6-034192694A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B7B00B-D5F2-4C2F-B243-12F5B4C189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9DE655-7455-40BC-976C-BD2F884944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B911D-2A40-4943-A6C7-914A25561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CA2216-A902-4950-815C-7732B166B8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D30989-B777-49EA-88C9-3C16C192ED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671DF9-4D9B-4416-90C2-AFA1F37E5C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F6B8C3B-C01A-42A9-8631-B0013A96145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FBB9B0E-1FAD-4216-992F-BD45AF88CD9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20399-820E-496A-8766-20FC0371D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4F184-87F6-455D-AADB-56A35FA13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8D70A-551B-48BE-A901-EBDDBC4F4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ABFCB-97CC-49EE-B6BC-66680503C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19A33-19C3-45FF-A315-ECEFFC197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85C52-E0E8-4EA8-A0D1-F3570669C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CC4EE-AAC3-47F4-8DE5-99898C309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5FAD1-F12F-4234-83AF-71A84DD17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5A462-E18E-494C-99FF-10EBC222D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1CAC97-63EE-4CD1-9FA0-7338CA6D48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F22EA5-629C-49CC-A10E-0B53BD082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E40F65-EABF-4F5D-BB6E-12C694E103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FF6C97-7811-45D7-8534-A87DC41EB9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CB2A76-D0E4-4D4A-A8A4-85EAD95260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8CB8BF-A470-4C3E-9057-69E0EB752E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310F49-7F19-4E4E-BAB7-EF355C631F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85849-4AF6-47A0-B0B0-5AD13D138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D6A07B-605F-4E53-B3C5-F5DE168F25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B534A3-83AB-4290-83DB-A4987072BE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3947CA-2542-4669-80DF-251C791802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813148-BE97-4445-AEED-1DAD15668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985B20-0C58-474E-A9D1-B540AEED1A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6A2545-D89B-4C11-8130-136542FE34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ECF075-8968-4F35-A1B0-65EEF59C96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A787E0-1EB5-407C-B7A1-2B8AD446B0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9C1C44-E131-4B16-B2B6-9AA20FC504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9F4EF6-3899-4062-80C7-5D0B33B876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70127-C6F2-45C4-9576-2B974AC60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ED37C6-CEF6-4E1F-8864-52996D327D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57668B-CFDA-456B-B6FC-09611D80A2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0F3871-F160-4EF5-8277-9AEC249CCF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371B22-8F74-4956-BFDD-7603A6835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E3F63D-9872-4521-8E63-3561615458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60AD43-3D76-4DED-81D2-9637E36D7B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7762DC-8530-4BAC-B617-B52563F3B9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D946A8-75F8-42CB-8A89-8D3EBDACCF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DDF6A5-7BA4-44AA-9CD2-66D0D85268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9D3A9A-DCF6-4F0E-BA8E-50EAD1D039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83AE8-02CE-46A0-9706-15B81AFCD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F6A149-5A94-43E7-8969-C33FF110FA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D0310D-7D1F-490B-841B-FB56FA49E9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DFE147-9292-4360-A3ED-C4C870BD1D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1E8A98-2DB7-4C0E-99CB-4252501AA1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65D896-EB60-4382-AF1C-7265DE0BBC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B7F9C1-57F3-4AE1-BD1E-FBB8322D06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1D977D-D5A1-4F8C-9CD3-1EF4B885EE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12DC76-632E-4F22-820E-829D66CEE6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AAB3C0-4B71-4FDC-B467-E551779385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FE5E7E-C503-4A49-BE32-335CD075D8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F6467-3834-43AE-9FFC-9EBB9D587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58DDF5-C2B0-4B6D-85E2-AC84D00CA8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58E0EE-61B6-4EC2-B7C6-41B91B6E18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F94111-226D-4D03-9D95-AD9CF0586A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0991D2-49EE-46C6-A6D2-4E81C5610A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7A5CE6-FCA7-4235-A9BC-592E9C4490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25FA9D-7908-4C24-9497-5EC3E5B841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6A50C5-7BAE-40F9-9962-EFB92A91A1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3CD863-C512-4AF8-9332-6DC2F20072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B5EDAC-9AE7-45BE-883B-94F9736BE8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9A49C0-EE38-491C-B65D-96A961E73A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C5A40-64D9-4C6C-92E0-7D419707B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3CE18E-C1FA-40F1-96D9-3D90C3C21C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E5864A-D872-4231-A059-B27EBDC07E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F3C3A3-2760-4629-8ECD-298A7CC3CE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C8E98C-E89E-4F66-A4F6-25D8956B26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D14E72-D1E8-4000-90A1-4B1E1C9373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39BF6C-25AF-44C4-ABD6-490DD819CC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417184-2DB7-4313-A65D-6C5832F6A8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9591FC-4275-4836-A371-393B4BE6F2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A30BA1-9A04-4869-A179-29086119ED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9C7125-01F4-4DBB-9200-0AF51BBDFF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D3D57-82F4-4763-85D7-58212EB6C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F9EE04-8754-4F67-8BF4-922105EDE8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D1F24B-B3EB-4F7E-B051-E873A276D8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766278-9F48-48C7-97D3-15A0E6CED4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75A4CF-47C6-4ACC-AAFC-A4BDF285F4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F1F4E7-195E-42C0-B2C1-C91C037A46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AA5FCA-5005-4C9D-AFF3-037E97484C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75EDD4-6282-4541-8558-89429838E5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8627EE-08A5-4661-8A6D-1A2A74B088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8B2FF1-CF5E-4B54-8833-8FA721540B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CA9EA3-9EB0-4D20-B0EC-E8447D5485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26F86-1F60-4C90-B79A-2B11D8188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FC10BD-0904-48FD-9D9E-0614F60724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BA2BB4-E62C-42B4-B067-F653AE0387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B1FDCA-DBC1-458F-BDB0-8C3924FA6A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E4A693-C839-44F0-9EB9-FC6B253F32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F78474-905B-4D37-9C34-403FF29CBF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3BE5E1-081C-4CEE-ADC7-2324811F81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82F281-1ED6-4DDB-9BDD-E369F24CB4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F8D241-844B-4B7A-A58F-98196737AA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4354E7-BBC2-459C-BF3F-6B8E992919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390D68-9A55-4A1D-9CCD-CEF657794A6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2345-A5B6-413F-BDA9-CC7463C1A1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7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E6BE8-8185-4060-BAFF-6DB0CA0CD6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1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E936-F534-486E-8458-F618EF9EAF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5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DA78-4191-4415-9477-53E43CFA01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BAD9-821E-4C9E-8604-4488B439EB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F1D9-B62C-447A-A429-6414D101D7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2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76DC6-D252-4F1A-A155-A117BEE3F2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6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946DF-7FE1-46C6-AFA4-695BD7809F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0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93E1C-21AA-4BEF-8469-298C036535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4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52B2-ABBD-40A4-B525-D8DD643BEA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8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1769-A9C1-439E-A0CE-D145353B25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2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B60D-532F-4ED3-B78D-3737CB4487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raeli-Palestinian Conflict </a:t>
            </a:r>
            <a:endParaRPr b="0" lang="en-US" sz="4400" spc="-1" strike="noStrike">
              <a:solidFill>
                <a:srgbClr val="e5ffff"/>
              </a:solidFill>
              <a:latin typeface="Tahoma"/>
            </a:endParaRPr>
          </a:p>
        </p:txBody>
      </p:sp>
      <p:sp>
        <p:nvSpPr>
          <p:cNvPr id="4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Chelsey, Jacob, Kels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raeli Perspectives</a:t>
            </a: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ws should control all of Israeli </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nd has been theirs since long ago in biblical time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lestinians are using terrorism, so they must try their best to protect themselve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ir God wanted them to have the land</a:t>
            </a: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alestinian perspective</a:t>
            </a:r>
            <a:endParaRPr b="0" lang="en-US" sz="4400" spc="-1" strike="noStrike">
              <a:solidFill>
                <a:srgbClr val="e5ffff"/>
              </a:solidFill>
              <a:latin typeface="Tahoma"/>
            </a:endParaRPr>
          </a:p>
        </p:txBody>
      </p:sp>
      <p:sp>
        <p:nvSpPr>
          <p:cNvPr id="49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ve their home land is being taken away by the Israeli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tlements are being built be the Israelis to push them off of their lan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feel Israelis are pushing them out of their own la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raeli argument</a:t>
            </a:r>
            <a:endParaRPr b="0" lang="en-US" sz="4400" spc="-1" strike="noStrike">
              <a:solidFill>
                <a:srgbClr val="e5ffff"/>
              </a:solidFill>
              <a:latin typeface="Tahoma"/>
            </a:endParaRPr>
          </a:p>
        </p:txBody>
      </p:sp>
      <p:sp>
        <p:nvSpPr>
          <p:cNvPr id="49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raeli believe they have the right to the land because they were there first and they think its there's because of that. They also say that they are defending themselves even though have occupied the land</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feel it is unfair the way Palestinians are attacking them in their violent ways</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re continuously getting bombed by the Palestinia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UN Partition Plan was unfai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alestinian Argument</a:t>
            </a:r>
            <a:endParaRPr b="0" lang="en-US" sz="4400" spc="-1" strike="noStrike">
              <a:solidFill>
                <a:srgbClr val="e5ffff"/>
              </a:solidFill>
              <a:latin typeface="Tahoma"/>
            </a:endParaRPr>
          </a:p>
        </p:txBody>
      </p:sp>
      <p:sp>
        <p:nvSpPr>
          <p:cNvPr id="501" name=""/>
          <p:cNvSpPr txBox="1"/>
          <p:nvPr/>
        </p:nvSpPr>
        <p:spPr>
          <a:xfrm>
            <a:off x="457200" y="1980720"/>
            <a:ext cx="8686800" cy="487692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feel that they are defending themselves from the Israeli and their craziness</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anks to the Israeli military blockading most Israel Palestinians can’t get to work so there economy has collapsed , Israel is illegally occupying the land of the Palestinian people</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raelis keep on building settlements to push out Palestinians and don’t let them justify their land claims</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fell that everybody favors Israelis and are against them</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though both are currently not in any agreement, they both are looking for solution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lutions</a:t>
            </a:r>
            <a:endParaRPr b="0" lang="en-US" sz="4400" spc="-1" strike="noStrike">
              <a:solidFill>
                <a:srgbClr val="e5ffff"/>
              </a:solidFill>
              <a:latin typeface="Tahoma"/>
            </a:endParaRPr>
          </a:p>
        </p:txBody>
      </p:sp>
      <p:sp>
        <p:nvSpPr>
          <p:cNvPr id="503"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way of solving this would be sharing the land and creating a peace treaty</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at didn’t work they could cut the land half and half, chose their own side and stop bugging each other</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 whoever does the highest bid for the land gets it. It only seems fair to pay for what you want, especially when its something so importa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52:16Z</dcterms:created>
  <dc:creator>cfisd</dc:creator>
  <dc:description/>
  <dc:language>en-US</dc:language>
  <cp:lastModifiedBy>David</cp:lastModifiedBy>
  <dcterms:modified xsi:type="dcterms:W3CDTF">2009-02-27T06:23:11Z</dcterms:modified>
  <cp:revision>8</cp:revision>
  <dc:subject/>
  <dc:title>Israeli-Palestinian Conflict</dc:title>
</cp:coreProperties>
</file>